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5A69-C796-41E3-BE6C-98A775C3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9161-EC35-4CCD-A8C0-632EE51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2478-9B84-41C1-B5E7-CAE81227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C245-0085-4154-94A8-C521A0D9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7CE-53AF-4233-AB2A-70CD1AC4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E4B9-8095-44CD-AB52-F9A4B30D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C9E6-5400-4105-AD94-4A05BDFC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38D0-70F1-4E7E-9110-E0358EA2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F9A-ED98-4CD9-960A-0262EE7D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49C7-5EB5-4781-A204-19A0287C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1FDE-8D2B-4AEE-AB31-DB8AB36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DBE1-D5F7-4A89-B5E4-C1D325BA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C4FE-9393-40F9-8552-BF1859F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F79-17AA-4534-B924-FB45C9D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5FC6-C9ED-467F-9C61-2FCD1643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B798-9F1C-4D1D-97BC-2D82E911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BC0C-573C-4121-8F2C-3AE4E8AB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22F4-30A4-40CC-908D-06C92BC8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BA79-795E-4DD8-BA01-F87EFA74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8C6E-4EC6-4BD4-91F1-732F6A58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A459-D982-4444-A07D-994881B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6145-7703-4F22-9596-73228A1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A079-E74D-4D97-B1AD-54183FB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4A6A-0DB7-47B4-918C-F91D794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5B4E-062A-48EC-BCF8-F0C85B575231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DFD2-A418-414B-9382-71945263735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B470-045E-47F7-A7A9-144CF5611704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26A-4B52-43C2-959D-E9CB79C182AD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75e47"/>
                </a:solidFill>
                <a:latin typeface="Calibri"/>
              </a:rPr>
              <a:t>Péče o zaměstnance</a:t>
            </a:r>
            <a:endParaRPr b="0" lang="en-US" sz="54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Listopad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90688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Věra Nováková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éče o zaměstnan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učivo z oblasti personalistiky, týkající se péče, rozmísťování, evidence zaměstnanců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ze využít k probírání nového učiva i opakování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/2 Inovace a zkvalitnění výuky směřující k rozvoji odborných kompetencí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nomika, marketing a managemen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2_1_S2_0906_D4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Rozmísťování, hodnocení a evidence zaměstnanců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ři rozmisťování pracovníků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je třeba přihlížet k současným i budoucím potřebám podniku,  je třeba pracovníka zaučit, připravit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růběžně provádět hodnocení pracovníka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Evidence zaměstnanců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osobní evidence (osobní spis s osobní kartou),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mzdová evidence (mzdový list, evidenční list důchodového pojištění);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městnavatel je povinen zajistit ochranu osobních údajů zaměstnanců před neoprávněným přístupem nepovolaných osob, před jejich zneužitím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éče o zaměstnan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Oblast péče o zaměstnance je velmi široká. Jde o péči, která vyplývá z příslušných zákonů a péči dobrovolnou.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Rozsah a úroveň závisí na možnostech a zájmů zaměstnavatelů.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atří zde např.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kytování dovolené na zotavenou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jištění bezpečnosti a ochrany zdraví při práci (BOZP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éče o kvalifikaci zaměstnanců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éče o sociální potřeby zaměstnanců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éče o zaměstnan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Dovolená na zotavenou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ákonná výměra dovolené za kalendářní rok = 4 týdny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u příspěvkových a rozpočtových organizací 5 týdnů, 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u pedagogických pracovníků 8 týdnů; 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podnik může tuto dovolenou prodloužit o další týdny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dodatková dovolenou - max. 1 týden (práce v těžkých pracovních podmínkách), a další dovolenou - max. 1 týden (práce závisí na povětrnostních vlivech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čerpání dovolené určuje zaměstnavatel v plánu dovolených;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dovolená by měla být vyčerpána do konce kalendářního roku;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evyčerpaná dovolená se vyplácí pouze ve výjimečných případech (např. ukončení pracovního poměru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éče o zaměstnan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Zajištění bezpečnosti a ochrany zdraví při práci (BOZP)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acovní prostředí musí vyhovovat příslušným normám z hlediska hygieny a zdravotně bezpečné práce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avidelná zdravotní preventivní péče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mezení vzniku pracovních úrazů - zahrnuje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seznamování zaměstnanců s pravidly bezpečné práce, 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vybavování ochrannými pomůckami, 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zajištění pomoci a ošetření zaměstnanců, kteří utrpěli pracovní úraz,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odškodněni pracovních úrazů, 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zkoumání a odstraňování příčin 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úhrada zákonného úrazového pojištění zaměstnanců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éče o zaměstnanc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éče o kvalifikaci zaměstnanců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hlubování kvalifikace, např. formou školení, přednáškami, kurzy, četbou odborných časopisů, …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vyšování kvalifikace (získání nové nebo rozšiřování) studiem v pracovní době - zaměstnavatel může poskytovat pracovní úlevy a hmotné zabezpečení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měna kvalifikace – rekvalifikace zaměstnanců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éče o sociální potřeby zaměstnanců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Umožnění stravování zaměstnanců ve všech směnách,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kytování příspěvků na kulturní, sportovní, společenské akce, …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skytování příspěvků na zájezdy, rekreace, …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ontrolní otázk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54200" indent="-343080">
              <a:spcBef>
                <a:spcPts val="451"/>
              </a:spcBef>
              <a:buClr>
                <a:srgbClr val="9cbeb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Která oblast do péče o zaměstnance nepatří: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3" marL="1393920" indent="-343080">
              <a:spcBef>
                <a:spcPts val="349"/>
              </a:spcBef>
              <a:buClr>
                <a:srgbClr val="95a39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poskytování dovolené na zotavenou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3" marL="1393920" indent="-343080">
              <a:spcBef>
                <a:spcPts val="349"/>
              </a:spcBef>
              <a:buClr>
                <a:srgbClr val="95a39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přijímání zaměstnanců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3" marL="1393920" indent="-343080">
              <a:spcBef>
                <a:spcPts val="349"/>
              </a:spcBef>
              <a:buClr>
                <a:srgbClr val="95a39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zajištění bezpečnosti a ochrany zdraví při práci (BOZP)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3" marL="1393920" indent="-343080">
              <a:spcBef>
                <a:spcPts val="349"/>
              </a:spcBef>
              <a:buClr>
                <a:srgbClr val="95a39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péče o kvalifikaci zaměstnanců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3" marL="1393920" indent="-343080">
              <a:spcBef>
                <a:spcPts val="349"/>
              </a:spcBef>
              <a:buClr>
                <a:srgbClr val="95a39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výběr zaměstnanců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3" marL="1393920" indent="-343080">
              <a:spcBef>
                <a:spcPts val="349"/>
              </a:spcBef>
              <a:buClr>
                <a:srgbClr val="95a39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péče o sociální potřeby zaměstnanců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buClr>
                <a:srgbClr val="9cbeb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a kolik dnů dovolené mají zaměstnanci nárok za rok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buClr>
                <a:srgbClr val="9cbeb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Lze zaměstnanci proplatit nevyčerpanou dovolenou; v jakém případě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buClr>
                <a:srgbClr val="9cbeb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Co zahrnuje péče o kvalifikaci zaměstnanců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buClr>
                <a:srgbClr val="9cbeb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Uveďte příklady péče o sociální potřeby zaměstnanců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buClr>
                <a:srgbClr val="9cbeb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Do které části péče o zaměstnance patří: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3" marL="1393920" indent="-343080">
              <a:spcBef>
                <a:spcPts val="349"/>
              </a:spcBef>
              <a:buClr>
                <a:srgbClr val="95a39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pravidelná preventivní zdravotní péče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3" marL="1393920" indent="-343080">
              <a:spcBef>
                <a:spcPts val="349"/>
              </a:spcBef>
              <a:buClr>
                <a:srgbClr val="95a39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úhrada zákonného úrazového pojištění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3" marL="1393920" indent="-343080">
              <a:spcBef>
                <a:spcPts val="349"/>
              </a:spcBef>
              <a:buClr>
                <a:srgbClr val="95a39d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f2b20"/>
                </a:solidFill>
                <a:latin typeface="Cambria"/>
              </a:rPr>
              <a:t>rekvalifikace zaměstnanců</a:t>
            </a: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buClr>
                <a:srgbClr val="9cbeb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754200" indent="-34308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7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Ekonomika pro obchodní akademie a ostatní střední školy, nakladatelství EDUKO 2010, Petr Klínský, Otto Münch      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  EKONOMIKA pro střední školy a podnikatele, Ing. Dagmar Preislerová, MC nakladatelství, Brno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EKONOMIE stručný přehled, Jena Švarcová a kolektiv, CEED Zlín 2004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Ing. Věra Nováková</cp:lastModifiedBy>
  <dcterms:modified xsi:type="dcterms:W3CDTF">2014-09-14T20:56:55Z</dcterms:modified>
  <cp:revision>103</cp:revision>
  <dc:subject/>
  <dc:title>Název</dc:title>
</cp:coreProperties>
</file>