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5202-6C20-46C3-958C-40CBD910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E18D-8559-45B1-8B88-6B0FE24F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B955-7847-4047-BD80-D48C1A79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5002-A458-4046-99C0-ED96657E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A0E2-6605-49D0-8521-076EE3BA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FE5C-3562-4B84-BBD8-ABBB787A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4FC3-F5AF-4946-80E6-E669F760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4C89-986E-4E7B-A6D9-D4D8B106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0B10-B440-4012-A205-93DBDDB9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3CF7-B490-4EA0-AA96-09B693D4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76B6-8AAE-497A-99FC-4A09431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04C5-DE81-4BD7-9970-5AC76CD4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6E1E-91EF-40A6-A78B-C9C557F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C599-34A6-40D5-B992-C55D8F45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0C92-DDFB-46B1-9A06-74FF3AC7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361A-A9D3-43CD-8DE1-6A7C3688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AFBE-CF46-4F90-B490-A32AF1D9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C8C7-E1AF-4304-A6B9-16BEDBCA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F4D0-54F7-4A04-B24F-364080C2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EEE7-38B5-4831-9635-8AEC1F6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9BBA-0AB2-4B09-94B6-FCC34E17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CB93-1290-48B3-BEC1-DA39A5B0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43B1-7923-4455-8B66-B9EA22E0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4EB0-C186-452A-AF71-15A75719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8EC-FC95-4068-B917-21BD6E3BFB30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1914-1D2E-4183-9464-83A2A3FE7A96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F03B-1E83-4999-ACFD-B70FE824486E}" type="datetime"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Times New Roman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225-574A-40D4-80E9-80D92C61594E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75e47"/>
                </a:solidFill>
                <a:latin typeface="Calibri"/>
              </a:rPr>
              <a:t>Personalistika</a:t>
            </a:r>
            <a:endParaRPr b="0" lang="en-US" sz="54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Listopad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8000" y="987480"/>
          <a:ext cx="8856720" cy="5906880"/>
        </p:xfrm>
        <a:graphic>
          <a:graphicData uri="http://schemas.openxmlformats.org/drawingml/2006/table">
            <a:tbl>
              <a:tblPr/>
              <a:tblGrid>
                <a:gridCol w="2724120"/>
                <a:gridCol w="613260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g. Věra Nováková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sonalistika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.5.00/34.0906     EU peníze SŠPřZe Nový Jičín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M obsahuje stručný zápis učiva – úvod do problematiky personalistiky,  členění zaměstnanců, personální činnosti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ze využít k probírání a procvičování nového učiva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1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6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;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9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/2 Inovace a zkvalitnění výuky směřující k rozvoji odborných kompetencí žáků středních škol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nomika, marketing a managemen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2_1_S2_0906_D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Charakteristika zaměstnanců</a:t>
            </a: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	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Člověk je nositelem pracovní síly, pracovních schopností. Je nositelem fyzických a duševních schopností, vymýšlí stroje, nástroje, vyrábí je a používá, aby získal co největší množství statků a služeb k uspokojení svých potřeb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Pokud lidé pracují u zaměstnavatelů, vykonávají tzv. závislou pracovní činnost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Za vykonanou práci získávají  od zaměstnavatelů mzdu (plat)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Vztahy zaměstnavatelů a zaměstnanců = pracovněprávní vztahy,  jsou upraveny řadou zákonů  - nejdůležitější je zákoník práce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564000" y="64674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Calibri"/>
              </a:rPr>
              <a:t>Zdroje: </a:t>
            </a:r>
            <a:r>
              <a:rPr b="0" lang="en-US" sz="1200" spc="-1" strike="noStrike">
                <a:solidFill>
                  <a:srgbClr val="2f2b20"/>
                </a:solidFill>
                <a:latin typeface="Calibri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2f2b20"/>
                </a:solidFill>
                <a:latin typeface="Calibri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2f2b20"/>
                </a:solidFill>
                <a:latin typeface="Calibri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2f2b20"/>
                </a:solidFill>
                <a:latin typeface="Calibri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Členění zaměstnanců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Zaměstnance podniku můžeme členit z více hledisek: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Podle vykonávané činnosti: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dělníci  - převažuje fyzická práce pomocí strojů, nástrojů, zařízení; např. zedníci, tesaři, pekaři,…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rovozní a obsluhující pracovníci  - vykonávají činnost ve skladování, dopravě, službách, obchodě; např. řidiči, skladníci, prodavači, recepční, …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technickohospodářští pracovníci - převažuje duševní a tvůrčí činnost; např. učitel, konstruktér, architekt, účetní, mistr,…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f2b20"/>
                </a:solidFill>
                <a:latin typeface="Cambria"/>
              </a:rPr>
              <a:t>Podle postavení v hierarchické struktuře podniku: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řídící pracovníci - vrcholový management, střední management, nejnižší management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výkonní pracovníci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ersonální činnosti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Jsou činnosti tykající se celé oblasti pracovně právních vztahů;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Zabývají se jimi personalisté (personální oddělení) ve spolupráci s ostatními vedoucími pracovníky. Jejich cílem je zajistit, aby podnik měl potřebný počet zaměstnanců odpovídající kvalifikace, kteří by dobře pracovali.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Mezi personální činnosti patří: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lánování počtu zaměstnanců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získávání zaměstnanců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výběr zaměstnanců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uzavření pracovního poměru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rozmisťování a hodnocení zaměstnanců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éče o zaměstnance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propouštění zaměstnanců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Cambria"/>
              </a:rPr>
              <a:t>evidence zaměstnanců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lnSpc>
                <a:spcPct val="100000"/>
              </a:lnSpc>
              <a:spcBef>
                <a:spcPts val="4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Kontrolní otázky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Jak označujeme vztahy mezi zaměstnanci a zaměstnavatelem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veďte zákon, který upravuje pracovně právní vztahy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Definujte závislou pracovní činnost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Které oddělení v podniku zajišťuje potřebný počet zaměstnanců.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Svářeč, řidič, skladník, instalatér, kuchař, pokladní,  sekretářka, ředitel,  personální manažer, auditor, programátor, hlavní účetní.</a:t>
            </a:r>
            <a:br>
              <a:rPr sz="2200"/>
            </a:br>
            <a:r>
              <a:rPr b="0" lang="cs-CZ" sz="2200" spc="-1" strike="noStrike">
                <a:solidFill>
                  <a:srgbClr val="2f2b20"/>
                </a:solidFill>
                <a:latin typeface="Cambria"/>
              </a:rPr>
              <a:t>U uvedených profesí určete, do které skupiny patří: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dle vykonávané činnosti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mbr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f2b20"/>
                </a:solidFill>
                <a:latin typeface="Cambria"/>
              </a:rPr>
              <a:t>podle postavení v hierarchii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4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Ekonomika pro obchodní akademie a ostatní střední školy, nakladatelství EDUKO 2010, Petr Klínský, Otto Münch      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[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2f2b20"/>
                </a:solidFill>
                <a:latin typeface="Arial"/>
              </a:rPr>
              <a:t>]</a:t>
            </a: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   EKONOMIKA pro střední školy a podnikatele, Ing. Dagmar Preislerová, MC nakladatelství, Brno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EKONOMIE stručný přehled, Jena Švarcová a kolektiv, CEED Zlín 2004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f2b20"/>
                </a:solidFill>
                <a:latin typeface="Arial"/>
              </a:rPr>
              <a:t>Vlastní tvorb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Ing. Věra Nováková</cp:lastModifiedBy>
  <dcterms:modified xsi:type="dcterms:W3CDTF">2014-09-14T20:57:38Z</dcterms:modified>
  <cp:revision>90</cp:revision>
  <dc:subject/>
  <dc:title>Název</dc:title>
</cp:coreProperties>
</file>