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E9ED-BF24-43FF-9977-47FBF1D1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05F4-4109-4FFA-806C-A9274DF5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48B2-34CA-42E5-817C-963543A8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B1DD-DB64-473D-BCA0-5E88141F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E7B2-49DB-4242-9534-D3BF0C80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146-90F3-4635-8CCC-865702E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29C3-9CA3-46D2-B5DD-8F07809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2DA-6083-4E58-92CF-78A55A00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988-62E4-45EC-94D0-E8E7288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2CA-52BC-43C5-AA71-FA315F1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8C24-E9E9-464F-B8B6-F039A27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3D13-2B12-4FC7-987B-18F4DE4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9C69-D738-4E71-A837-0BD3D6C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03F-B79B-499C-9CBC-853B2B1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6AD9-4BD5-4462-8DC8-D5F1A128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5936-3344-4C2B-B456-638D801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4E2-E451-4624-B69B-3537743F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4E6B-3E32-421A-902B-4FD9A1A1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A3B-1B20-41EE-B80C-F1C5961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12EE-0856-48A0-9B65-68572CE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AF99-E971-4F6D-A8FA-EF4AA0A0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4990-8421-48EE-8037-8DB8DF1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B37B-DA41-4EB1-8962-0F14F58D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409B-2666-4048-ADD8-2DB19E1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ACF-B4F5-48F8-822D-89BFFB0033D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4FB8-714D-4218-BBC7-21B134B2CF51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8B3-D688-42D4-BD3D-B4D3A767A2D3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2E0-88A8-4E71-A0C2-F04BEA9EF92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Formy mezd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Prosinec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9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http://www.mpsv.cz/cs/1158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y mezd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, týkající se odměňování zaměstnanců, zaměřené na vysvětlení různých forem mezd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nového učiva, opakování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-2 hodiny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7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Úkolová mzd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užívá u snadno měřitelných prací, tam kde je spolehlivá evidence a kontrola množství a jakosti práce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ychází z  normování práce, je stanovena </a:t>
            </a: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norma výkonu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, která udává kolik výrobků a v jaké kvalitě má být vyrobeno za určitý čas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Typická je u dělníků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např.: tesař, obkládač, stolař,…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Časová mzd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ýše závisí na odpracovaném čase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užívá se u zaměstnanců, kteří nemohou ovlivnit pracovní tempo nebo tam, kde výkon nelze měřit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Řídící, obsluhující pracovníci, administrativní pracovníci – např. řidič, pokladní, mistr, účetní, …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yužívají se 2 způsoby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Měsíční mzda – je stanovena mzda (plat) za měsíc a přepočítává se na skutečně odpracovanou dobu;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Hodinová mzda – je stanovena hodinová sazba, která se násobí počtem odpracovaných hodin za měsíc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dílová a kombinovaná mzd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odílová mzd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e určena pro pracovníky, kde se dá stanovit procento (podíl) z tržeb nebo obratu za dané období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užívá se u obchodních zástupců, ve službách, obchodě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otivuje pracovníky k co nejvyššímu objemu prodeje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Kombinovaná mzd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kombinace úkolové, časové i podílové mz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ýběr formy mzdy závisí na zaměstnavateli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ždy musí dodržet minimální mzdu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hyblivé složky mzd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říplatky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práci přesčas – 25% průměrného hodinového výdělku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práci v sobotu a neděli – 25% pokud se nejedná o práci přesčas, pokud se jedná pak 50%, popř. může místo toho čerpat náhradní volno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práci ve svátek – příplatek 100 %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práci v noci (od 22 do 6 hod) – 20% z průměrného hodinového výdělku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práci ve ztíženém a zdraví škodlivém prostředí – stanoví zaměstnavatel vnitřním předpisem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hyblivé složky mzd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rémie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sou peněžní částky vyplácené za splnění předem stanovených úkolů např. prémie za úspory, kvalitu, za splnění plánovaného množství, za vyřešení úkolu, …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Odměny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sou vypláceny jednorázově za mimořádné pracovní zásluhy např. vykonání práce za nemocného pracovníka, za ochranu majetku a zabránění ztrát, věrnostní odměny,  …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Osobní ohodnocení (příplatek)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á dlouhodobější povahu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yjadřuje kvalitu práce zaměstnance a její výši stanovuje nadřízený pracovník,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Náhrady mzd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Náhrady mzdy přísluší zaměstnanci za dobu nepřítomnosti v práci z těchto důvodů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ekážky v práci na straně zaměstnavatele tj. např. prostoj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ekážky v práci na straně zaměstnance, např. lékařské vyšetření, úmrtí rodinného příslušníka, vlastní svatba, …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moc po dobu prvních 14 dn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ovolená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 svátek, který připadne na pracovní den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ro výpočet náhrad mezd se zpravidla používá průměrný hodinový výdělek (PHV) za minulé kalendářní čtvrtletí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základní formy mezd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, co patří mezi pohyblivé formy mz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Definujte náhradu mz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Rozhodněte, jaká forma mzdy je vhodná v těchto případech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ráce tesaře, který má stanovenou výkonovou normu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ráce účetní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ráce pomocného dělníka na stavbě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ráce číšníka v restauraci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ráce prodavače ve specializované prodejně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ezi jaké formy mzdy patří příplatky; vyjmenujte jaké znáte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pište rozdíl mezi odměnou a osobním příplatkem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6:12Z</dcterms:modified>
  <cp:revision>155</cp:revision>
  <dc:subject/>
  <dc:title>Název</dc:title>
</cp:coreProperties>
</file>