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9E16-391E-4AEA-9FED-9E27E5A2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FB12-787A-4679-9A30-A155F4FE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58FB-D6C2-40DD-9B41-BF67D173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56C4-3E44-4B09-8142-346A28DE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47E8-43A5-4038-9F6A-BC5BE4CE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6E4C-7949-403A-9390-FAD6C834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76DC-EC6B-47EC-AAE5-95B890BF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E910-45A0-472B-B049-115D6EB2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CBB2-DC84-4F05-B55E-AD5AA65A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AC76-E5D4-48B8-84C0-CB09F2B8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8307-EA34-444B-8C6A-BEE76955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304A-A08A-4974-9874-BC8AD805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B718-91A2-4ACC-9690-25936760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7DBE-CDAF-485C-B0DA-3E6A40D4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DC09-57F6-47BA-8C38-2C28E7B1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EF19-AA73-4578-9625-F79B07D0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CEC4-1ADA-49FF-96A5-5598B1FA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D131-E227-42FA-91C0-534D19BC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AC89-647B-4AF3-BCB3-13A6208C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FE4D-7AB3-41C8-9350-25010DE4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1E6C-BBEF-461A-8CF6-75C48AB2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1B53-A74C-43E3-9F8F-7D673573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988E-6041-487C-8F92-A60CBBA4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E350-8ABE-4881-B0EC-21EA1F9E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E9E2-FC82-4EDE-BF0C-9DB63078A318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23D9-E2D2-4E2C-8113-DA47A52214E3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EAC0-74DE-45DA-B64C-9B683DDE91B7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C3E9-2892-480F-AB78-ACD8A0833133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637000"/>
            <a:ext cx="754380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675e47"/>
                </a:solidFill>
                <a:latin typeface="Calibri"/>
              </a:rPr>
              <a:t>Plánování, získávání, výběr zaměstnanců</a:t>
            </a:r>
            <a:endParaRPr b="0" lang="en-US" sz="54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Listopad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90688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Věra Nováková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ánování, získávání, výběr zaměstnanců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učivo, které je zaměřeno na vybrané personální činnosti před uzavřením pracovního poměru.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ze využít k probír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-2 hodiny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/2 Inovace a zkvalitnění výuky směřující k rozvoji odborných kompetencí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nomika, marketing a managemen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2_1_S2_0906_D2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lánování zaměstnanců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libri"/>
              </a:rPr>
              <a:t>Podnik potřebuje určitý počet zaměstnanců určité kvalifikace;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10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libri"/>
              </a:rPr>
              <a:t>Kvalifikací rozumíme odborné znalosti, praktické dovednosti, morální vlastnosti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libri"/>
              </a:rPr>
              <a:t>Při plánování  je potřeba stanovit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očet zaměstnanců potřebných ke splnění plánovaných výkonů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odkladem pro stanovení potřebného počtu pracovníků jsou technicko-hospodářské normy spotřeby práce. Jde o normy výkonové, normy obsluhy, normy pracovních míst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očet zaměstnanců, které bude nutné v plánovaném období přijmout nebo propustit (zjišťuje se porovnáním potřebného a skutečného počtu zaměstnanců)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10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Získávání zaměstnanců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olná pracovní místa je možné obsadit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lastními zaměstnanci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obsazují především důležité funkce, pro jejichž výkon si zaměstnance předem připravoval. V tomto případě obvykle dochází k posunu ve funkcích a na trhu práce se hledá pracovník pro uvolněnou nižší funkci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náborem na trhu práce tj. z volných zdrojů pracovních sil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atří zde absolventi škol, pracovníci přecházející z jedné organizace do druhé apod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ískávání zaměstnanců z volných zdrojů se uskutečňuje náborem, který má různé formy: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inzerce ve sdělovacích prostředcích,  na webových stránkách, na vývěskách, spolupráce s úřady práce,  pracovními agenturami, se školami, osobní kontakty a doporučení, …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Výběr zaměstnanců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Se zájemci o zaměstnání podnik organizuje výběrové řízení, které může mít různou formu a zahrnuje: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poskytnutí informací o pracovním místě, poskytuje zpravidla příslušný vedoucí 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získání informací o pracovníkovi, jeho odborných schopnostech, znalostech a zkušenostech (kvalifikaci) a o osobnostních předpokladech k výkonu práce;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lnSpc>
                <a:spcPct val="90000"/>
              </a:lnSpc>
              <a:spcBef>
                <a:spcPts val="37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cs-CZ" sz="1500" spc="-1" strike="noStrike">
                <a:solidFill>
                  <a:srgbClr val="2f2b20"/>
                </a:solidFill>
                <a:latin typeface="Cambria"/>
              </a:rPr>
              <a:t>informace se získávají při úvodním pohovoru, z předložené dokumentace (životopis, doklady o vzdělání, praxi, výpis z rejstříku trestů, …), dotazy od dřívějších zaměstnavatelů, …</a:t>
            </a:r>
            <a:endParaRPr b="0" lang="en-US" sz="15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ověření schopností a dovedností pracovníka, jeho zdravotního stavu – uskutečňuje se odbornou zkouškou, ověřením psychických předpokladů, lékařskou prohlídkou, …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f2b20"/>
                </a:solidFill>
                <a:latin typeface="Cambria"/>
              </a:rPr>
              <a:t>výběr nejvhodnějšího pracovníka, odmítnutí ostatních uchazečů</a:t>
            </a: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Rozsah a forma výběrového řízení závisí na důležitosti pracovního místa, pro které se uchazeči vybírají. 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f2b20"/>
                </a:solidFill>
                <a:latin typeface="Cambria"/>
              </a:rPr>
              <a:t>Cílem je přijmout do pracovního poměru nejlepšího ze zájemců, který splňuje požadované předpoklady. 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9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Kontrolní otázk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libri"/>
              </a:rPr>
              <a:t>Uveďte, co je podkladem pro stanovení potřebného počtu zaměstnanců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libri"/>
              </a:rPr>
              <a:t>Kým mohou obsadit zaměstnavatelé volná pracovní místa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libri"/>
              </a:rPr>
              <a:t>Uveďte příklady volných zdrojů pracovních sil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libri"/>
              </a:rPr>
              <a:t>Výběrové řízení zahrnuje tyto činnosti (vyberte správné a doplňte chybějící činnosti)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lnSpc>
                <a:spcPct val="100000"/>
              </a:lnSpc>
              <a:spcBef>
                <a:spcPts val="400"/>
              </a:spcBef>
              <a:buClr>
                <a:srgbClr val="d2cb6c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libri"/>
              </a:rPr>
              <a:t>Poskytnutí informací o pracovním místě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lnSpc>
                <a:spcPct val="100000"/>
              </a:lnSpc>
              <a:spcBef>
                <a:spcPts val="400"/>
              </a:spcBef>
              <a:buClr>
                <a:srgbClr val="d2cb6c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libri"/>
              </a:rPr>
              <a:t>Inzerce  ve sdělovacích prostředcích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spcBef>
                <a:spcPts val="400"/>
              </a:spcBef>
              <a:buClr>
                <a:srgbClr val="d2cb6c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mbria"/>
              </a:rPr>
              <a:t>Získání informací o pracovníkovi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lnSpc>
                <a:spcPct val="100000"/>
              </a:lnSpc>
              <a:spcBef>
                <a:spcPts val="400"/>
              </a:spcBef>
              <a:buClr>
                <a:srgbClr val="d2cb6c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libri"/>
              </a:rPr>
              <a:t>Sepsání pracovní smlouvy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lvl="2" marL="1119240" indent="-343080">
              <a:lnSpc>
                <a:spcPct val="100000"/>
              </a:lnSpc>
              <a:spcBef>
                <a:spcPts val="400"/>
              </a:spcBef>
              <a:buClr>
                <a:srgbClr val="d2cb6c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Calibri"/>
              </a:rPr>
              <a:t>Ověření schopnosti a dovednosti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10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Ekonomika pro obchodní akademie a ostatní střední školy, nakladatelství EDUKO 2010, Petr Klínský, Otto Münch      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  EKONOMIKA pro střední školy a podnikatele, Ing. Dagmar Preislerová, MC nakladatelství, Brno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EKONOMIE stručný přehled, Jena Švarcová a kolektiv, CEED Zlín 2004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Ing. Věra Nováková</cp:lastModifiedBy>
  <dcterms:modified xsi:type="dcterms:W3CDTF">2014-09-14T20:57:23Z</dcterms:modified>
  <cp:revision>89</cp:revision>
  <dc:subject/>
  <dc:title>Název</dc:title>
</cp:coreProperties>
</file>