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7B99-B6AF-499E-B89A-711CA6C5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6EB0-90D1-4E42-9D89-986A2B6E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AB97-A3E9-4EA5-923B-E4E0508E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A82E-753A-48D6-B512-D756BB71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48C9-87CA-4E43-AF04-00CF3415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B4D4-D235-4876-9B7C-05F38918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D9ED-837F-4866-B65F-81D83673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DB5D-F669-4F79-A535-563DBD97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E04C-01FB-4519-ABC8-A80D4FE4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3113-52E3-41D2-9812-E01B6E9F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4C78-E0AD-46BC-9A16-CF352E6C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2ED2-F675-4155-9614-0117FD3A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6170-9332-4FD0-AD0E-45DFB34B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678E-F19B-4859-AC64-73DDCE9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ED0D-4910-41D7-AD8D-6B646E52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E986-3F4E-46DA-9960-AC41D7D0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D11F-CCDD-4367-A1C4-897B941C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22ED-9FEE-4AFB-A449-885CB874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39B8-5FEF-4812-BFF5-010C923D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CED4-440C-47B9-A469-F75366DB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9A26-B96A-4EDE-9546-861D586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E98B-B910-4071-AB3E-525E0D82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66B5-D2EE-4B15-8FF5-7C69E7A9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607B-0F87-4F0F-8DE0-03F1376C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831F-5E80-4CAE-9F2C-3B8495B8CDD1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6043-3923-4B4C-B555-CA8B6BEDBB90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34C0-75C4-461A-8526-BD4652C2C808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9219-1EF1-442D-B189-DC31FDC9F328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675e47"/>
                </a:solidFill>
                <a:latin typeface="Calibri"/>
              </a:rPr>
              <a:t>Pracovní poměr</a:t>
            </a:r>
            <a:endParaRPr b="0" lang="en-US" sz="54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Listopad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90688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Věra Nováková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acovní poměr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učivo, týkající se uzavření pracovního poměru a dohod o práci mimo pracovní poměr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ze využít k probírání i procvičov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-2 hodiny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/2 Inovace a zkvalitnění výuky směřující k rozvoji odborných kompetencí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nomika, marketing a managemen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2_1_S2_0906_D3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racovní poměr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S vybraným uchazečem organizace uzavírá pracovní poměr,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aměstnancem může být občan, který dosáhne věku 15 let a má ukončenou povinnou školní docházku.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Každý zaměstnanec má v průběhu pracovního poměru obecnou zodpovědnost vůči zaměstnavateli za jím způsobené škody.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U některých prací po něm může zaměstnavatel vyžadovat uzavření dohody o hmotné zodpovědnosti – lze u zaměstnanců starších 18 let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Způsoby vzniku pracovního poměru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849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Sepsání pracovní smlouvy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849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olba (v případech stanovených ve zvláštních předpisech - družstva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849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Jmenování (vedoucí zaměstnanci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racovní smlouva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483920"/>
            <a:ext cx="7620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Pracovní smlouva musí  být uzavřena písemně (jeden výtisk pro zaměstnavatele a jeden pro zaměstnance).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Pracovní smlouva musí obsahovat 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(povinné náležitosti PS)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849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2f2b20"/>
                </a:solidFill>
                <a:latin typeface="Cambria"/>
              </a:rPr>
              <a:t>druh práce,</a:t>
            </a:r>
            <a:endParaRPr b="0" lang="en-US" sz="15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849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2f2b20"/>
                </a:solidFill>
                <a:latin typeface="Cambria"/>
              </a:rPr>
              <a:t>místo výkonu práce,</a:t>
            </a:r>
            <a:endParaRPr b="0" lang="en-US" sz="15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849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2f2b20"/>
                </a:solidFill>
                <a:latin typeface="Cambria"/>
              </a:rPr>
              <a:t>datum nástupu do práce,</a:t>
            </a:r>
            <a:endParaRPr b="0" lang="en-US" sz="15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849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Další náležitosti PS 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(nepovinné)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849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2f2b20"/>
                </a:solidFill>
                <a:latin typeface="Cambria"/>
              </a:rPr>
              <a:t>osobní údaje o zaměstnanci,</a:t>
            </a:r>
            <a:endParaRPr b="0" lang="en-US" sz="15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zkušební doba, pokud není ve smlouvě písemně sjednaná, neplatí; maximální délka zkušební doby je tři měsíce,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sjednání na dobu určitou či neurčitou (trvalý pracovní poměr), není-li toto ujednání ve smlouvě obsaženo, jedná se automaticky o pracovní smlouvu na dobu neurčitou;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úvazek,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nárok na délku dovolené,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údaje o mzdě a způsobu odměňování, 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možnosti zvyšování kvalifikace, …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80000"/>
              </a:lnSpc>
              <a:spcBef>
                <a:spcPts val="425"/>
              </a:spcBef>
              <a:buClr>
                <a:srgbClr val="849a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Změny pracovního poměru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Sjednaný rozsah pracovního poměru lze změnit vždy, pokud se zaměstnanec a zaměstnavatel dohodnou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Další možnosti změny PP: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řevedení na jinou práci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aměstnavatel MUSÍ převést na jinou práci v případě ochrany před infekci, z rozhodnutí soudu, ze zdravotních důvodů, těhotnou ženu (pokud koná prácí nevhodnou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aměstnavatel MŮŽE převést zaměstnance na jinou práci, jestliže pozbyl předpoklady k výkonu práce, nebo bylo proti zaměstnanci zahájeno trestní stíhání související s vykonávanou práci, nebo dal-li zaměstnanci výpověď pro soustavné porušování pracovní kázně,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aměstnavatel  převede zaměstnance na nezbytně nutnou dobu i bez jeho souhlasu pokud je to nutné k odvrácení živelné katastrofy, nehody …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Dohody mimo pracovní poměr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Dohoda o provedení práce (DPP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může být uzavřena na maximální rozsah 300 hodin ročně u jednoho zaměstnavatele,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může být uzavřena písemně,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nevzniká povinnost platit sociální a zdravotní pojištění do 10 tis. Kč,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je povinnost uhradit daň z příjmu,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je vhodná pro krátkodobé práce, …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f2b20"/>
                </a:solidFill>
                <a:latin typeface="Cambria"/>
              </a:rPr>
              <a:t>Dohoda o pracovní činnosti (DPČ)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sjednává se na práci, která nesmí svým rozsahem převýšit v průměru polovinu stanovené týdenní pracovní doby,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musí být uzavřena písemně,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vzniká povinnost hradit sociální a zdravotní pojištění, daň z příjmu, …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může vzniknout nárok na dovolenou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racovní doba a doba odpočinku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Pracovní doba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	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 40 hodin týdně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ružná pracovní doba – kombinace dvou úseků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ákladní pracovní doba – určí zaměstnavatel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olitelná pracovní doba určí si zaměstnanec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Pracovní pohotovost </a:t>
            </a: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– zaměstnanec je připraven nastoupit neprodleně do práce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Práce přesčas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áce konaná na příkaz zaměstnavatele (nebo s jeho souhlasem) nad stanovenou týdenní pracovní dobu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max. 8 hodin týdně a 150 hodin ročně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f2b20"/>
                </a:solidFill>
                <a:latin typeface="Cambria"/>
              </a:rPr>
              <a:t>Přestávka v práci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Nejdéle po 6 hodinách práce (ne na začátku a konci směny) – 30 minut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Nezapočítává se do odpracované doby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Kontrolní otázk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Uveďte způsoby vzniku pracovního poměru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Uveďte povinné náležitosti pracovní smlouvy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Uveďte zda se jedná o DPP nebo DPČ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2" marL="1233360" indent="-45720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Maximální rozsah práce 300 hodin ročně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233360" indent="-45720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Maximální rozsah práce polovina týdenní pracovní doby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233360" indent="-45720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Do 10 tis. Kč nevzniká povinnost platit S a ZP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233360" indent="-45720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Může vzniknout nárok na dovolenou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233360" indent="-45720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Je vhodná pro jednorázové, krátké výpomoci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233360" indent="-45720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Kolik hodin činí týdenní pracovní doba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Jedná se o práci přesčas, když zaměstnanec s úvazkem 30 hodin týdně, odpracuje 10 hodin navíc (odpověď zdůvodněte)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Jedná se o práci přesčas, když zaměstnanec s úvazkem 40 hodin týdně odpracuje 2 hodiny navíc,  bez vědomí zaměstnavatele (odpověď zdůvodněte)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7" name="Zástupný symbol pro obsah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Ekonomika pro obchodní akademie a ostatní střední školy, nakladatelství EDUKO 2010, Petr Klínský, Otto Münch      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  EKONOMIKA pro střední školy a podnikatele, Ing. Dagmar Preislerová, MC nakladatelství, Brno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EKONOMIE stručný přehled, Jena Švarcová a kolektiv, CEED Zlín 2004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Ing. Věra Nováková</cp:lastModifiedBy>
  <dcterms:modified xsi:type="dcterms:W3CDTF">2014-09-14T20:57:08Z</dcterms:modified>
  <cp:revision>103</cp:revision>
  <dc:subject/>
  <dc:title>Název</dc:title>
</cp:coreProperties>
</file>