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03528-9F63-4A05-A503-0FCF5D75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5DEE-EF0C-41B5-861B-EC1B526B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EF4C-1755-4053-BEF3-870758E7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B2A7-F85B-4FB3-9A6B-9990A0AA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9E3F-69EE-40EA-AB2F-F73F4A56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EB61-9CDF-4BF7-AEA2-B270601B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919A-C04D-4260-A99D-947F1C4D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6464-D71D-4D3D-9FBF-5FA3060C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5FA1-5F3E-4AEF-922A-229E6617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BB90-E81C-430C-B8AD-715E0401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CC69-7760-4E6C-AC95-6F1CABDB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5097-B48C-4E61-922B-5F1AB250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E6E7-8C14-4063-8FE1-C781088D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4870-32C3-41BC-8D41-6A575F43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0CA4-DDED-4095-9965-57D65FE3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7338-770C-4853-974D-17C1D8E2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8908-129D-4BE1-901D-AB157DDE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2104-80F1-4452-B06B-AAF3D94E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74B2-0BCA-406A-B628-9063FC4E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A101-1094-407D-8F1A-769FB99A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E171-26E9-43F5-B17A-2D7154E3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1235-1AEE-4938-9AD2-F315E9F7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1AE5-32A1-46F3-B30C-987BCFC5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45F2-3BE0-48B4-81BB-2B743610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DE42-CDC1-4A93-8F96-553A1AE62260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E569-F737-4CAF-858F-36A4696B958E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7DC2-47A3-4390-BBD2-D26BCB815926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7FEB-94A1-46E7-8A8A-97757A875537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675e47"/>
                </a:solidFill>
                <a:latin typeface="Calibri"/>
              </a:rPr>
              <a:t>Odměňování zaměstnanců</a:t>
            </a:r>
            <a:endParaRPr b="0" lang="en-US" sz="54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Prosinec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90688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Věra Nováková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dměňování zaměstnanců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učivo, týkající se odměňování zaměstnanců, vysvětlení základních pojmů z této oblasti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ze využít k probírání nového učiva, opakování a procvičování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V/2 Inovace a zkvalitnění výuky směřující k rozvoji odborných kompetencí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nomika, marketing a management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52_1_S2_0906_D6</a:t>
                      </a: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Mzda a pl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Za vykonanou práci náleží zaměstnanci mzda, plat nebo odměna z dohody</a:t>
            </a: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Jedná se o odměnu za vykonanou práci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Mzda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je peněžité i nepeněžité plnění (naturální mzda), které poskytuje zaměstnavatel zaměstnanci za práci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Plat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je peněžité plnění poskytované za práci zaměstnanci, jehož zaměstnavatelem jsou: stát, územní samosprávný celek, státní fond, příspěvková organizace, školská právnická osoba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Odměna z dohody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je peněžité plnění poskytované za práci, která byla vykonána na základě dohody o provedení práce nebo o pracovní činnosti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Mzda – základní pojmy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Za stejnou práci přísluší všem zaměstnancům u zaměstnavatele </a:t>
            </a: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stejná mzda</a:t>
            </a: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, plat nebo odměna z dohody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Mzda je splatná po vykonání práce, a to v následujícím kalendářním měsíci.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Zaměstnavatel určí pravidelný termín výplaty, který může být sjednán v kolektivní smlouvě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Rozlišujeme: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nominální mzdu – znamená kolik peněz zaměstnanec obdrží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reálnou mzdu – vyjadřuje koupěschopnost nominální mzdy, tzn. kolik si toho může zaměstnanec koupit za mzdu, kterou obdržel - závisí na cenách statků a služeb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Minimální mzda</a:t>
            </a: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 je nejnižší přípustná výše odměny za práci v pracovněprávním vztahu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Evidence mezd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2f2b20"/>
                </a:solidFill>
                <a:latin typeface="Cambria"/>
              </a:rPr>
              <a:t>mzdový list 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f2b20"/>
                </a:solidFill>
                <a:latin typeface="Cambria"/>
              </a:rPr>
              <a:t>pro každého zaměstnance samostatně</a:t>
            </a:r>
            <a:endParaRPr b="0" lang="en-US" sz="17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f2b20"/>
                </a:solidFill>
                <a:latin typeface="Cambria"/>
              </a:rPr>
              <a:t>podrobné osobní údaje</a:t>
            </a:r>
            <a:endParaRPr b="0" lang="en-US" sz="17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f2b20"/>
                </a:solidFill>
                <a:latin typeface="Cambria"/>
              </a:rPr>
              <a:t>výpočet mzdy každý měsíc a za celý rok</a:t>
            </a:r>
            <a:endParaRPr b="0" lang="en-US" sz="17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2f2b20"/>
                </a:solidFill>
                <a:latin typeface="Cambria"/>
              </a:rPr>
              <a:t>zúčtovací a výplatní listina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f2b20"/>
                </a:solidFill>
                <a:latin typeface="Cambria"/>
              </a:rPr>
              <a:t>souhrnná pro všechny zaměstnance</a:t>
            </a:r>
            <a:endParaRPr b="0" lang="en-US" sz="17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f2b20"/>
                </a:solidFill>
                <a:latin typeface="Cambria"/>
              </a:rPr>
              <a:t>základní osobní údaje (jméno, osobní číslo)</a:t>
            </a:r>
            <a:endParaRPr b="0" lang="en-US" sz="17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f2b20"/>
                </a:solidFill>
                <a:latin typeface="Cambria"/>
              </a:rPr>
              <a:t>výpočet mzdy za příslušný měsíc</a:t>
            </a:r>
            <a:endParaRPr b="0" lang="en-US" sz="17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2f2b20"/>
                </a:solidFill>
                <a:latin typeface="Cambria"/>
              </a:rPr>
              <a:t>evidenci pracovní doby</a:t>
            </a:r>
            <a:r>
              <a:rPr b="0" lang="cs-CZ" sz="1900" spc="-1" strike="noStrike">
                <a:solidFill>
                  <a:srgbClr val="2f2b20"/>
                </a:solidFill>
                <a:latin typeface="Cambria"/>
              </a:rPr>
              <a:t>, přesčasů, pracovní pohotovosti a noční práce – údaje nezbytné pro výpočet mezd.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f2b20"/>
                </a:solidFill>
                <a:latin typeface="Cambria"/>
              </a:rPr>
              <a:t>Výpočet mzdy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f2b20"/>
                </a:solidFill>
                <a:latin typeface="Cambria"/>
              </a:rPr>
              <a:t>za kalendářní měsíc vždy k poslednímu dni v měsíci. </a:t>
            </a:r>
            <a:endParaRPr b="0" lang="en-US" sz="17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Výplata mzdy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8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f2b20"/>
                </a:solidFill>
                <a:latin typeface="Cambria"/>
              </a:rPr>
              <a:t>v polovině následujícího měsíce v hotovosti nebo převodem na účet. 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8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f2b20"/>
                </a:solidFill>
                <a:latin typeface="Cambria"/>
              </a:rPr>
              <a:t>zaměstnanec musí obdržet výplatní lístek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Formy mezd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Základní formy mezd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Úkolová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Časová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dílová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kombinovaná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Pohyblivé složky mezd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říplatky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rémie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Odměny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Osobní ohodnocení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Náhrady mzdy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 určitých případech při nepřítomnosti v práci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Kontrolní otázky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Popište na příkladech, kdy zaměstnanec obdrží mzdu, kdy plat a kdy odměnu z dohody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Jak nazýváme mzdu, která odráží koupěschopnost nominální mzdy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Definujte minimální mzdu a uveďte její současnou výši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Uveďte o jakou evidenci mezd se jedná: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2" marL="1119240" indent="-343080">
              <a:spcBef>
                <a:spcPts val="400"/>
              </a:spcBef>
              <a:buClr>
                <a:srgbClr val="d2cb6c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je souhrnná pro všechny zaměstnance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2" marL="1119240" indent="-343080">
              <a:spcBef>
                <a:spcPts val="400"/>
              </a:spcBef>
              <a:buClr>
                <a:srgbClr val="d2cb6c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obsahuje podrobné osobní údaje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2" marL="1119240" indent="-343080">
              <a:spcBef>
                <a:spcPts val="400"/>
              </a:spcBef>
              <a:buClr>
                <a:srgbClr val="d2cb6c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obsahuje výpočet mzdy za příslušný měsíc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2" marL="1119240" indent="-343080">
              <a:spcBef>
                <a:spcPts val="400"/>
              </a:spcBef>
              <a:buClr>
                <a:srgbClr val="d2cb6c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obsahuje výpočet mzdy každý měsíc a za celý rok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Ke kterému datu se provádí výpočet mezd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Ke kterému datu se provádí výplata mezd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5" name="Zástupný symbol pro obsah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[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]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 Ekonomika pro obchodní akademie a ostatní střední školy, nakladatelství EDUKO 2010, Petr Klínský, Otto Münch      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[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]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   EKONOMIKA pro střední školy a podnikatele, Ing. Dagmar Preislerová, MC nakladatelství, Brno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EKONOMIE stručný přehled, Jena Švarcová a kolektiv, CEED Zlín 2004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http://www.mpsv.cz/cs/11584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Ing. Věra Nováková</cp:lastModifiedBy>
  <dcterms:modified xsi:type="dcterms:W3CDTF">2014-09-14T20:56:29Z</dcterms:modified>
  <cp:revision>153</cp:revision>
  <dc:subject/>
  <dc:title>Název</dc:title>
</cp:coreProperties>
</file>