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0E8A-B3E8-43BC-A1E0-468F046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F23A-7709-412F-88B5-AD0F561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FFD7-96E7-419C-8721-F4D12945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7BE3-6E80-405A-8EBF-05C36CAE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DF72-1994-4741-BB21-11B3354D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003D-7BBE-4E37-A38E-E87859E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F8F-83BB-4CB7-8157-0CFA1F7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13C2-02A5-452C-85FB-B249232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2249-DEDD-4D46-B2B2-14944CAA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874-8537-49FB-93A4-196A2F4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72A1-397C-416F-B4A6-083562B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F648-D47E-4F2A-AD14-8B39E5B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423F-0B93-483B-8F1F-E792818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623C-D54F-494C-9D3E-543367E8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141-7C87-47E0-A176-2763A729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993D-3597-4ED5-9281-6C02D45F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F53F-F2A6-452B-9C4F-A3B1A6D9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5838-D1AE-4EFB-B77A-B3F79D5F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1034-403C-4847-8B51-8FA5400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48F8-F635-4608-B9B3-63579B4E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8FA8-2D0A-45F7-914E-B24D53C8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B0B3-4E3B-4D27-ADBF-0964961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0888-C519-4762-9299-E084E2F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80DD-FA32-41FC-85E5-FE406501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106-14B5-4F36-BEEB-FB9444009D4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FAF-0707-40BE-BD83-5B7B48DBA08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000-46CE-4A23-8A16-E17F2C489B0C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7CB-FCD0-4BB0-AF87-E229A377866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Ukončení pracovního poměru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Prosinec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9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ončení pracovní poměru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 z oblasti personalistiky  zaměřené na způsoby ukončení pracovního poměru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nového učiva, opakování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-2 hodiny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5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Ukončení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racovní poměr může skončit buď z podnětu zaměstnance nebo zaměstnavatele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Možnosti skončení PP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zvázáním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Uplynutím – jedná-li se o PP na dobu určitou (pokud zaměstnanec pracuje i po uplynutí s vědomím zaměstnavatele mění se tento PP na dobu neurčitou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Smrtní zaměstnanc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zvázání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ákoník práce uvádí tyto možnosti </a:t>
            </a: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rozvázání  pracovního poměru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ohoda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pověď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rušení ve zkušební době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kamžité zrušení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Dohod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 </a:t>
            </a: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a zaměstnanec  se dohodnou na rozvázání pracovního poměru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P končí sjednaným dnem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Musí být písemně, důvody se uvádějí, pokud to požaduje zaměstnanec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zvázání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Výpověď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zhodnutí o ukončení pracovního poměru jedním z účastníků bez ohledu na to, zda s tím druhý souhlasí (jednostranný právní akt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musí být dána písemně a doručena druhé straně, jinak je neplatná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pověďní lhůta je 2 měsíce,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dstupné ve výši 3násobků průměrného měsíčního výdělku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pověďní lhůta začíná běžet prvním dnem kalendářního měsíce, který následuje po doručení výpovědi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pověď ze strany zaměstnance může být dána z jakéhokoliv důvodu nebo bez uvedení důvodu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pověď ze strany zaměstnavatele může být dána pouze z důvodu uvedených v zákoníků práce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ákaz výpověd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nci v ochranné lhůtě (pracovně neschopnému na nemocenské, uvolněnému pro výkon veřejné funkce, těhotné ženě, zaměstnankyni trvale pečující o jedno dítě mladší tří let, …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zvázání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Zrušení ve zkušební době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rušit pracovní poměr může zaměstnanec i zaměstnavatel a nemusí uvádět důvody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městnavatel nemůže zrušit v prvních 14ti dnech  pracovní neschopnosti zaměstnance 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ísemné oznámení o zrušení má být doručeno druhému účastníku zpravidla alespoň 3 dny před ukončením PP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nelze použít nebyla-li ve smlouvě sjednaná zkušební doba.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zvázání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Okamžité zrušení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v zákoníku práce jsou přesně stanoveny důvody,  kdy lze tuto formu použít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musí mít písemnou formu a ve stanovené lhůtě musí být rozvázání doručeno 2. straně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městnavatel může okamžitě zrušit pracovní poměr se svým zaměstnancem, pokud porušil pracovní kázeň zvlášť hrubým způsobem, nebo byl-li odsouzen pro úmyslný trestný čin k nepodmíněnému trestu odnětí svobody na dobu delší než 1 rok;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městnanec může okamžitě zrušit PP, pokud nemůže vykonávat práci bez vážného ohrožení zdraví a nebyl převeden do 15 dnů na jinou práci, nebo pokud mu zaměstnavatel nevyplatil mzdu (plat) do 15 od její splatnosti.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vinnosti při skončení PP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vydá odcházejícímu zaměstnanci: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otvrzení o zaměstnání, pracovní posudek, potvrzení o zdanitelných příjmech a sražených zálohách na dani z příjmu.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je povinen: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slat odhlášku zaměstnance zdravotní pojišťovně a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slat evidenční list důchodového pojištění správě sociálního zabezpečení.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možnosti ukončení pracovního poměru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 o jaké rozvázání pracovního poměru se jedná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racovní poměr končí sjednaným dnem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lhůta rozvázání pracovního poměru začíná běžet prvním dnem kalendářního měsíce, který následuje po doručení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Zaměstnavatel může použít tento způsob, pokud zaměstnanec porušil pracovní kázeň zvlášť hrubým způsobem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zrušit pracovní poměr může zaměstnanec i zaměstnavatel a nemusí uvádět důvody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Lhůta rozvázání pracovního poměru činí 2 měsíce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34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99"/>
              </a:spcBef>
              <a:buClr>
                <a:srgbClr val="a9a57c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aké jsou povinnosti zaměstnavatele  při skončení PP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99"/>
              </a:spcBef>
              <a:buClr>
                <a:srgbClr val="a9a57c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ak se změní pracovní poměr na dobu určitou, když zaměstnanec pracuje se souhlasem zaměstnavatele po ukončení tohoto poměru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6:42Z</dcterms:modified>
  <cp:revision>105</cp:revision>
  <dc:subject/>
  <dc:title>Název</dc:title>
</cp:coreProperties>
</file>