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10036-E082-426D-A742-6D7689273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8B7E8-D790-45D3-8346-446983D8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F2ED0-8C8D-4990-982A-093EECF70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B78D6-AC1A-45D8-BEB7-AA1F0C786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57378-2025-49B7-B0AB-64F78A7CD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AC06-3C8C-45A0-B3E7-0903D821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07EE-653E-40EA-9B75-FBD01491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2A1A-27B0-42A6-8DA6-C38516C3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E8AB-C28B-4A21-AFC4-CBBD9116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53FD-4185-4872-A9C0-017E6E59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9A58D-4C71-40E0-A59A-8C0CCC1A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9FC9C-1615-4715-9336-11B11209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8859-9ADB-4E40-AC89-878A262A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E7AD-EF3C-4A32-A10B-58A4555E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EC08-4354-405B-9B82-6806501E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B17C-7770-4DB9-B64E-4E918CB09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C5BA-473E-4723-90CF-88F9799D6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98C02-EC25-493D-B1F5-2E124B85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FA5D8-3CC6-4031-8FEC-5ACC3E67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4CE6D-45C6-4477-9220-4FAE022A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C7C37-1C48-49C1-A730-87F2165E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ED333-FADB-4C5B-A191-42F5EFE6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E0EE1-02CF-4274-84B9-10521B82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E31EF-6244-4F16-8CC3-3EC37D66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21A4-F81D-4ECC-B7F7-0A3484845F1C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594D-FA1C-4440-A1F0-F0259C0158CC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4"/>
          <a:stretch/>
        </p:blipFill>
        <p:spPr>
          <a:xfrm>
            <a:off x="2124000" y="189000"/>
            <a:ext cx="5256360" cy="1044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2F57-422A-4995-9708-8D70423978FE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8714-C5A1-42A3-B7F2-08A5A3CDDD4A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3284280"/>
            <a:ext cx="75438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675e47"/>
                </a:solidFill>
                <a:latin typeface="Calibri"/>
              </a:rPr>
              <a:t>Vlastnosti funkcí</a:t>
            </a:r>
            <a:endParaRPr b="0" lang="en-US" sz="6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0" name="Nadpis 1"/>
          <p:cNvSpPr/>
          <p:nvPr/>
        </p:nvSpPr>
        <p:spPr>
          <a:xfrm>
            <a:off x="684360" y="1273320"/>
            <a:ext cx="7543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Střední škola technická a zemědělská, Nový Jičín, příspěvková organizace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1" name="Nadpis 1"/>
          <p:cNvSpPr/>
          <p:nvPr/>
        </p:nvSpPr>
        <p:spPr>
          <a:xfrm>
            <a:off x="684360" y="5018040"/>
            <a:ext cx="7543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červenec, 2013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Zástupný symbol pro obsah 2"/>
          <p:cNvSpPr/>
          <p:nvPr/>
        </p:nvSpPr>
        <p:spPr>
          <a:xfrm>
            <a:off x="612720" y="404640"/>
            <a:ext cx="3959280" cy="316872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just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Funkce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je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lichá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 jestliže pro libovolné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a (–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 z množiny D(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 jsou funkční hodnoty v těchto bodech opačné.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95400" algn="just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Gra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liché funkce je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středově souměrný podle počátku soustavy souřadnic.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2"/>
              <p:cNvSpPr txBox="1"/>
              <p:nvPr/>
            </p:nvSpPr>
            <p:spPr>
              <a:xfrm>
                <a:off x="684360" y="3860640"/>
                <a:ext cx="41353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: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3" name="Zástupný symbol pro obsah 2"/>
          <p:cNvSpPr/>
          <p:nvPr/>
        </p:nvSpPr>
        <p:spPr>
          <a:xfrm>
            <a:off x="612720" y="4724280"/>
            <a:ext cx="7620120" cy="108108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266400" algn="just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Např. funkce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 =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1" lang="cs-CZ" sz="2200" spc="-1" strike="noStrike" baseline="30000">
                <a:solidFill>
                  <a:srgbClr val="2f2b20"/>
                </a:solidFill>
                <a:latin typeface="Cambria"/>
              </a:rPr>
              <a:t>3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je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lichá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: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361800" indent="-266400" algn="just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(-2) = (-2)</a:t>
            </a:r>
            <a:r>
              <a:rPr b="0" lang="cs-CZ" sz="2200" spc="-1" strike="noStrike" baseline="30000">
                <a:solidFill>
                  <a:srgbClr val="2f2b20"/>
                </a:solidFill>
                <a:latin typeface="Cambria"/>
              </a:rPr>
              <a:t>3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= -8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Arial"/>
              </a:rPr>
              <a:t>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(2) = 2</a:t>
            </a:r>
            <a:r>
              <a:rPr b="0" lang="cs-CZ" sz="2200" spc="-1" strike="noStrike" baseline="30000">
                <a:solidFill>
                  <a:srgbClr val="2f2b20"/>
                </a:solidFill>
                <a:latin typeface="Cambria"/>
              </a:rPr>
              <a:t>3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= 8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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(-2) = -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(2)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4859280" y="549360"/>
            <a:ext cx="32720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Omezená funkc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26" name="Zástupný symbol pro obsah 2"/>
          <p:cNvSpPr/>
          <p:nvPr/>
        </p:nvSpPr>
        <p:spPr>
          <a:xfrm>
            <a:off x="457200" y="1547640"/>
            <a:ext cx="3959280" cy="490572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algn="just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Funkce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se nazývá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zdola omezená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 právě když existuje takové číslo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d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, že pro všechna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D(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 je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(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 ≥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d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177840" algn="just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Funkce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se nazývá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shora omezená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 právě když existuje takové číslo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h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, že pro všechna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D(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 je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(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 ≤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h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177840" algn="just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Funkce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se nazývá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omezená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 právě když je shora i zdola omezená.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177840" algn="just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177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4932360" y="1989000"/>
            <a:ext cx="3271680" cy="30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Extrémy funkc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29" name="Zástupný symbol pro obsah 2"/>
          <p:cNvSpPr/>
          <p:nvPr/>
        </p:nvSpPr>
        <p:spPr>
          <a:xfrm>
            <a:off x="611280" y="1700280"/>
            <a:ext cx="3960720" cy="33843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just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Funkce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je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má v bodě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a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 maximum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 právě když pro všechna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D(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 je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(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 ≤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(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a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.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95400" algn="just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95400" algn="just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Funkce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je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má v bodě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b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 minimum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 právě když pro všechna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D(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 je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(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 ≥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(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b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.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95400" algn="just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4932360" y="1916280"/>
            <a:ext cx="327168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Inverzní funkc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32" name="Zástupný symbol pro obsah 2"/>
          <p:cNvSpPr/>
          <p:nvPr/>
        </p:nvSpPr>
        <p:spPr>
          <a:xfrm>
            <a:off x="612720" y="1655640"/>
            <a:ext cx="7621560" cy="424980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just">
              <a:lnSpc>
                <a:spcPct val="12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Ke každé prosté funkci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: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=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(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 s definičním oborem D(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 a oborem hodnot H(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 existuje právě jedna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funkce inverzní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2200" spc="-1" strike="noStrike" baseline="30000">
                <a:solidFill>
                  <a:srgbClr val="2f2b20"/>
                </a:solidFill>
                <a:latin typeface="Cambria"/>
              </a:rPr>
              <a:t>-1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. Ta je definována: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95400" algn="just">
              <a:lnSpc>
                <a:spcPct val="125000"/>
              </a:lnSpc>
              <a:spcBef>
                <a:spcPts val="524"/>
              </a:spcBef>
              <a:buClr>
                <a:srgbClr val="6d5225"/>
              </a:buClr>
              <a:buFont typeface="Cambr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D(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 = H(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 baseline="30000">
                <a:solidFill>
                  <a:srgbClr val="2f2b20"/>
                </a:solidFill>
                <a:latin typeface="Cambria"/>
              </a:rPr>
              <a:t>-1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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D(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 baseline="30000">
                <a:solidFill>
                  <a:srgbClr val="2f2b20"/>
                </a:solidFill>
                <a:latin typeface="Cambria"/>
              </a:rPr>
              <a:t>-1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 = H(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95400" algn="just">
              <a:lnSpc>
                <a:spcPct val="125000"/>
              </a:lnSpc>
              <a:spcBef>
                <a:spcPts val="524"/>
              </a:spcBef>
              <a:buClr>
                <a:srgbClr val="6d5225"/>
              </a:buClr>
              <a:buFont typeface="Cambr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ke každému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D(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 baseline="30000">
                <a:solidFill>
                  <a:srgbClr val="2f2b20"/>
                </a:solidFill>
                <a:latin typeface="Cambria"/>
              </a:rPr>
              <a:t>-1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 je přiřazeno právě to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D(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, pro které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(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 =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y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95400" algn="just">
              <a:lnSpc>
                <a:spcPct val="12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Grafy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funkcí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 a f</a:t>
            </a:r>
            <a:r>
              <a:rPr b="0" lang="cs-CZ" sz="2200" spc="-1" strike="noStrike" baseline="30000">
                <a:solidFill>
                  <a:srgbClr val="2f2b20"/>
                </a:solidFill>
                <a:latin typeface="Cambria"/>
              </a:rPr>
              <a:t>-1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jsou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osově souměrné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podle osy I. a III. kvadrantu (přímka daná rovnicí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 y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=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.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95400" algn="just">
              <a:lnSpc>
                <a:spcPct val="12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Př.: viz. exponenciální a logaritmická funkce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95400" algn="just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95400" algn="just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3" name="TextovéPole 3"/>
          <p:cNvSpPr/>
          <p:nvPr/>
        </p:nvSpPr>
        <p:spPr>
          <a:xfrm>
            <a:off x="4932360" y="549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Funkce musí být </a:t>
            </a:r>
            <a:r>
              <a:rPr b="1" lang="cs-CZ" sz="1800" spc="-1" strike="noStrike">
                <a:solidFill>
                  <a:srgbClr val="ff0000"/>
                </a:solidFill>
                <a:latin typeface="Cambria"/>
              </a:rPr>
              <a:t>PROSTÁ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, aby k ní existovala funkce inverzní!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eriodická funkc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35" name="Zástupný symbol pro obsah 2"/>
          <p:cNvSpPr/>
          <p:nvPr/>
        </p:nvSpPr>
        <p:spPr>
          <a:xfrm>
            <a:off x="612720" y="1655640"/>
            <a:ext cx="4114800" cy="288144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just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Funkce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je se nazývá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periodická funkce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 právě když existuje takové číslo p &gt; 0, že pro každé k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Z platí: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95400" algn="just">
              <a:lnSpc>
                <a:spcPct val="125000"/>
              </a:lnSpc>
              <a:spcBef>
                <a:spcPts val="550"/>
              </a:spcBef>
              <a:buClr>
                <a:srgbClr val="6d5225"/>
              </a:buClr>
              <a:buFont typeface="Cambr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D(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, pak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(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+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kp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D(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95400" algn="just">
              <a:lnSpc>
                <a:spcPct val="125000"/>
              </a:lnSpc>
              <a:spcBef>
                <a:spcPts val="550"/>
              </a:spcBef>
              <a:buClr>
                <a:srgbClr val="6d5225"/>
              </a:buClr>
              <a:buFont typeface="Cambr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(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+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kp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 =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(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4932360" y="1628640"/>
            <a:ext cx="3271680" cy="30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oužité zdroj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38" name="Zástupný symbol pro obsah 2"/>
          <p:cNvSpPr/>
          <p:nvPr/>
        </p:nvSpPr>
        <p:spPr>
          <a:xfrm>
            <a:off x="457200" y="1481040"/>
            <a:ext cx="7859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[1] Hudcová, M., Kubičíková, L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</a:rPr>
              <a:t>Sbírka úloh z matematiky pro SOŠ, SOU a nástavbové studium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. Prometheus, spol. s.r.o, Praha 2002, dotisk 1. vydání: ISBN -80-7196-165-5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2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 Odvárko, O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</a:rPr>
              <a:t>Matematika pro gymnázia – Funkce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. Prometheus, spol. s.r.o, Praha 2002, 3. upravené vydání: ISBN 80-7196-164-7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08000" y="987480"/>
          <a:ext cx="8856720" cy="5754600"/>
        </p:xfrm>
        <a:graphic>
          <a:graphicData uri="http://schemas.openxmlformats.org/drawingml/2006/table">
            <a:tbl>
              <a:tblPr/>
              <a:tblGrid>
                <a:gridCol w="2724120"/>
                <a:gridCol w="6132600"/>
              </a:tblGrid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tor a téma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g. Lucie Pátková     VLASTNOSTI FUNKCÍ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366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a název projektu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Z.1.07/1.5.00/34.0906     EU peníze SŠPřZe Nový Jičín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7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Anotace, vč. možností využití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DUM obsahuje stručný zápis učiva, grafy, schémata. Lze využít k probírání nového učiva.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41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očet vyučovacích hodin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 hodina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6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rčeno pro obory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Ekologie a biologie; Mechanik strojů a zařízení; Agropodnikání; Podnikání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1490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éma (název) sady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IV/2 Inovace a zkvalitnění výuky směřující k rozvoji matematické gramotnosti žáků středních škol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Funkce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1097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DUM </a:t>
                      </a:r>
                      <a:r>
                        <a:rPr b="0" lang="cs-CZ" sz="12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(šablona_číslo šablony_číslo sady_číslo projektu_číslo DUM)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2_1_S2_0906_D2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  <p:pic>
        <p:nvPicPr>
          <p:cNvPr id="93" name="Picture 22" descr=""/>
          <p:cNvPicPr/>
          <p:nvPr/>
        </p:nvPicPr>
        <p:blipFill>
          <a:blip r:embed="rId1"/>
          <a:stretch/>
        </p:blipFill>
        <p:spPr>
          <a:xfrm>
            <a:off x="179280" y="61920"/>
            <a:ext cx="37450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Vlastnosti funkcí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f2b20"/>
                </a:solidFill>
                <a:latin typeface="Cambria"/>
              </a:rPr>
              <a:t>monotónnost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funkce – rostoucí, klesající, nerostoucí, neklesající </a:t>
            </a:r>
            <a:endParaRPr b="0" lang="en-US" sz="28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f2b20"/>
                </a:solidFill>
                <a:latin typeface="Cambria"/>
              </a:rPr>
              <a:t>prostá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funkce</a:t>
            </a:r>
            <a:endParaRPr b="0" lang="en-US" sz="28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f2b20"/>
                </a:solidFill>
                <a:latin typeface="Cambria"/>
              </a:rPr>
              <a:t>sudá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, </a:t>
            </a:r>
            <a:r>
              <a:rPr b="1" lang="cs-CZ" sz="2800" spc="-1" strike="noStrike">
                <a:solidFill>
                  <a:srgbClr val="2f2b20"/>
                </a:solidFill>
                <a:latin typeface="Cambria"/>
              </a:rPr>
              <a:t>lichá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funkce</a:t>
            </a:r>
            <a:endParaRPr b="0" lang="en-US" sz="28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f2b20"/>
                </a:solidFill>
                <a:latin typeface="Cambria"/>
              </a:rPr>
              <a:t>omezená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funkce</a:t>
            </a:r>
            <a:endParaRPr b="0" lang="en-US" sz="28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f2b20"/>
                </a:solidFill>
                <a:latin typeface="Cambria"/>
              </a:rPr>
              <a:t>extrémy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funkce</a:t>
            </a:r>
            <a:endParaRPr b="0" lang="en-US" sz="28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f2b20"/>
                </a:solidFill>
                <a:latin typeface="Cambria"/>
              </a:rPr>
              <a:t>inverzní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funkce</a:t>
            </a:r>
            <a:endParaRPr b="0" lang="en-US" sz="28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f2b20"/>
                </a:solidFill>
                <a:latin typeface="Cambria"/>
              </a:rPr>
              <a:t>periodická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funkce</a:t>
            </a:r>
            <a:endParaRPr b="0" lang="en-US" sz="28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Monotónnost funkc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11280" y="1655640"/>
            <a:ext cx="3960720" cy="31053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txBody>
          <a:bodyPr anchor="t">
            <a:normAutofit fontScale="93000"/>
          </a:bodyPr>
          <a:p>
            <a:pPr marL="531360" indent="-425160" algn="just">
              <a:lnSpc>
                <a:spcPct val="125000"/>
              </a:lnSpc>
              <a:spcBef>
                <a:spcPts val="550"/>
              </a:spcBef>
              <a:buClr>
                <a:srgbClr val="6d5225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Funkce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se nazývá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rostoucí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 právě když pro všechna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 baseline="-25000">
                <a:solidFill>
                  <a:srgbClr val="2f2b20"/>
                </a:solidFill>
                <a:latin typeface="Cambria"/>
              </a:rPr>
              <a:t>1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 baseline="-25000">
                <a:solidFill>
                  <a:srgbClr val="2f2b20"/>
                </a:solidFill>
                <a:latin typeface="Cambria"/>
              </a:rPr>
              <a:t>2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D(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, pro které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1" lang="cs-CZ" sz="2200" spc="-1" strike="noStrike" baseline="-25000">
                <a:solidFill>
                  <a:srgbClr val="2f2b20"/>
                </a:solidFill>
                <a:latin typeface="Cambria"/>
              </a:rPr>
              <a:t>1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 je menší než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1" lang="cs-CZ" sz="2200" spc="-1" strike="noStrike" baseline="-25000">
                <a:solidFill>
                  <a:srgbClr val="2f2b20"/>
                </a:solidFill>
                <a:latin typeface="Cambria"/>
              </a:rPr>
              <a:t>2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 platí, že funkční hodnota v bodě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 baseline="-25000">
                <a:solidFill>
                  <a:srgbClr val="2f2b20"/>
                </a:solidFill>
                <a:latin typeface="Cambria"/>
              </a:rPr>
              <a:t>1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je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menší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než funkční hodnota v bodě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 baseline="-25000">
                <a:solidFill>
                  <a:srgbClr val="2f2b20"/>
                </a:solidFill>
                <a:latin typeface="Cambria"/>
              </a:rPr>
              <a:t>2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31360" indent="-4251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2"/>
              <p:cNvSpPr txBox="1"/>
              <p:nvPr/>
            </p:nvSpPr>
            <p:spPr>
              <a:xfrm>
                <a:off x="611280" y="5253120"/>
                <a:ext cx="53658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: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4716360" y="1655640"/>
            <a:ext cx="3272040" cy="30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Monotónnost funkc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11280" y="1655280"/>
            <a:ext cx="3960720" cy="303228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txBody>
          <a:bodyPr anchor="t">
            <a:normAutofit fontScale="91000"/>
          </a:bodyPr>
          <a:p>
            <a:pPr marL="520200" indent="-415800" algn="just">
              <a:lnSpc>
                <a:spcPct val="125000"/>
              </a:lnSpc>
              <a:spcBef>
                <a:spcPts val="550"/>
              </a:spcBef>
              <a:buClr>
                <a:srgbClr val="6d5225"/>
              </a:buClr>
              <a:buFont typeface="Cambri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Funkce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se nazývá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klesající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 právě když pro všechna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 baseline="-25000">
                <a:solidFill>
                  <a:srgbClr val="2f2b20"/>
                </a:solidFill>
                <a:latin typeface="Cambria"/>
              </a:rPr>
              <a:t>1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 baseline="-25000">
                <a:solidFill>
                  <a:srgbClr val="2f2b20"/>
                </a:solidFill>
                <a:latin typeface="Cambria"/>
              </a:rPr>
              <a:t>2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D(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, pro které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1" lang="cs-CZ" sz="2200" spc="-1" strike="noStrike" baseline="-25000">
                <a:solidFill>
                  <a:srgbClr val="2f2b20"/>
                </a:solidFill>
                <a:latin typeface="Cambria"/>
              </a:rPr>
              <a:t>1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 je menší než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1" lang="cs-CZ" sz="2200" spc="-1" strike="noStrike" baseline="-25000">
                <a:solidFill>
                  <a:srgbClr val="2f2b20"/>
                </a:solidFill>
                <a:latin typeface="Cambria"/>
              </a:rPr>
              <a:t>2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 platí, že funkční hodnota v bodě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 baseline="-25000">
                <a:solidFill>
                  <a:srgbClr val="2f2b20"/>
                </a:solidFill>
                <a:latin typeface="Cambria"/>
              </a:rPr>
              <a:t>1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je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větší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než funkční hodnota v bodě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 baseline="-25000">
                <a:solidFill>
                  <a:srgbClr val="2f2b20"/>
                </a:solidFill>
                <a:latin typeface="Cambria"/>
              </a:rPr>
              <a:t>2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20200" indent="-415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2"/>
              <p:cNvSpPr txBox="1"/>
              <p:nvPr/>
            </p:nvSpPr>
            <p:spPr>
              <a:xfrm>
                <a:off x="611280" y="5253120"/>
                <a:ext cx="53658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: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gt;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4859280" y="1655640"/>
            <a:ext cx="3272040" cy="30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Monotónnost funkc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11280" y="1655280"/>
            <a:ext cx="3960720" cy="352764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txBody>
          <a:bodyPr anchor="t">
            <a:normAutofit fontScale="94000"/>
          </a:bodyPr>
          <a:p>
            <a:pPr marL="537120" indent="-429480" algn="just">
              <a:lnSpc>
                <a:spcPct val="125000"/>
              </a:lnSpc>
              <a:spcBef>
                <a:spcPts val="550"/>
              </a:spcBef>
              <a:buClr>
                <a:srgbClr val="6d5225"/>
              </a:buClr>
              <a:buFont typeface="Cambri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Funkce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se nazývá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nerostoucí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 právě když pro všechna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 baseline="-25000">
                <a:solidFill>
                  <a:srgbClr val="2f2b20"/>
                </a:solidFill>
                <a:latin typeface="Cambria"/>
              </a:rPr>
              <a:t>1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 baseline="-25000">
                <a:solidFill>
                  <a:srgbClr val="2f2b20"/>
                </a:solidFill>
                <a:latin typeface="Cambria"/>
              </a:rPr>
              <a:t>2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D(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, pro které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1" lang="cs-CZ" sz="2200" spc="-1" strike="noStrike" baseline="-25000">
                <a:solidFill>
                  <a:srgbClr val="2f2b20"/>
                </a:solidFill>
                <a:latin typeface="Cambria"/>
              </a:rPr>
              <a:t>1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 je menší než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1" lang="cs-CZ" sz="2200" spc="-1" strike="noStrike" baseline="-25000">
                <a:solidFill>
                  <a:srgbClr val="2f2b20"/>
                </a:solidFill>
                <a:latin typeface="Cambria"/>
              </a:rPr>
              <a:t>2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 platí, že funkční hodnota v bodě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 baseline="-25000">
                <a:solidFill>
                  <a:srgbClr val="2f2b20"/>
                </a:solidFill>
                <a:latin typeface="Cambria"/>
              </a:rPr>
              <a:t>1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je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větší nebo rovna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než funkční hodnota v bodě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 baseline="-25000">
                <a:solidFill>
                  <a:srgbClr val="2f2b20"/>
                </a:solidFill>
                <a:latin typeface="Cambria"/>
              </a:rPr>
              <a:t>2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37120" indent="-42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2"/>
              <p:cNvSpPr txBox="1"/>
              <p:nvPr/>
            </p:nvSpPr>
            <p:spPr>
              <a:xfrm>
                <a:off x="611280" y="5468760"/>
                <a:ext cx="53658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: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≥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4859280" y="1908000"/>
            <a:ext cx="3272040" cy="30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Monotónnost funkc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11280" y="1655280"/>
            <a:ext cx="3960720" cy="352764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txBody>
          <a:bodyPr anchor="t">
            <a:normAutofit fontScale="94000"/>
          </a:bodyPr>
          <a:p>
            <a:pPr marL="537120" indent="-429480" algn="just">
              <a:lnSpc>
                <a:spcPct val="125000"/>
              </a:lnSpc>
              <a:spcBef>
                <a:spcPts val="550"/>
              </a:spcBef>
              <a:buClr>
                <a:srgbClr val="6d5225"/>
              </a:buClr>
              <a:buFont typeface="Cambria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Funkce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se nazývá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neklesající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 právě když pro všechna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 baseline="-25000">
                <a:solidFill>
                  <a:srgbClr val="2f2b20"/>
                </a:solidFill>
                <a:latin typeface="Cambria"/>
              </a:rPr>
              <a:t>1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 baseline="-25000">
                <a:solidFill>
                  <a:srgbClr val="2f2b20"/>
                </a:solidFill>
                <a:latin typeface="Cambria"/>
              </a:rPr>
              <a:t>2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D(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, pro které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1" lang="cs-CZ" sz="2200" spc="-1" strike="noStrike" baseline="-25000">
                <a:solidFill>
                  <a:srgbClr val="2f2b20"/>
                </a:solidFill>
                <a:latin typeface="Cambria"/>
              </a:rPr>
              <a:t>1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 je menší než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1" lang="cs-CZ" sz="2200" spc="-1" strike="noStrike" baseline="-25000">
                <a:solidFill>
                  <a:srgbClr val="2f2b20"/>
                </a:solidFill>
                <a:latin typeface="Cambria"/>
              </a:rPr>
              <a:t>2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 platí, že funkční hodnota v bodě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 baseline="-25000">
                <a:solidFill>
                  <a:srgbClr val="2f2b20"/>
                </a:solidFill>
                <a:latin typeface="Cambria"/>
              </a:rPr>
              <a:t>1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je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menší nebo rovna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než funkční hodnota v bodě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 baseline="-25000">
                <a:solidFill>
                  <a:srgbClr val="2f2b20"/>
                </a:solidFill>
                <a:latin typeface="Cambria"/>
              </a:rPr>
              <a:t>2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37120" indent="-42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2"/>
              <p:cNvSpPr txBox="1"/>
              <p:nvPr/>
            </p:nvSpPr>
            <p:spPr>
              <a:xfrm>
                <a:off x="611280" y="5468760"/>
                <a:ext cx="53658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: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≤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4859280" y="1844640"/>
            <a:ext cx="3272040" cy="30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rostá funkc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12360" y="1655640"/>
            <a:ext cx="7620120" cy="204480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txBody>
          <a:bodyPr anchor="t">
            <a:normAutofit fontScale="92000"/>
          </a:bodyPr>
          <a:p>
            <a:pPr marL="163440" algn="just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Funkce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se nazývá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prostá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 právě když pro každé dvě různá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 baseline="-25000">
                <a:solidFill>
                  <a:srgbClr val="2f2b20"/>
                </a:solidFill>
                <a:latin typeface="Cambria"/>
              </a:rPr>
              <a:t>1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 baseline="-25000">
                <a:solidFill>
                  <a:srgbClr val="2f2b20"/>
                </a:solidFill>
                <a:latin typeface="Cambria"/>
              </a:rPr>
              <a:t>2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z množiny  D(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 jsou různé i funkční hodnoty v těchto bodech.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163440" algn="just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Tedy každá rostoucí nebo klesající funkce je prostá.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163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2"/>
              <p:cNvSpPr txBox="1"/>
              <p:nvPr/>
            </p:nvSpPr>
            <p:spPr>
              <a:xfrm>
                <a:off x="611280" y="3957480"/>
                <a:ext cx="53658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: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≠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Zástupný symbol pro obsah 2"/>
          <p:cNvSpPr/>
          <p:nvPr/>
        </p:nvSpPr>
        <p:spPr>
          <a:xfrm>
            <a:off x="612720" y="4724280"/>
            <a:ext cx="7620120" cy="108108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algn="just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Např. funkce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 =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1" lang="cs-CZ" sz="2200" spc="-1" strike="noStrike" baseline="30000">
                <a:solidFill>
                  <a:srgbClr val="2f2b20"/>
                </a:solidFill>
                <a:latin typeface="Cambria"/>
              </a:rPr>
              <a:t>2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není prostá, protože: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177840" algn="just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(-2) = (-2)</a:t>
            </a:r>
            <a:r>
              <a:rPr b="0" lang="cs-CZ" sz="2200" spc="-1" strike="noStrike" baseline="30000">
                <a:solidFill>
                  <a:srgbClr val="2f2b20"/>
                </a:solidFill>
                <a:latin typeface="Cambria"/>
              </a:rPr>
              <a:t>2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= 4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(2) = 2</a:t>
            </a:r>
            <a:r>
              <a:rPr b="0" lang="cs-CZ" sz="2200" spc="-1" strike="noStrike" baseline="30000">
                <a:solidFill>
                  <a:srgbClr val="2f2b20"/>
                </a:solidFill>
                <a:latin typeface="Cambria"/>
              </a:rPr>
              <a:t>2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= 4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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(-2) =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(2)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Sudá – lichá funkc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7" name="Zástupný symbol pro obsah 2"/>
          <p:cNvSpPr/>
          <p:nvPr/>
        </p:nvSpPr>
        <p:spPr>
          <a:xfrm>
            <a:off x="611280" y="1655640"/>
            <a:ext cx="3960720" cy="273708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just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Funkce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je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sudá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 jestliže pro libovolné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a (–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 z množiny D(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 jsou funkční hodnoty v těchto bodech shodné.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95400" algn="just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Gra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sudé funkce je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osově souměrný podle osy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2"/>
              <p:cNvSpPr txBox="1"/>
              <p:nvPr/>
            </p:nvSpPr>
            <p:spPr>
              <a:xfrm>
                <a:off x="6156360" y="4797360"/>
                <a:ext cx="206676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  <m:r>
                          <m:t xml:space="preserve">:</m:t>
                        </m:r>
                      </m:e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" name="Zástupný symbol pro obsah 2"/>
          <p:cNvSpPr/>
          <p:nvPr/>
        </p:nvSpPr>
        <p:spPr>
          <a:xfrm>
            <a:off x="611280" y="4941720"/>
            <a:ext cx="4824360" cy="144000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algn="just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Např. funkce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 =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1" lang="cs-CZ" sz="2200" spc="-1" strike="noStrike" baseline="30000">
                <a:solidFill>
                  <a:srgbClr val="2f2b20"/>
                </a:solidFill>
                <a:latin typeface="Cambria"/>
              </a:rPr>
              <a:t>2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 – 1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je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 sudá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: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177840" algn="just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(-2) =  (-2)</a:t>
            </a:r>
            <a:r>
              <a:rPr b="0" lang="cs-CZ" sz="2200" spc="-1" strike="noStrike" baseline="30000">
                <a:solidFill>
                  <a:srgbClr val="2f2b20"/>
                </a:solidFill>
                <a:latin typeface="Cambria"/>
              </a:rPr>
              <a:t>2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– 1 = 3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(2) = 2</a:t>
            </a:r>
            <a:r>
              <a:rPr b="0" lang="cs-CZ" sz="2200" spc="-1" strike="noStrike" baseline="30000">
                <a:solidFill>
                  <a:srgbClr val="2f2b20"/>
                </a:solidFill>
                <a:latin typeface="Cambria"/>
              </a:rPr>
              <a:t>2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– 1 = 3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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(-2) =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(2)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>
            <a:off x="4932360" y="1628640"/>
            <a:ext cx="3271680" cy="30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09:59:30Z</dcterms:created>
  <dc:creator>Ludmila Jiříkova</dc:creator>
  <dc:description/>
  <dc:language>en-US</dc:language>
  <cp:lastModifiedBy>Admin</cp:lastModifiedBy>
  <dcterms:modified xsi:type="dcterms:W3CDTF">2014-02-10T16:17:50Z</dcterms:modified>
  <cp:revision>176</cp:revision>
  <dc:subject/>
  <dc:title>Název</dc:title>
</cp:coreProperties>
</file>