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B5E-D7C2-473A-AD2E-B2B03301A6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E4A-4919-405A-9231-31B83DEBBF26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0BDD-4901-431A-B621-CB1AC96659C1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DD75-351F-40F0-86A6-DDEB905A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456E-97CF-40FB-827F-DB95EE6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7201-40C8-441D-AD03-CE851F7C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D207-4B1D-4C88-917B-E1E07BC3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7DF-1BD1-40B5-A474-4AC46D0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9C39-2D70-41B8-8CF1-7463384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AC92-FFC7-4AE9-895F-82D7A31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62B-8B79-4F34-8089-5E44078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79D-C04A-4887-B326-11BE2D47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2B89-C785-4CE5-9F3A-9F7D749B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20A-E9E6-4199-AA8F-CC42E91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64B4-3CAC-4CA3-82DC-2CA8D9EE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593-8ED7-45BC-9953-70A2204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F77-848E-4D8D-81B6-CCC19F7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0757-1989-48B6-B85D-3A7A58A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92F7-90A1-497D-A5AA-8C0F3988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222-6481-423C-A52D-519C2982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DDE4-4E56-4AC7-A143-1327CC3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B7D9-4F14-49F5-A88D-E83AC39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53F9-9A20-4BA3-8502-718AE16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7873-CA92-424E-A405-DFF214C7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94BC-99E2-4587-8B6B-4DA12F4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3F1C-C607-4BCC-8422-45F8538B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F75E-DC9F-480F-B095-20C311B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E5F-017A-488F-AF8E-F8B87438DFF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FB34-7521-46B1-811D-48685C8B86B3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9CF-DEAD-4299-8FF6-5CD3E46F4042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FF0D-F268-4367-9818-7342440DD00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3860640"/>
            <a:ext cx="75438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Goniometrické funkce (sinus, kosinus)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Nadpis 1"/>
          <p:cNvSpPr/>
          <p:nvPr/>
        </p:nvSpPr>
        <p:spPr>
          <a:xfrm>
            <a:off x="539640" y="549360"/>
            <a:ext cx="7643880" cy="718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sin (–210°)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684360" y="3141720"/>
                <a:ext cx="3578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11280" y="4221000"/>
                <a:ext cx="35226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Zaoblený obdélníkový popisek 31"/>
          <p:cNvSpPr/>
          <p:nvPr/>
        </p:nvSpPr>
        <p:spPr>
          <a:xfrm>
            <a:off x="2340000" y="1916280"/>
            <a:ext cx="2448000" cy="792000"/>
          </a:xfrm>
          <a:prstGeom prst="wedgeRoundRectCallout">
            <a:avLst>
              <a:gd name="adj1" fmla="val 384"/>
              <a:gd name="adj2" fmla="val 106504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unkce sinus je lichá, proto sin (–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 = –sin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15" name="Skupina 22"/>
          <p:cNvGrpSpPr/>
          <p:nvPr/>
        </p:nvGrpSpPr>
        <p:grpSpPr>
          <a:xfrm>
            <a:off x="4788000" y="1413000"/>
            <a:ext cx="3485880" cy="2664000"/>
            <a:chOff x="4788000" y="1413000"/>
            <a:chExt cx="3485880" cy="2664000"/>
          </a:xfrm>
        </p:grpSpPr>
        <p:grpSp>
          <p:nvGrpSpPr>
            <p:cNvPr id="216" name="Skupina 21"/>
            <p:cNvGrpSpPr/>
            <p:nvPr/>
          </p:nvGrpSpPr>
          <p:grpSpPr>
            <a:xfrm>
              <a:off x="4788000" y="1413000"/>
              <a:ext cx="3485880" cy="2664000"/>
              <a:chOff x="4788000" y="1413000"/>
              <a:chExt cx="3485880" cy="2664000"/>
            </a:xfrm>
          </p:grpSpPr>
          <p:grpSp>
            <p:nvGrpSpPr>
              <p:cNvPr id="217" name="Skupina 27"/>
              <p:cNvGrpSpPr/>
              <p:nvPr/>
            </p:nvGrpSpPr>
            <p:grpSpPr>
              <a:xfrm>
                <a:off x="4788000" y="1413000"/>
                <a:ext cx="3485880" cy="2664000"/>
                <a:chOff x="4788000" y="1413000"/>
                <a:chExt cx="3485880" cy="2664000"/>
              </a:xfrm>
            </p:grpSpPr>
            <p:grpSp>
              <p:nvGrpSpPr>
                <p:cNvPr id="218" name="Skupina 10"/>
                <p:cNvGrpSpPr/>
                <p:nvPr/>
              </p:nvGrpSpPr>
              <p:grpSpPr>
                <a:xfrm>
                  <a:off x="5712120" y="1413000"/>
                  <a:ext cx="2561760" cy="2664000"/>
                  <a:chOff x="5712120" y="1413000"/>
                  <a:chExt cx="2561760" cy="2664000"/>
                </a:xfrm>
              </p:grpSpPr>
              <p:sp>
                <p:nvSpPr>
                  <p:cNvPr id="219" name="Elipsa 40"/>
                  <p:cNvSpPr/>
                  <p:nvPr/>
                </p:nvSpPr>
                <p:spPr>
                  <a:xfrm>
                    <a:off x="5871600" y="1847880"/>
                    <a:ext cx="2046600" cy="20476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2f2b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0" name="Přímá spojovací šipka 41"/>
                  <p:cNvCxnSpPr/>
                  <p:nvPr/>
                </p:nvCxnSpPr>
                <p:spPr>
                  <a:xfrm>
                    <a:off x="6917400" y="1574640"/>
                    <a:ext cx="1080" cy="2502720"/>
                  </a:xfrm>
                  <a:prstGeom prst="straightConnector1">
                    <a:avLst/>
                  </a:prstGeom>
                  <a:ln w="25560">
                    <a:solidFill>
                      <a:srgbClr val="2f2b20"/>
                    </a:solidFill>
                    <a:miter/>
                    <a:headEnd len="med" type="arrow" w="med"/>
                  </a:ln>
                </p:spPr>
              </p:cxnSp>
              <p:cxnSp>
                <p:nvCxnSpPr>
                  <p:cNvPr id="221" name="Přímá spojovací šipka 42"/>
                  <p:cNvCxnSpPr/>
                  <p:nvPr/>
                </p:nvCxnSpPr>
                <p:spPr>
                  <a:xfrm flipH="1">
                    <a:off x="5712120" y="2922120"/>
                    <a:ext cx="2501640" cy="1080"/>
                  </a:xfrm>
                  <a:prstGeom prst="straightConnector1">
                    <a:avLst/>
                  </a:prstGeom>
                  <a:ln w="25560">
                    <a:solidFill>
                      <a:srgbClr val="2f2b20"/>
                    </a:solidFill>
                    <a:miter/>
                    <a:headEnd len="med" type="arrow" w="med"/>
                  </a:ln>
                </p:spPr>
              </p:cxnSp>
              <p:sp>
                <p:nvSpPr>
                  <p:cNvPr id="222" name="TextovéPole 43"/>
                  <p:cNvSpPr/>
                  <p:nvPr/>
                </p:nvSpPr>
                <p:spPr>
                  <a:xfrm>
                    <a:off x="7954920" y="2492280"/>
                    <a:ext cx="31896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cs-CZ" sz="2200" spc="-1" strike="noStrike">
                        <a:solidFill>
                          <a:srgbClr val="2f2b20"/>
                        </a:solidFill>
                        <a:latin typeface="Cambria"/>
                      </a:rPr>
                      <a:t>x</a:t>
                    </a:r>
                    <a:endParaRPr b="0" lang="en-US" sz="22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ovéPole 44"/>
                  <p:cNvSpPr/>
                  <p:nvPr/>
                </p:nvSpPr>
                <p:spPr>
                  <a:xfrm>
                    <a:off x="6946560" y="1413000"/>
                    <a:ext cx="31896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cs-CZ" sz="2200" spc="-1" strike="noStrike">
                        <a:solidFill>
                          <a:srgbClr val="2f2b20"/>
                        </a:solidFill>
                        <a:latin typeface="Cambria"/>
                      </a:rPr>
                      <a:t>y</a:t>
                    </a:r>
                    <a:endParaRPr b="0" lang="en-US" sz="22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Přímá spojovací čára 32"/>
                <p:cNvSpPr/>
                <p:nvPr/>
              </p:nvSpPr>
              <p:spPr>
                <a:xfrm flipV="1">
                  <a:off x="6918120" y="2149200"/>
                  <a:ext cx="1228680" cy="772920"/>
                </a:xfrm>
                <a:prstGeom prst="line">
                  <a:avLst/>
                </a:prstGeom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5" name="Přímá spojovací čára 33"/>
                <p:cNvSpPr/>
                <p:nvPr/>
              </p:nvSpPr>
              <p:spPr>
                <a:xfrm>
                  <a:off x="6918120" y="2922480"/>
                  <a:ext cx="1228680" cy="772920"/>
                </a:xfrm>
                <a:prstGeom prst="line">
                  <a:avLst/>
                </a:prstGeom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6" name="Přímá spojovací čára 34"/>
                <p:cNvSpPr/>
                <p:nvPr/>
              </p:nvSpPr>
              <p:spPr>
                <a:xfrm flipH="1" flipV="1">
                  <a:off x="5691240" y="2149200"/>
                  <a:ext cx="1226880" cy="772920"/>
                </a:xfrm>
                <a:prstGeom prst="line">
                  <a:avLst/>
                </a:prstGeom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7" name="Přímá spojovací čára 7"/>
                <p:cNvSpPr/>
                <p:nvPr/>
              </p:nvSpPr>
              <p:spPr>
                <a:xfrm flipH="1">
                  <a:off x="5691240" y="2922480"/>
                  <a:ext cx="1226880" cy="772920"/>
                </a:xfrm>
                <a:prstGeom prst="line">
                  <a:avLst/>
                </a:prstGeom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8" name="TextovéPole 38"/>
                <p:cNvSpPr/>
                <p:nvPr/>
              </p:nvSpPr>
              <p:spPr>
                <a:xfrm>
                  <a:off x="4788000" y="3068640"/>
                  <a:ext cx="1223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200" spc="-1" strike="noStrike">
                      <a:solidFill>
                        <a:srgbClr val="ff0000"/>
                      </a:solidFill>
                      <a:latin typeface="Cambria"/>
                    </a:rPr>
                    <a:t>180°+ </a:t>
                  </a:r>
                  <a:r>
                    <a:rPr b="0" lang="cs-CZ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ovéPole 29"/>
              <p:cNvSpPr/>
              <p:nvPr/>
            </p:nvSpPr>
            <p:spPr>
              <a:xfrm>
                <a:off x="6372360" y="3068640"/>
                <a:ext cx="502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000" spc="-1" strike="noStrike">
                    <a:solidFill>
                      <a:srgbClr val="ff0000"/>
                    </a:solidFill>
                    <a:latin typeface="Cambria"/>
                  </a:rPr>
                  <a:t>–</a:t>
                </a:r>
                <a:endParaRPr b="0" lang="en-US" sz="4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30" name="Oblouk 45"/>
            <p:cNvSpPr/>
            <p:nvPr/>
          </p:nvSpPr>
          <p:spPr>
            <a:xfrm>
              <a:off x="6083280" y="2133720"/>
              <a:ext cx="1584360" cy="151128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1511280"/>
                <a:gd name="textAreaBottom" fmla="*/ 1206000 h 1511280"/>
              </a:gdLst>
              <a:ahLst/>
              <a:rect l="textAreaLeft" t="textAreaTop" r="textAreaRight" b="textAreaBottom"/>
              <a:pathLst>
                <a:path stroke="0" w="1584325" h="1511300">
                  <a:moveTo>
                    <a:pt x="155955" y="1205871"/>
                  </a:moveTo>
                  <a:lnTo>
                    <a:pt x="155955" y="1205871"/>
                  </a:lnTo>
                  <a:arcTo wR="792163" hR="755650" stAng="8682858" swAng="12917151"/>
                  <a:lnTo>
                    <a:pt x="792163" y="755650"/>
                  </a:lnTo>
                  <a:close/>
                </a:path>
                <a:path fill="none" w="1584325" h="1511300">
                  <a:moveTo>
                    <a:pt x="155955" y="1205871"/>
                  </a:moveTo>
                  <a:lnTo>
                    <a:pt x="155955" y="1205871"/>
                  </a:lnTo>
                  <a:arcTo wR="792163" hR="755650" stAng="8682858" swAng="12917151"/>
                </a:path>
              </a:pathLst>
            </a:custGeom>
            <a:noFill/>
            <a:ln w="25560">
              <a:solidFill>
                <a:srgbClr val="2f2b2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31" name="Zaoblený obdélníkový popisek 46"/>
          <p:cNvSpPr/>
          <p:nvPr/>
        </p:nvSpPr>
        <p:spPr>
          <a:xfrm>
            <a:off x="5219640" y="4508640"/>
            <a:ext cx="2449440" cy="792000"/>
          </a:xfrm>
          <a:prstGeom prst="wedgeRoundRectCallout">
            <a:avLst>
              <a:gd name="adj1" fmla="val -129458"/>
              <a:gd name="adj2" fmla="val -4340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hel ve III. kvadrantu rozlož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3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4" name="TextovéPole 11"/>
          <p:cNvSpPr/>
          <p:nvPr/>
        </p:nvSpPr>
        <p:spPr>
          <a:xfrm>
            <a:off x="5219640" y="206064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sin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5" name="TextovéPole 13"/>
          <p:cNvSpPr/>
          <p:nvPr/>
        </p:nvSpPr>
        <p:spPr>
          <a:xfrm>
            <a:off x="5219640" y="47242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2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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sin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6" name="TextovéPole 10"/>
          <p:cNvSpPr/>
          <p:nvPr/>
        </p:nvSpPr>
        <p:spPr>
          <a:xfrm>
            <a:off x="5219640" y="256536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–sin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7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38" name="TextovéPole 23"/>
          <p:cNvSpPr/>
          <p:nvPr/>
        </p:nvSpPr>
        <p:spPr>
          <a:xfrm>
            <a:off x="1692360" y="5084640"/>
            <a:ext cx="5616360" cy="7174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–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9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40" name="Přímá spojovací šipka 25"/>
          <p:cNvCxnSpPr/>
          <p:nvPr/>
        </p:nvCxnSpPr>
        <p:spPr>
          <a:xfrm flipH="1" flipV="1">
            <a:off x="2194920" y="1773360"/>
            <a:ext cx="1080" cy="57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1" name="TextovéPole 26"/>
          <p:cNvSpPr/>
          <p:nvPr/>
        </p:nvSpPr>
        <p:spPr>
          <a:xfrm>
            <a:off x="234000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2" name="Elipsa 27"/>
          <p:cNvSpPr/>
          <p:nvPr/>
        </p:nvSpPr>
        <p:spPr>
          <a:xfrm>
            <a:off x="2340000" y="198900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43" name="Přímá spojovací šipka 33"/>
          <p:cNvCxnSpPr/>
          <p:nvPr/>
        </p:nvCxnSpPr>
        <p:spPr>
          <a:xfrm flipH="1">
            <a:off x="2194920" y="2565000"/>
            <a:ext cx="108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Elipsa 35"/>
          <p:cNvSpPr/>
          <p:nvPr/>
        </p:nvSpPr>
        <p:spPr>
          <a:xfrm>
            <a:off x="2340000" y="278136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5" name="TextovéPole 36"/>
          <p:cNvSpPr/>
          <p:nvPr/>
        </p:nvSpPr>
        <p:spPr>
          <a:xfrm>
            <a:off x="234000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6" name="TextovéPole 15"/>
          <p:cNvSpPr/>
          <p:nvPr/>
        </p:nvSpPr>
        <p:spPr>
          <a:xfrm>
            <a:off x="5724360" y="321300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7" name="TextovéPole 16"/>
          <p:cNvSpPr/>
          <p:nvPr/>
        </p:nvSpPr>
        <p:spPr>
          <a:xfrm>
            <a:off x="5292720" y="3933720"/>
            <a:ext cx="23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sin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 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8" name="TextovéPole 17"/>
          <p:cNvSpPr/>
          <p:nvPr/>
        </p:nvSpPr>
        <p:spPr>
          <a:xfrm>
            <a:off x="5292720" y="2276640"/>
            <a:ext cx="208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810320" cy="3819600"/>
          </a:xfrm>
          <a:prstGeom prst="rect">
            <a:avLst/>
          </a:prstGeom>
          <a:ln w="0">
            <a:noFill/>
          </a:ln>
        </p:spPr>
      </p:pic>
      <p:sp>
        <p:nvSpPr>
          <p:cNvPr id="250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1" name="TextovéPole 4"/>
          <p:cNvSpPr/>
          <p:nvPr/>
        </p:nvSpPr>
        <p:spPr>
          <a:xfrm>
            <a:off x="5724360" y="321300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2" name="TextovéPole 5"/>
          <p:cNvSpPr/>
          <p:nvPr/>
        </p:nvSpPr>
        <p:spPr>
          <a:xfrm>
            <a:off x="5219640" y="2276640"/>
            <a:ext cx="237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sin 0,5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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3" name="TextovéPole 6"/>
          <p:cNvSpPr/>
          <p:nvPr/>
        </p:nvSpPr>
        <p:spPr>
          <a:xfrm>
            <a:off x="5219640" y="414972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2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TextovéPole 8"/>
          <p:cNvSpPr/>
          <p:nvPr/>
        </p:nvSpPr>
        <p:spPr>
          <a:xfrm>
            <a:off x="1692360" y="5157720"/>
            <a:ext cx="561636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násobek argumentu funkce znamená počet sinusoid v jedné periodě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56" name="TextovéPole 23"/>
          <p:cNvSpPr/>
          <p:nvPr/>
        </p:nvSpPr>
        <p:spPr>
          <a:xfrm>
            <a:off x="2195640" y="5229360"/>
            <a:ext cx="5832360" cy="7174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–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+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4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58" name="Přímá spojovací šipka 25"/>
          <p:cNvCxnSpPr/>
          <p:nvPr/>
        </p:nvCxnSpPr>
        <p:spPr>
          <a:xfrm flipH="1" flipV="1">
            <a:off x="1402560" y="278064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9" name="Elipsa 27"/>
          <p:cNvSpPr/>
          <p:nvPr/>
        </p:nvSpPr>
        <p:spPr>
          <a:xfrm>
            <a:off x="684360" y="2421000"/>
            <a:ext cx="5745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60" name="Přímá spojovací šipka 33"/>
          <p:cNvCxnSpPr/>
          <p:nvPr/>
        </p:nvCxnSpPr>
        <p:spPr>
          <a:xfrm>
            <a:off x="3059280" y="2781000"/>
            <a:ext cx="289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1" name="TextovéPole 36"/>
          <p:cNvSpPr/>
          <p:nvPr/>
        </p:nvSpPr>
        <p:spPr>
          <a:xfrm>
            <a:off x="611280" y="252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TextovéPole 14"/>
          <p:cNvSpPr/>
          <p:nvPr/>
        </p:nvSpPr>
        <p:spPr>
          <a:xfrm>
            <a:off x="4643280" y="270828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3" name="TextovéPole 15"/>
          <p:cNvSpPr/>
          <p:nvPr/>
        </p:nvSpPr>
        <p:spPr>
          <a:xfrm>
            <a:off x="5003640" y="3716280"/>
            <a:ext cx="237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sin (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Symbol"/>
                <a:ea typeface="Symbol"/>
              </a:rPr>
              <a:t>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4)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4" name="TextovéPole 29"/>
          <p:cNvSpPr/>
          <p:nvPr/>
        </p:nvSpPr>
        <p:spPr>
          <a:xfrm>
            <a:off x="5003640" y="1989000"/>
            <a:ext cx="244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sin (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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2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5" name="Elipsa 16"/>
          <p:cNvSpPr/>
          <p:nvPr/>
        </p:nvSpPr>
        <p:spPr>
          <a:xfrm>
            <a:off x="3564000" y="242100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6" name="TextovéPole 17"/>
          <p:cNvSpPr/>
          <p:nvPr/>
        </p:nvSpPr>
        <p:spPr>
          <a:xfrm>
            <a:off x="3492360" y="25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+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7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809960" cy="3819600"/>
          </a:xfrm>
          <a:prstGeom prst="rect">
            <a:avLst/>
          </a:prstGeom>
          <a:ln w="0">
            <a:noFill/>
          </a:ln>
        </p:spPr>
      </p:pic>
      <p:sp>
        <p:nvSpPr>
          <p:cNvPr id="268" name="TextovéPole 23"/>
          <p:cNvSpPr/>
          <p:nvPr/>
        </p:nvSpPr>
        <p:spPr>
          <a:xfrm>
            <a:off x="1692360" y="4941720"/>
            <a:ext cx="6335640" cy="6800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s absolutní hodnotou) nenabývá záporných hodnot a v intervalu pro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;2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 se graf překlopí nad os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9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7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0" name="TextovéPole 24"/>
          <p:cNvSpPr/>
          <p:nvPr/>
        </p:nvSpPr>
        <p:spPr>
          <a:xfrm>
            <a:off x="4932360" y="184464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sin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1" name="TextovéPole 17"/>
          <p:cNvSpPr/>
          <p:nvPr/>
        </p:nvSpPr>
        <p:spPr>
          <a:xfrm>
            <a:off x="4932360" y="2349360"/>
            <a:ext cx="244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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sin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Symbol"/>
                <a:ea typeface="Symbol"/>
              </a:rPr>
              <a:t>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Nadpis 1"/>
          <p:cNvSpPr/>
          <p:nvPr/>
        </p:nvSpPr>
        <p:spPr>
          <a:xfrm>
            <a:off x="539640" y="549360"/>
            <a:ext cx="764388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7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 z příkladů 3 – 7 pro funkci kosinus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3" name="Nadpis 1"/>
          <p:cNvSpPr/>
          <p:nvPr/>
        </p:nvSpPr>
        <p:spPr>
          <a:xfrm>
            <a:off x="539640" y="1989000"/>
            <a:ext cx="7643880" cy="1006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raťte se k příkladu 5 a porovnejte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sin (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+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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2) a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cos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75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3]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Goniometr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3, dotisk 3. vydání: ISBN 80-7196-203-1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GONIOMETRICKÉ FUNKCE (SINUS, KOSINUS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Funkce sinus a kosinus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628640"/>
            <a:ext cx="3600360" cy="1656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sinus 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je funkce na množině R, kterou je každému </a:t>
            </a:r>
            <a:r>
              <a:rPr b="0" i="1" lang="cs-CZ" sz="24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 R přiřazeno </a:t>
            </a:r>
            <a:r>
              <a:rPr b="0" i="1" lang="cs-CZ" sz="24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400" spc="-1" strike="noStrike" baseline="-25000">
                <a:solidFill>
                  <a:srgbClr val="2f2b20"/>
                </a:solidFill>
                <a:latin typeface="Cambria"/>
              </a:rPr>
              <a:t>M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grpSp>
        <p:nvGrpSpPr>
          <p:cNvPr id="103" name="Skupina 40"/>
          <p:cNvGrpSpPr/>
          <p:nvPr/>
        </p:nvGrpSpPr>
        <p:grpSpPr>
          <a:xfrm>
            <a:off x="610560" y="1773360"/>
            <a:ext cx="4261320" cy="3512880"/>
            <a:chOff x="610560" y="1773360"/>
            <a:chExt cx="4261320" cy="3512880"/>
          </a:xfrm>
        </p:grpSpPr>
        <p:sp>
          <p:nvSpPr>
            <p:cNvPr id="104" name="Elipsa 7"/>
            <p:cNvSpPr/>
            <p:nvPr/>
          </p:nvSpPr>
          <p:spPr>
            <a:xfrm>
              <a:off x="1101600" y="2386080"/>
              <a:ext cx="2411280" cy="2417760"/>
            </a:xfrm>
            <a:prstGeom prst="ellipse">
              <a:avLst/>
            </a:pr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05" name="Přímá spojovací šipka 8"/>
            <p:cNvCxnSpPr/>
            <p:nvPr/>
          </p:nvCxnSpPr>
          <p:spPr>
            <a:xfrm>
              <a:off x="2334960" y="1793520"/>
              <a:ext cx="1080" cy="3493080"/>
            </a:xfrm>
            <a:prstGeom prst="straightConnector1">
              <a:avLst/>
            </a:prstGeom>
            <a:ln w="25560">
              <a:solidFill>
                <a:srgbClr val="2f2b20"/>
              </a:solidFill>
              <a:miter/>
              <a:headEnd len="med" type="arrow" w="med"/>
            </a:ln>
          </p:spPr>
        </p:cxnSp>
        <p:cxnSp>
          <p:nvCxnSpPr>
            <p:cNvPr id="106" name="Přímá spojovací šipka 9"/>
            <p:cNvCxnSpPr/>
            <p:nvPr/>
          </p:nvCxnSpPr>
          <p:spPr>
            <a:xfrm flipH="1">
              <a:off x="610560" y="3665160"/>
              <a:ext cx="3483720" cy="1080"/>
            </a:xfrm>
            <a:prstGeom prst="straightConnector1">
              <a:avLst/>
            </a:prstGeom>
            <a:ln w="25560">
              <a:solidFill>
                <a:srgbClr val="2f2b20"/>
              </a:solidFill>
              <a:miter/>
              <a:headEnd len="med" type="arrow" w="med"/>
            </a:ln>
          </p:spPr>
        </p:cxnSp>
        <p:sp>
          <p:nvSpPr>
            <p:cNvPr id="107" name="TextovéPole 10"/>
            <p:cNvSpPr/>
            <p:nvPr/>
          </p:nvSpPr>
          <p:spPr>
            <a:xfrm>
              <a:off x="3808440" y="32781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2f2b20"/>
                  </a:solidFill>
                  <a:latin typeface="Cambria"/>
                </a:rPr>
                <a:t>x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8" name="TextovéPole 11"/>
            <p:cNvSpPr/>
            <p:nvPr/>
          </p:nvSpPr>
          <p:spPr>
            <a:xfrm>
              <a:off x="2039760" y="177336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2f2b20"/>
                  </a:solidFill>
                  <a:latin typeface="Cambria"/>
                </a:rPr>
                <a:t>y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9" name="TextovéPole 16"/>
            <p:cNvSpPr/>
            <p:nvPr/>
          </p:nvSpPr>
          <p:spPr>
            <a:xfrm>
              <a:off x="3525840" y="3665520"/>
              <a:ext cx="5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0" name="TextovéPole 17"/>
            <p:cNvSpPr/>
            <p:nvPr/>
          </p:nvSpPr>
          <p:spPr>
            <a:xfrm>
              <a:off x="2352600" y="198900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TextovéPole 18"/>
            <p:cNvSpPr/>
            <p:nvPr/>
          </p:nvSpPr>
          <p:spPr>
            <a:xfrm>
              <a:off x="2325600" y="48103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TextovéPole 19"/>
            <p:cNvSpPr/>
            <p:nvPr/>
          </p:nvSpPr>
          <p:spPr>
            <a:xfrm>
              <a:off x="623880" y="36464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13" name="Přímá spojovací šipka 20"/>
            <p:cNvCxnSpPr>
              <a:endCxn id="104" idx="7"/>
            </p:cNvCxnSpPr>
            <p:nvPr/>
          </p:nvCxnSpPr>
          <p:spPr>
            <a:xfrm flipV="1">
              <a:off x="2335320" y="2739600"/>
              <a:ext cx="824400" cy="915120"/>
            </a:xfrm>
            <a:prstGeom prst="straightConnector1">
              <a:avLst/>
            </a:prstGeom>
            <a:ln w="25560">
              <a:solidFill>
                <a:srgbClr val="2f2b20"/>
              </a:solidFill>
              <a:miter/>
            </a:ln>
          </p:spPr>
        </p:cxnSp>
        <p:sp>
          <p:nvSpPr>
            <p:cNvPr id="114" name="TextovéPole 22"/>
            <p:cNvSpPr/>
            <p:nvPr/>
          </p:nvSpPr>
          <p:spPr>
            <a:xfrm>
              <a:off x="1631880" y="36464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15" name="Přímá spojovací šipka 21"/>
            <p:cNvCxnSpPr/>
            <p:nvPr/>
          </p:nvCxnSpPr>
          <p:spPr>
            <a:xfrm flipV="1">
              <a:off x="3143160" y="2736000"/>
              <a:ext cx="24480" cy="937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16" name="Přímá spojovací šipka 23"/>
            <p:cNvCxnSpPr/>
            <p:nvPr/>
          </p:nvCxnSpPr>
          <p:spPr>
            <a:xfrm>
              <a:off x="2315880" y="3673080"/>
              <a:ext cx="82908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sp>
          <p:nvSpPr>
            <p:cNvPr id="117" name="TextovéPole 34"/>
            <p:cNvSpPr/>
            <p:nvPr/>
          </p:nvSpPr>
          <p:spPr>
            <a:xfrm>
              <a:off x="3143160" y="2349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M 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x</a:t>
              </a:r>
              <a:r>
                <a:rPr b="1" lang="cs-CZ" sz="1800" spc="-1" strike="noStrike" baseline="-25000">
                  <a:solidFill>
                    <a:srgbClr val="2f2b20"/>
                  </a:solidFill>
                  <a:latin typeface="Cambria"/>
                </a:rPr>
                <a:t>M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,y</a:t>
              </a:r>
              <a:r>
                <a:rPr b="1" lang="cs-CZ" sz="1800" spc="-1" strike="noStrike" baseline="-25000">
                  <a:solidFill>
                    <a:srgbClr val="2f2b20"/>
                  </a:solidFill>
                  <a:latin typeface="Cambria"/>
                </a:rPr>
                <a:t>M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8" name="TextovéPole 35"/>
            <p:cNvSpPr/>
            <p:nvPr/>
          </p:nvSpPr>
          <p:spPr>
            <a:xfrm>
              <a:off x="3432240" y="2998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Cambria"/>
                </a:rPr>
                <a:t>sin </a:t>
              </a:r>
              <a:r>
                <a:rPr b="1" i="1" lang="cs-CZ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9" name="TextovéPole 36"/>
            <p:cNvSpPr/>
            <p:nvPr/>
          </p:nvSpPr>
          <p:spPr>
            <a:xfrm>
              <a:off x="2424240" y="364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Cambria"/>
                </a:rPr>
                <a:t>cos </a:t>
              </a:r>
              <a:r>
                <a:rPr b="1" i="1" lang="cs-CZ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Oblouk 38"/>
            <p:cNvSpPr/>
            <p:nvPr/>
          </p:nvSpPr>
          <p:spPr>
            <a:xfrm>
              <a:off x="2136600" y="3357720"/>
              <a:ext cx="574560" cy="658800"/>
            </a:xfrm>
            <a:custGeom>
              <a:avLst/>
              <a:gdLst>
                <a:gd name="textAreaLeft" fmla="*/ 423000 w 574560"/>
                <a:gd name="textAreaRight" fmla="*/ 574920 w 574560"/>
                <a:gd name="textAreaTop" fmla="*/ 38880 h 658800"/>
                <a:gd name="textAreaBottom" fmla="*/ 329400 h 658800"/>
              </a:gdLst>
              <a:ahLst/>
              <a:rect l="textAreaLeft" t="textAreaTop" r="textAreaRight" b="textAreaBottom"/>
              <a:pathLst>
                <a:path stroke="0" w="574725" h="658812">
                  <a:moveTo>
                    <a:pt x="422897" y="38940"/>
                  </a:moveTo>
                  <a:lnTo>
                    <a:pt x="422897" y="38940"/>
                  </a:lnTo>
                  <a:arcTo wR="287363" hR="329406" stAng="-3899150" swAng="3899150"/>
                  <a:lnTo>
                    <a:pt x="287363" y="329406"/>
                  </a:lnTo>
                  <a:close/>
                </a:path>
                <a:path fill="none" w="574725" h="658812">
                  <a:moveTo>
                    <a:pt x="422897" y="38940"/>
                  </a:moveTo>
                  <a:lnTo>
                    <a:pt x="422897" y="38940"/>
                  </a:lnTo>
                  <a:arcTo wR="287363" hR="329406" stAng="-3899150" swAng="3899150"/>
                </a:path>
              </a:pathLst>
            </a:custGeom>
            <a:noFill/>
            <a:ln w="255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1" name="TextovéPole 39"/>
            <p:cNvSpPr/>
            <p:nvPr/>
          </p:nvSpPr>
          <p:spPr>
            <a:xfrm>
              <a:off x="2352600" y="33577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22" name="Zástupný symbol pro obsah 2"/>
          <p:cNvSpPr/>
          <p:nvPr/>
        </p:nvSpPr>
        <p:spPr>
          <a:xfrm>
            <a:off x="4572000" y="3645000"/>
            <a:ext cx="3600360" cy="1655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kosinus 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je funkce na množině R, kterou je každému </a:t>
            </a:r>
            <a:r>
              <a:rPr b="0" i="1" lang="cs-CZ" sz="24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 R přiřazeno </a:t>
            </a:r>
            <a:r>
              <a:rPr b="0" i="1" lang="cs-CZ" sz="24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400" spc="-1" strike="noStrike" baseline="-25000">
                <a:solidFill>
                  <a:srgbClr val="2f2b20"/>
                </a:solidFill>
                <a:latin typeface="Cambria"/>
              </a:rPr>
              <a:t>M</a:t>
            </a: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í sinus a kosinus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1268280"/>
          <a:ext cx="7559640" cy="461340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: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= sin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: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= cos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89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R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;1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/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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/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3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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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;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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ax.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min.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+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1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max.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 min.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2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+1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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1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lich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ud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omezená, není prostá, periodická (perioda 2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5" name="Picture 30" descr=""/>
          <p:cNvPicPr/>
          <p:nvPr/>
        </p:nvPicPr>
        <p:blipFill>
          <a:blip r:embed="rId1"/>
          <a:stretch/>
        </p:blipFill>
        <p:spPr>
          <a:xfrm>
            <a:off x="4859280" y="1806480"/>
            <a:ext cx="2638440" cy="174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"/>
          <p:cNvPicPr/>
          <p:nvPr/>
        </p:nvPicPr>
        <p:blipFill>
          <a:blip r:embed="rId2"/>
          <a:stretch/>
        </p:blipFill>
        <p:spPr>
          <a:xfrm>
            <a:off x="1187280" y="1806480"/>
            <a:ext cx="2638440" cy="1744920"/>
          </a:xfrm>
          <a:prstGeom prst="rect">
            <a:avLst/>
          </a:prstGeom>
          <a:ln w="0">
            <a:noFill/>
          </a:ln>
        </p:spPr>
      </p:pic>
      <p:sp>
        <p:nvSpPr>
          <p:cNvPr id="127" name="TextovéPole 16"/>
          <p:cNvSpPr/>
          <p:nvPr/>
        </p:nvSpPr>
        <p:spPr>
          <a:xfrm>
            <a:off x="682560" y="31734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ambria"/>
              </a:rPr>
              <a:t>sinusoid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TextovéPole 17"/>
          <p:cNvSpPr/>
          <p:nvPr/>
        </p:nvSpPr>
        <p:spPr>
          <a:xfrm>
            <a:off x="6804000" y="314172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ambria"/>
              </a:rPr>
              <a:t>kosinusoid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803760" cy="251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eriodick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1" name="Zástupný symbol pro obsah 2"/>
          <p:cNvSpPr/>
          <p:nvPr/>
        </p:nvSpPr>
        <p:spPr>
          <a:xfrm>
            <a:off x="611280" y="1413000"/>
            <a:ext cx="7488000" cy="1989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Funkc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eriodická funk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ávě když existuje takové čísl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&gt; 0, že pro každ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Z plat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ak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p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Tabulka hodnot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1280" y="1989000"/>
          <a:ext cx="7623000" cy="2411640"/>
        </p:xfrm>
        <a:graphic>
          <a:graphicData uri="http://schemas.openxmlformats.org/drawingml/2006/table">
            <a:tbl>
              <a:tblPr/>
              <a:tblGrid>
                <a:gridCol w="1008000"/>
                <a:gridCol w="944640"/>
                <a:gridCol w="946080"/>
                <a:gridCol w="944640"/>
                <a:gridCol w="944280"/>
                <a:gridCol w="946440"/>
                <a:gridCol w="944280"/>
                <a:gridCol w="944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60° (2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5° 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0° 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9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/2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8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7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3/2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74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i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</a:t>
                      </a: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osi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–</a:t>
                      </a: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2987640" y="2924280"/>
                <a:ext cx="244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780000" y="2924280"/>
                <a:ext cx="4251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4753080" y="2889360"/>
                <a:ext cx="425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2843280" y="3643200"/>
                <a:ext cx="4255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780000" y="3679920"/>
                <a:ext cx="4251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4821120" y="3716280"/>
                <a:ext cx="243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Znaménka hodnot goniometrických funkcí v jednotlivých kvadrantech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grpSp>
        <p:nvGrpSpPr>
          <p:cNvPr id="141" name="Skupina 57"/>
          <p:cNvGrpSpPr/>
          <p:nvPr/>
        </p:nvGrpSpPr>
        <p:grpSpPr>
          <a:xfrm>
            <a:off x="5292360" y="1915920"/>
            <a:ext cx="2088000" cy="2014560"/>
            <a:chOff x="5292360" y="1915920"/>
            <a:chExt cx="2088000" cy="2014560"/>
          </a:xfrm>
        </p:grpSpPr>
        <p:grpSp>
          <p:nvGrpSpPr>
            <p:cNvPr id="142" name="Skupina 10"/>
            <p:cNvGrpSpPr/>
            <p:nvPr/>
          </p:nvGrpSpPr>
          <p:grpSpPr>
            <a:xfrm>
              <a:off x="5292360" y="1915920"/>
              <a:ext cx="2088000" cy="2014560"/>
              <a:chOff x="5292360" y="1915920"/>
              <a:chExt cx="2088000" cy="2014560"/>
            </a:xfrm>
          </p:grpSpPr>
          <p:sp>
            <p:nvSpPr>
              <p:cNvPr id="143" name="Elipsa 48"/>
              <p:cNvSpPr/>
              <p:nvPr/>
            </p:nvSpPr>
            <p:spPr>
              <a:xfrm>
                <a:off x="5419440" y="2135160"/>
                <a:ext cx="1648080" cy="1649160"/>
              </a:xfrm>
              <a:prstGeom prst="ellipse">
                <a:avLst/>
              </a:prstGeom>
              <a:noFill/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cxnSp>
            <p:nvCxnSpPr>
              <p:cNvPr id="144" name="Přímá spojovací šipka 49"/>
              <p:cNvCxnSpPr/>
              <p:nvPr/>
            </p:nvCxnSpPr>
            <p:spPr>
              <a:xfrm>
                <a:off x="6262200" y="1915920"/>
                <a:ext cx="1080" cy="201492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cxnSp>
            <p:nvCxnSpPr>
              <p:cNvPr id="145" name="Přímá spojovací šipka 50"/>
              <p:cNvCxnSpPr/>
              <p:nvPr/>
            </p:nvCxnSpPr>
            <p:spPr>
              <a:xfrm flipH="1">
                <a:off x="5292360" y="2999880"/>
                <a:ext cx="2013840" cy="108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sp>
            <p:nvSpPr>
              <p:cNvPr id="146" name="TextovéPole 51"/>
              <p:cNvSpPr/>
              <p:nvPr/>
            </p:nvSpPr>
            <p:spPr>
              <a:xfrm>
                <a:off x="7123320" y="2781360"/>
                <a:ext cx="25704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47" name="TextovéPole 53"/>
            <p:cNvSpPr/>
            <p:nvPr/>
          </p:nvSpPr>
          <p:spPr>
            <a:xfrm>
              <a:off x="5653080" y="218916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8" name="TextovéPole 54"/>
            <p:cNvSpPr/>
            <p:nvPr/>
          </p:nvSpPr>
          <p:spPr>
            <a:xfrm>
              <a:off x="6404040" y="218916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9" name="TextovéPole 55"/>
            <p:cNvSpPr/>
            <p:nvPr/>
          </p:nvSpPr>
          <p:spPr>
            <a:xfrm>
              <a:off x="5653080" y="293688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0" name="TextovéPole 56"/>
            <p:cNvSpPr/>
            <p:nvPr/>
          </p:nvSpPr>
          <p:spPr>
            <a:xfrm>
              <a:off x="6421320" y="2936880"/>
              <a:ext cx="25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51" name="Skupina 58"/>
          <p:cNvGrpSpPr/>
          <p:nvPr/>
        </p:nvGrpSpPr>
        <p:grpSpPr>
          <a:xfrm>
            <a:off x="5292360" y="4076640"/>
            <a:ext cx="2088000" cy="2014920"/>
            <a:chOff x="5292360" y="4076640"/>
            <a:chExt cx="2088000" cy="2014920"/>
          </a:xfrm>
        </p:grpSpPr>
        <p:grpSp>
          <p:nvGrpSpPr>
            <p:cNvPr id="152" name="Skupina 10"/>
            <p:cNvGrpSpPr/>
            <p:nvPr/>
          </p:nvGrpSpPr>
          <p:grpSpPr>
            <a:xfrm>
              <a:off x="5292360" y="4076640"/>
              <a:ext cx="2088000" cy="2014920"/>
              <a:chOff x="5292360" y="4076640"/>
              <a:chExt cx="2088000" cy="2014920"/>
            </a:xfrm>
          </p:grpSpPr>
          <p:sp>
            <p:nvSpPr>
              <p:cNvPr id="153" name="Elipsa 64"/>
              <p:cNvSpPr/>
              <p:nvPr/>
            </p:nvSpPr>
            <p:spPr>
              <a:xfrm>
                <a:off x="5419440" y="4295520"/>
                <a:ext cx="1648080" cy="1649520"/>
              </a:xfrm>
              <a:prstGeom prst="ellipse">
                <a:avLst/>
              </a:prstGeom>
              <a:noFill/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cxnSp>
            <p:nvCxnSpPr>
              <p:cNvPr id="154" name="Přímá spojovací šipka 65"/>
              <p:cNvCxnSpPr/>
              <p:nvPr/>
            </p:nvCxnSpPr>
            <p:spPr>
              <a:xfrm>
                <a:off x="6262200" y="4076640"/>
                <a:ext cx="1080" cy="201528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cxnSp>
            <p:nvCxnSpPr>
              <p:cNvPr id="155" name="Přímá spojovací šipka 66"/>
              <p:cNvCxnSpPr/>
              <p:nvPr/>
            </p:nvCxnSpPr>
            <p:spPr>
              <a:xfrm flipH="1">
                <a:off x="5292360" y="5160600"/>
                <a:ext cx="2013840" cy="1080"/>
              </a:xfrm>
              <a:prstGeom prst="straightConnector1">
                <a:avLst/>
              </a:prstGeom>
              <a:ln w="25560">
                <a:solidFill>
                  <a:srgbClr val="2f2b20"/>
                </a:solidFill>
                <a:miter/>
                <a:headEnd len="med" type="arrow" w="med"/>
              </a:ln>
            </p:spPr>
          </p:cxnSp>
          <p:sp>
            <p:nvSpPr>
              <p:cNvPr id="156" name="TextovéPole 67"/>
              <p:cNvSpPr/>
              <p:nvPr/>
            </p:nvSpPr>
            <p:spPr>
              <a:xfrm>
                <a:off x="7123320" y="4941720"/>
                <a:ext cx="25704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57" name="TextovéPole 60"/>
            <p:cNvSpPr/>
            <p:nvPr/>
          </p:nvSpPr>
          <p:spPr>
            <a:xfrm>
              <a:off x="5653080" y="434952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8" name="TextovéPole 61"/>
            <p:cNvSpPr/>
            <p:nvPr/>
          </p:nvSpPr>
          <p:spPr>
            <a:xfrm>
              <a:off x="6404040" y="434952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9" name="TextovéPole 62"/>
            <p:cNvSpPr/>
            <p:nvPr/>
          </p:nvSpPr>
          <p:spPr>
            <a:xfrm>
              <a:off x="5653080" y="5097240"/>
              <a:ext cx="2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0" name="TextovéPole 63"/>
            <p:cNvSpPr/>
            <p:nvPr/>
          </p:nvSpPr>
          <p:spPr>
            <a:xfrm>
              <a:off x="6421320" y="5097240"/>
              <a:ext cx="25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ff000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61" name="TextovéPole 78"/>
          <p:cNvSpPr/>
          <p:nvPr/>
        </p:nvSpPr>
        <p:spPr>
          <a:xfrm>
            <a:off x="539640" y="2133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in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ovéPole 79"/>
          <p:cNvSpPr/>
          <p:nvPr/>
        </p:nvSpPr>
        <p:spPr>
          <a:xfrm>
            <a:off x="539640" y="4437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cos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3" name="Picture 26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306684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3066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0"/>
          <p:cNvSpPr/>
          <p:nvPr/>
        </p:nvSpPr>
        <p:spPr>
          <a:xfrm>
            <a:off x="395280" y="40464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evod úhlu na základní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66" name="Skupina 28"/>
          <p:cNvGrpSpPr/>
          <p:nvPr/>
        </p:nvGrpSpPr>
        <p:grpSpPr>
          <a:xfrm>
            <a:off x="971640" y="1557360"/>
            <a:ext cx="6913440" cy="4293360"/>
            <a:chOff x="971640" y="1557360"/>
            <a:chExt cx="6913440" cy="4293360"/>
          </a:xfrm>
        </p:grpSpPr>
        <p:grpSp>
          <p:nvGrpSpPr>
            <p:cNvPr id="167" name="Skupina 21"/>
            <p:cNvGrpSpPr/>
            <p:nvPr/>
          </p:nvGrpSpPr>
          <p:grpSpPr>
            <a:xfrm>
              <a:off x="971640" y="1557360"/>
              <a:ext cx="6913440" cy="4293360"/>
              <a:chOff x="971640" y="1557360"/>
              <a:chExt cx="6913440" cy="4293360"/>
            </a:xfrm>
          </p:grpSpPr>
          <p:grpSp>
            <p:nvGrpSpPr>
              <p:cNvPr id="168" name="Skupina 10"/>
              <p:cNvGrpSpPr/>
              <p:nvPr/>
            </p:nvGrpSpPr>
            <p:grpSpPr>
              <a:xfrm>
                <a:off x="2339280" y="1557360"/>
                <a:ext cx="4105440" cy="3988080"/>
                <a:chOff x="2339280" y="1557360"/>
                <a:chExt cx="4105440" cy="3988080"/>
              </a:xfrm>
            </p:grpSpPr>
            <p:sp>
              <p:nvSpPr>
                <p:cNvPr id="169" name="Elipsa 15"/>
                <p:cNvSpPr/>
                <p:nvPr/>
              </p:nvSpPr>
              <p:spPr>
                <a:xfrm>
                  <a:off x="2590560" y="2017440"/>
                  <a:ext cx="3239640" cy="3240000"/>
                </a:xfrm>
                <a:prstGeom prst="ellipse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cxnSp>
              <p:nvCxnSpPr>
                <p:cNvPr id="170" name="Přímá spojovací šipka 16"/>
                <p:cNvCxnSpPr/>
                <p:nvPr/>
              </p:nvCxnSpPr>
              <p:spPr>
                <a:xfrm>
                  <a:off x="4247640" y="1585800"/>
                  <a:ext cx="1080" cy="396000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cxnSp>
              <p:nvCxnSpPr>
                <p:cNvPr id="171" name="Přímá spojovací šipka 17"/>
                <p:cNvCxnSpPr/>
                <p:nvPr/>
              </p:nvCxnSpPr>
              <p:spPr>
                <a:xfrm flipH="1">
                  <a:off x="2339280" y="3717720"/>
                  <a:ext cx="3959640" cy="108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sp>
              <p:nvSpPr>
                <p:cNvPr id="172" name="TextovéPole 18"/>
                <p:cNvSpPr/>
                <p:nvPr/>
              </p:nvSpPr>
              <p:spPr>
                <a:xfrm>
                  <a:off x="5940000" y="3286080"/>
                  <a:ext cx="504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x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173" name="TextovéPole 19"/>
                <p:cNvSpPr/>
                <p:nvPr/>
              </p:nvSpPr>
              <p:spPr>
                <a:xfrm>
                  <a:off x="4356000" y="1557360"/>
                  <a:ext cx="502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y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Přímá spojovací čára 3"/>
              <p:cNvSpPr/>
              <p:nvPr/>
            </p:nvSpPr>
            <p:spPr>
              <a:xfrm flipV="1">
                <a:off x="4248000" y="2493720"/>
                <a:ext cx="19447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5" name="Přímá spojovací čára 4"/>
              <p:cNvSpPr/>
              <p:nvPr/>
            </p:nvSpPr>
            <p:spPr>
              <a:xfrm>
                <a:off x="4248000" y="3718080"/>
                <a:ext cx="19447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6" name="Přímá spojovací čára 5"/>
              <p:cNvSpPr/>
              <p:nvPr/>
            </p:nvSpPr>
            <p:spPr>
              <a:xfrm flipH="1" flipV="1">
                <a:off x="2304720" y="2493720"/>
                <a:ext cx="19429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7" name="Přímá spojovací čára 6"/>
              <p:cNvSpPr/>
              <p:nvPr/>
            </p:nvSpPr>
            <p:spPr>
              <a:xfrm flipH="1">
                <a:off x="2304720" y="3718080"/>
                <a:ext cx="1942920" cy="122400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8" name="TextovéPole 7"/>
              <p:cNvSpPr/>
              <p:nvPr/>
            </p:nvSpPr>
            <p:spPr>
              <a:xfrm>
                <a:off x="4932360" y="32148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9" name="TextovéPole 8"/>
              <p:cNvSpPr/>
              <p:nvPr/>
            </p:nvSpPr>
            <p:spPr>
              <a:xfrm>
                <a:off x="1042920" y="2278080"/>
                <a:ext cx="1584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0" name="TextovéPole 9"/>
              <p:cNvSpPr/>
              <p:nvPr/>
            </p:nvSpPr>
            <p:spPr>
              <a:xfrm>
                <a:off x="1116000" y="472608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+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1" name="TextovéPole 10"/>
              <p:cNvSpPr/>
              <p:nvPr/>
            </p:nvSpPr>
            <p:spPr>
              <a:xfrm>
                <a:off x="6300720" y="472608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36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2" name="TextovéPole 11"/>
              <p:cNvSpPr/>
              <p:nvPr/>
            </p:nvSpPr>
            <p:spPr>
              <a:xfrm>
                <a:off x="6085080" y="1917720"/>
                <a:ext cx="1655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3" name="TextovéPole 12"/>
              <p:cNvSpPr/>
              <p:nvPr/>
            </p:nvSpPr>
            <p:spPr>
              <a:xfrm>
                <a:off x="971640" y="1917720"/>
                <a:ext cx="180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4" name="TextovéPole 13"/>
              <p:cNvSpPr/>
              <p:nvPr/>
            </p:nvSpPr>
            <p:spPr>
              <a:xfrm>
                <a:off x="971640" y="5086440"/>
                <a:ext cx="180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II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5" name="TextovéPole 14"/>
              <p:cNvSpPr/>
              <p:nvPr/>
            </p:nvSpPr>
            <p:spPr>
              <a:xfrm>
                <a:off x="6156360" y="5086440"/>
                <a:ext cx="172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2f2b20"/>
                    </a:solidFill>
                    <a:latin typeface="Cambria"/>
                  </a:rPr>
                  <a:t>IV. kvadrant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86" name="Oblouk 27"/>
            <p:cNvSpPr/>
            <p:nvPr/>
          </p:nvSpPr>
          <p:spPr>
            <a:xfrm>
              <a:off x="2843280" y="2421000"/>
              <a:ext cx="2663640" cy="2629080"/>
            </a:xfrm>
            <a:custGeom>
              <a:avLst/>
              <a:gdLst>
                <a:gd name="textAreaLeft" fmla="*/ 254880 w 2663640"/>
                <a:gd name="textAreaRight" fmla="*/ 2663640 w 2663640"/>
                <a:gd name="textAreaTop" fmla="*/ 0 h 2629080"/>
                <a:gd name="textAreaBottom" fmla="*/ 1314720 h 2629080"/>
              </a:gdLst>
              <a:ahLst/>
              <a:rect l="textAreaLeft" t="textAreaTop" r="textAreaRight" b="textAreaBottom"/>
              <a:pathLst>
                <a:path stroke="0" w="2663825" h="2628900">
                  <a:moveTo>
                    <a:pt x="254890" y="541133"/>
                  </a:moveTo>
                  <a:lnTo>
                    <a:pt x="254890" y="541133"/>
                  </a:lnTo>
                  <a:arcTo wR="1331913" hR="1314450" stAng="-8659269" swAng="8659276"/>
                  <a:lnTo>
                    <a:pt x="1331913" y="1314450"/>
                  </a:lnTo>
                  <a:close/>
                </a:path>
                <a:path fill="none" w="2663825" h="2628900">
                  <a:moveTo>
                    <a:pt x="254890" y="541133"/>
                  </a:moveTo>
                  <a:lnTo>
                    <a:pt x="254890" y="541133"/>
                  </a:lnTo>
                  <a:arcTo wR="1331913" hR="1314450" stAng="-8659269" swAng="8659276"/>
                </a:path>
              </a:pathLst>
            </a:custGeom>
            <a:noFill/>
            <a:ln w="25560">
              <a:solidFill>
                <a:srgbClr val="2f2b2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sin 150°,  sin 210°, sin 330°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539640" y="1989000"/>
                <a:ext cx="382932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03280" y="3645000"/>
                <a:ext cx="38577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485640" y="5229360"/>
                <a:ext cx="5729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1" name="Skupina 25"/>
          <p:cNvGrpSpPr/>
          <p:nvPr/>
        </p:nvGrpSpPr>
        <p:grpSpPr>
          <a:xfrm>
            <a:off x="4500720" y="2133720"/>
            <a:ext cx="3527280" cy="2948400"/>
            <a:chOff x="4500720" y="2133720"/>
            <a:chExt cx="3527280" cy="2948400"/>
          </a:xfrm>
        </p:grpSpPr>
        <p:grpSp>
          <p:nvGrpSpPr>
            <p:cNvPr id="192" name="Skupina 27"/>
            <p:cNvGrpSpPr/>
            <p:nvPr/>
          </p:nvGrpSpPr>
          <p:grpSpPr>
            <a:xfrm>
              <a:off x="4500720" y="2133720"/>
              <a:ext cx="3527280" cy="2948400"/>
              <a:chOff x="4500720" y="2133720"/>
              <a:chExt cx="3527280" cy="2948400"/>
            </a:xfrm>
          </p:grpSpPr>
          <p:grpSp>
            <p:nvGrpSpPr>
              <p:cNvPr id="193" name="Skupina 10"/>
              <p:cNvGrpSpPr/>
              <p:nvPr/>
            </p:nvGrpSpPr>
            <p:grpSpPr>
              <a:xfrm>
                <a:off x="5424840" y="2133720"/>
                <a:ext cx="2561760" cy="2663280"/>
                <a:chOff x="5424840" y="2133720"/>
                <a:chExt cx="2561760" cy="2663280"/>
              </a:xfrm>
            </p:grpSpPr>
            <p:sp>
              <p:nvSpPr>
                <p:cNvPr id="194" name="Elipsa 40"/>
                <p:cNvSpPr/>
                <p:nvPr/>
              </p:nvSpPr>
              <p:spPr>
                <a:xfrm>
                  <a:off x="5584320" y="2568600"/>
                  <a:ext cx="2046600" cy="2047320"/>
                </a:xfrm>
                <a:prstGeom prst="ellipse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cxnSp>
              <p:nvCxnSpPr>
                <p:cNvPr id="195" name="Přímá spojovací šipka 41"/>
                <p:cNvCxnSpPr/>
                <p:nvPr/>
              </p:nvCxnSpPr>
              <p:spPr>
                <a:xfrm>
                  <a:off x="6630120" y="2295360"/>
                  <a:ext cx="1080" cy="250200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cxnSp>
              <p:nvCxnSpPr>
                <p:cNvPr id="196" name="Přímá spojovací šipka 42"/>
                <p:cNvCxnSpPr/>
                <p:nvPr/>
              </p:nvCxnSpPr>
              <p:spPr>
                <a:xfrm flipH="1">
                  <a:off x="5424840" y="3642480"/>
                  <a:ext cx="2501640" cy="1080"/>
                </a:xfrm>
                <a:prstGeom prst="straightConnector1">
                  <a:avLst/>
                </a:prstGeom>
                <a:ln w="25560">
                  <a:solidFill>
                    <a:srgbClr val="2f2b20"/>
                  </a:solidFill>
                  <a:miter/>
                  <a:headEnd len="med" type="arrow" w="med"/>
                </a:ln>
              </p:spPr>
            </p:cxnSp>
            <p:sp>
              <p:nvSpPr>
                <p:cNvPr id="197" name="TextovéPole 43"/>
                <p:cNvSpPr/>
                <p:nvPr/>
              </p:nvSpPr>
              <p:spPr>
                <a:xfrm>
                  <a:off x="7667640" y="321264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x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198" name="TextovéPole 44"/>
                <p:cNvSpPr/>
                <p:nvPr/>
              </p:nvSpPr>
              <p:spPr>
                <a:xfrm>
                  <a:off x="6659280" y="2133720"/>
                  <a:ext cx="3189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200" spc="-1" strike="noStrike">
                      <a:solidFill>
                        <a:srgbClr val="2f2b20"/>
                      </a:solidFill>
                      <a:latin typeface="Cambria"/>
                    </a:rPr>
                    <a:t>y</a:t>
                  </a:r>
                  <a:endParaRPr b="0" lang="en-US" sz="22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Přímá spojovací čára 32"/>
              <p:cNvSpPr/>
              <p:nvPr/>
            </p:nvSpPr>
            <p:spPr>
              <a:xfrm flipV="1">
                <a:off x="6631200" y="286992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0" name="Přímá spojovací čára 33"/>
              <p:cNvSpPr/>
              <p:nvPr/>
            </p:nvSpPr>
            <p:spPr>
              <a:xfrm>
                <a:off x="6631200" y="3643560"/>
                <a:ext cx="12286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1" name="Přímá spojovací čára 34"/>
              <p:cNvSpPr/>
              <p:nvPr/>
            </p:nvSpPr>
            <p:spPr>
              <a:xfrm flipH="1" flipV="1">
                <a:off x="5403960" y="2869920"/>
                <a:ext cx="12268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2" name="Přímá spojovací čára 7"/>
              <p:cNvSpPr/>
              <p:nvPr/>
            </p:nvSpPr>
            <p:spPr>
              <a:xfrm flipH="1">
                <a:off x="5403960" y="3643560"/>
                <a:ext cx="1226880" cy="77292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3" name="TextovéPole 36"/>
              <p:cNvSpPr/>
              <p:nvPr/>
            </p:nvSpPr>
            <p:spPr>
              <a:xfrm>
                <a:off x="7164360" y="3213000"/>
                <a:ext cx="27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4" name="TextovéPole 37"/>
              <p:cNvSpPr/>
              <p:nvPr/>
            </p:nvSpPr>
            <p:spPr>
              <a:xfrm>
                <a:off x="4788000" y="2421000"/>
                <a:ext cx="1251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5" name="TextovéPole 38"/>
              <p:cNvSpPr/>
              <p:nvPr/>
            </p:nvSpPr>
            <p:spPr>
              <a:xfrm>
                <a:off x="4500720" y="3789360"/>
                <a:ext cx="1224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180°+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6" name="TextovéPole 39"/>
              <p:cNvSpPr/>
              <p:nvPr/>
            </p:nvSpPr>
            <p:spPr>
              <a:xfrm>
                <a:off x="6732720" y="4653000"/>
                <a:ext cx="1295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200" spc="-1" strike="noStrike">
                    <a:solidFill>
                      <a:srgbClr val="ff0000"/>
                    </a:solidFill>
                    <a:latin typeface="Cambria"/>
                  </a:rPr>
                  <a:t>360°– </a:t>
                </a:r>
                <a:r>
                  <a:rPr b="0" lang="cs-CZ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07" name="TextovéPole 27"/>
            <p:cNvSpPr/>
            <p:nvPr/>
          </p:nvSpPr>
          <p:spPr>
            <a:xfrm>
              <a:off x="6012000" y="2637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8" name="TextovéPole 28"/>
            <p:cNvSpPr/>
            <p:nvPr/>
          </p:nvSpPr>
          <p:spPr>
            <a:xfrm>
              <a:off x="6732720" y="263700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9" name="TextovéPole 29"/>
            <p:cNvSpPr/>
            <p:nvPr/>
          </p:nvSpPr>
          <p:spPr>
            <a:xfrm>
              <a:off x="6085080" y="378936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0" name="TextovéPole 30"/>
            <p:cNvSpPr/>
            <p:nvPr/>
          </p:nvSpPr>
          <p:spPr>
            <a:xfrm>
              <a:off x="6732720" y="378936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4-28T08:56:05Z</dcterms:modified>
  <cp:revision>595</cp:revision>
  <dc:subject/>
  <dc:title>Název</dc:title>
</cp:coreProperties>
</file>