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926A-59AA-4F92-B4FE-B48595F4B5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342F-4E7F-4D78-8624-646D3973D8CB}" type="slidenum">
              <a:rPr b="0" lang="cs-CZ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A205-D885-48D2-B588-EAC42A95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03F0-DD18-4839-ABDA-1638016C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43C4-9BF9-421F-B594-228C1443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71AA-3176-4223-9086-50A1F8BF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E29D-3004-48A7-9962-0EE5C1ED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15B2-944B-4C48-934F-09ECB6B3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99E1-BBA4-4416-B2AB-3D17E4C3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B5AE-86BA-4C1C-B2EB-E6C4BCF9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8DD4-C9D1-4E75-8E30-A052FD2F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CE9-56F2-47B2-9044-CC66B354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7DD5-D453-442A-BEAD-AA34334C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5C89-C77D-45BC-A90E-C9514FA1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85E2-DF29-49A7-87EB-82D5511E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B262-4472-4D00-B0E1-4304715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6C2E-0EE7-4FED-8240-1C769E44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236C-96E9-4C8B-ABCC-C98E8495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771C-A053-44BE-9300-0F0C42A4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65F0-0D97-4642-94A7-70BEC3A6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6774-1047-42C9-8628-8B0CAEAA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BA4B-70EE-4D2D-AB26-DB8EE2BB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41D2-A9DA-4885-9E10-D0C2410E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55B6-685B-43BB-8480-2495EEED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6A36-A952-40CD-8ED8-3D49469F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2700-CA14-4628-BD58-202FA01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685A-162C-44F0-AEE3-0A0AC0BCBAD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2BB9-0978-4376-BCB3-916B86ED802B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FE5D-C351-4F14-A6D9-121071A931D1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57AD-8D40-42CF-8609-B336D50F6364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Logaritmus, </a:t>
            </a:r>
            <a:br>
              <a:rPr sz="6600"/>
            </a:b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věty o logaritmování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8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Nadpis 1"/>
          <p:cNvSpPr/>
          <p:nvPr/>
        </p:nvSpPr>
        <p:spPr>
          <a:xfrm>
            <a:off x="539640" y="3789360"/>
            <a:ext cx="7643880" cy="7192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6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Zapište jedním logaritmem: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3 + log 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971640" y="2060640"/>
                <a:ext cx="475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2590920" y="2852640"/>
                <a:ext cx="3213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Nadpis 1"/>
          <p:cNvSpPr/>
          <p:nvPr/>
        </p:nvSpPr>
        <p:spPr>
          <a:xfrm>
            <a:off x="539640" y="539640"/>
            <a:ext cx="7643880" cy="7192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Výraz  3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y</a:t>
            </a:r>
            <a:r>
              <a:rPr b="0" i="1" lang="cs-CZ" sz="2800" spc="-1" strike="noStrike" baseline="30000">
                <a:solidFill>
                  <a:srgbClr val="2f2b20"/>
                </a:solidFill>
                <a:latin typeface="Cambria"/>
              </a:rPr>
              <a:t>–</a:t>
            </a:r>
            <a:r>
              <a:rPr b="0" lang="cs-CZ" sz="28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vyjádřete užitím logaritmů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971640" y="4869000"/>
                <a:ext cx="5367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TextovéPole 11"/>
          <p:cNvSpPr/>
          <p:nvPr/>
        </p:nvSpPr>
        <p:spPr>
          <a:xfrm>
            <a:off x="539640" y="5661000"/>
            <a:ext cx="3888000" cy="6426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Trojku nahradíme logaritmem o základu 10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1" name="TextovéPole 12"/>
          <p:cNvSpPr/>
          <p:nvPr/>
        </p:nvSpPr>
        <p:spPr>
          <a:xfrm>
            <a:off x="539640" y="162864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K logaritmování užijeme dekadický logaritmus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3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dotisk 1. vydání: ISBN -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3]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LOGARITMUS, VĚTY O LOGARITMOV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1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708360" cy="3448080"/>
          </a:xfrm>
          <a:prstGeom prst="rect">
            <a:avLst/>
          </a:prstGeom>
          <a:ln w="0">
            <a:noFill/>
          </a:ln>
        </p:spPr>
      </p:pic>
      <p:sp>
        <p:nvSpPr>
          <p:cNvPr id="102" name="Nadpis 1"/>
          <p:cNvSpPr/>
          <p:nvPr/>
        </p:nvSpPr>
        <p:spPr>
          <a:xfrm>
            <a:off x="539640" y="549360"/>
            <a:ext cx="7643880" cy="1150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Určete hodnotu funkce 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log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2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 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v bodě 8, tj. log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8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3" name="TextovéPole 15"/>
          <p:cNvSpPr/>
          <p:nvPr/>
        </p:nvSpPr>
        <p:spPr>
          <a:xfrm>
            <a:off x="5003640" y="2060640"/>
            <a:ext cx="3168720" cy="2637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tup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yužijeme toho, že funkce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= log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je inverzní k funkci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= 2</a:t>
            </a:r>
            <a:r>
              <a:rPr b="0" i="1" lang="cs-CZ" sz="1800" spc="-1" strike="noStrike" baseline="30000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hledáme pak takové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 které podle předpisu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= 2</a:t>
            </a:r>
            <a:r>
              <a:rPr b="0" i="1" lang="cs-CZ" sz="1800" spc="-1" strike="noStrike" baseline="30000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řiřazuje hodnotu 8,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řešením exponenciální rovnice 2</a:t>
            </a:r>
            <a:r>
              <a:rPr b="0" i="1" lang="cs-CZ" sz="1800" spc="-1" strike="noStrike" baseline="30000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= 8 je 3,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tj. log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2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8 = 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4" name="TextovéPole 18"/>
          <p:cNvSpPr/>
          <p:nvPr/>
        </p:nvSpPr>
        <p:spPr>
          <a:xfrm>
            <a:off x="2627280" y="184464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5" name="TextovéPole 19"/>
          <p:cNvSpPr/>
          <p:nvPr/>
        </p:nvSpPr>
        <p:spPr>
          <a:xfrm>
            <a:off x="1979640" y="515772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6" name="TextovéPole 8"/>
          <p:cNvSpPr/>
          <p:nvPr/>
        </p:nvSpPr>
        <p:spPr>
          <a:xfrm>
            <a:off x="539640" y="5661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logaritmus čísla 8 o základu 2 je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takové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číslo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kterým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umocníme základ 2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bychom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získali číslo 8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Co je logaritmus?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1413000"/>
            <a:ext cx="7620120" cy="2457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Logaritmus čísla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</a:t>
            </a:r>
            <a:r>
              <a:rPr b="0" lang="cs-CZ" sz="2800" spc="-1" strike="noStrike" baseline="30000">
                <a:solidFill>
                  <a:srgbClr val="2f2b20"/>
                </a:solidFill>
                <a:latin typeface="Cambria"/>
              </a:rPr>
              <a:t>+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o základ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</a:t>
            </a:r>
            <a:r>
              <a:rPr b="0" lang="cs-CZ" sz="2800" spc="-1" strike="noStrike" baseline="30000">
                <a:solidFill>
                  <a:srgbClr val="2f2b20"/>
                </a:solidFill>
                <a:latin typeface="Cambria"/>
              </a:rPr>
              <a:t>+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\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je takové číslo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kterým musíme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umocnit základ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abychom získali číslo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9" name="TextovéPole 3"/>
          <p:cNvSpPr/>
          <p:nvPr/>
        </p:nvSpPr>
        <p:spPr>
          <a:xfrm>
            <a:off x="468360" y="4437000"/>
            <a:ext cx="7632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= 10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užíváme zkrácený zápis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log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 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dekadický logaritmu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=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e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(Eulerovo číslo e = 2,718…) používáme zápis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ln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 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přirozený logaritmu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1692360" y="3068640"/>
                <a:ext cx="530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Nadpis 1"/>
          <p:cNvSpPr/>
          <p:nvPr/>
        </p:nvSpPr>
        <p:spPr>
          <a:xfrm>
            <a:off x="539640" y="549360"/>
            <a:ext cx="7643880" cy="17272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Určete hodnotu funkce 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log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 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lvl="3" marL="457200" indent="450720">
              <a:lnSpc>
                <a:spcPct val="100000"/>
              </a:lnSpc>
              <a:spcBef>
                <a:spcPts val="524"/>
              </a:spcBef>
              <a:buClr>
                <a:srgbClr val="2f2b20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v bodě 1, tj. log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  <a:ea typeface="Arial"/>
              </a:rPr>
              <a:t>10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1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lvl="3" marL="457200" indent="450720">
              <a:lnSpc>
                <a:spcPct val="100000"/>
              </a:lnSpc>
              <a:spcBef>
                <a:spcPts val="524"/>
              </a:spcBef>
              <a:buClr>
                <a:srgbClr val="2f2b20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v bodě 10, tj. log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  <a:ea typeface="Arial"/>
              </a:rPr>
              <a:t>10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10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1979640" y="2709720"/>
                <a:ext cx="14256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5724360" y="2709720"/>
                <a:ext cx="1733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TextovéPole 10"/>
          <p:cNvSpPr/>
          <p:nvPr/>
        </p:nvSpPr>
        <p:spPr>
          <a:xfrm>
            <a:off x="611280" y="4508640"/>
            <a:ext cx="7561080" cy="13244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šimněte si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Logaritmus jedné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ři libovolném základu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&gt; 0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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1 j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nula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!!!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ři libovolném základu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&gt; 0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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1 j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logaritmus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tohoto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základu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roven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jedné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!!!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5" name="TextovéPole 11"/>
          <p:cNvSpPr/>
          <p:nvPr/>
        </p:nvSpPr>
        <p:spPr>
          <a:xfrm>
            <a:off x="1187280" y="2637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f2b20"/>
                </a:solidFill>
                <a:latin typeface="Cambria"/>
              </a:rPr>
              <a:t>a)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6" name="TextovéPole 13"/>
          <p:cNvSpPr/>
          <p:nvPr/>
        </p:nvSpPr>
        <p:spPr>
          <a:xfrm>
            <a:off x="5003640" y="2637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f2b20"/>
                </a:solidFill>
                <a:latin typeface="Cambria"/>
              </a:rPr>
              <a:t>b)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7" name="Oválný popisek 14"/>
          <p:cNvSpPr/>
          <p:nvPr/>
        </p:nvSpPr>
        <p:spPr>
          <a:xfrm>
            <a:off x="5076720" y="1341360"/>
            <a:ext cx="3240360" cy="936720"/>
          </a:xfrm>
          <a:prstGeom prst="wedgeEllipseCallout">
            <a:avLst>
              <a:gd name="adj1" fmla="val -71407"/>
              <a:gd name="adj2" fmla="val 127870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Základ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 logaritmu umocním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na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ěty o logaritmech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280" y="1402920"/>
            <a:ext cx="7620120" cy="585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Pro každé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&gt; 0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1 a všechna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</a:t>
            </a:r>
            <a:r>
              <a:rPr b="0" lang="cs-CZ" sz="2800" spc="-1" strike="noStrike" baseline="30000">
                <a:solidFill>
                  <a:srgbClr val="2f2b20"/>
                </a:solidFill>
                <a:latin typeface="Cambria"/>
              </a:rPr>
              <a:t>+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platí: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20" name="Zástupný symbol pro obsah 2"/>
          <p:cNvSpPr/>
          <p:nvPr/>
        </p:nvSpPr>
        <p:spPr>
          <a:xfrm>
            <a:off x="539640" y="2340000"/>
            <a:ext cx="7620120" cy="1584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514080">
              <a:lnSpc>
                <a:spcPct val="100000"/>
              </a:lnSpc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log</a:t>
            </a:r>
            <a:r>
              <a:rPr b="0" i="1" lang="cs-CZ" sz="2800" spc="-1" strike="noStrike" baseline="-25000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i="1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 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) = log</a:t>
            </a:r>
            <a:r>
              <a:rPr b="0" i="1" lang="cs-CZ" sz="2800" spc="-1" strike="noStrike" baseline="-25000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+ log</a:t>
            </a:r>
            <a:r>
              <a:rPr b="0" i="1" lang="cs-CZ" sz="2800" spc="-1" strike="noStrike" baseline="-25000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lvl="1" marL="531720" indent="2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„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Logaritmus součinu dvou kladných čísel je roven součtu logaritmů jednotlivých činitelů.“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marL="609480" indent="-514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1133640" y="4329000"/>
                <a:ext cx="53085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ovéPole 6"/>
          <p:cNvSpPr/>
          <p:nvPr/>
        </p:nvSpPr>
        <p:spPr>
          <a:xfrm>
            <a:off x="468360" y="429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f2b20"/>
                </a:solidFill>
                <a:latin typeface="Cambria"/>
              </a:rPr>
              <a:t>Př.: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3" name="TextovéPole 8"/>
          <p:cNvSpPr/>
          <p:nvPr/>
        </p:nvSpPr>
        <p:spPr>
          <a:xfrm>
            <a:off x="539640" y="5589720"/>
            <a:ext cx="4537080" cy="6426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Jednotlivé logaritmy jsou desetinná čísla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užitím věty výsledek zpřesním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obsah 2"/>
          <p:cNvSpPr/>
          <p:nvPr/>
        </p:nvSpPr>
        <p:spPr>
          <a:xfrm>
            <a:off x="539640" y="539640"/>
            <a:ext cx="7620120" cy="1449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514080">
              <a:lnSpc>
                <a:spcPct val="100000"/>
              </a:lnSpc>
              <a:buClr>
                <a:srgbClr val="a9a57c"/>
              </a:buClr>
              <a:buFont typeface="Cambr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log</a:t>
            </a:r>
            <a:r>
              <a:rPr b="0" i="1" lang="cs-CZ" sz="2800" spc="-1" strike="noStrike" baseline="-25000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: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 y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) = log</a:t>
            </a:r>
            <a:r>
              <a:rPr b="0" i="1" lang="cs-CZ" sz="2800" spc="-1" strike="noStrike" baseline="-25000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– log</a:t>
            </a:r>
            <a:r>
              <a:rPr b="0" i="1" lang="cs-CZ" sz="2800" spc="-1" strike="noStrike" baseline="-25000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lvl="1" marL="531720" indent="2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„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Logaritmus podílu dvou kladných čísel je roven rozdílu logaritmů jednotlivých činitelů.“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marL="609480" indent="-514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1332000" y="2133720"/>
                <a:ext cx="472104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ovéPole 6"/>
          <p:cNvSpPr/>
          <p:nvPr/>
        </p:nvSpPr>
        <p:spPr>
          <a:xfrm>
            <a:off x="444600" y="2340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f2b20"/>
                </a:solidFill>
                <a:latin typeface="Cambria"/>
              </a:rPr>
              <a:t>Př.: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7" name="Zástupný symbol pro obsah 2"/>
          <p:cNvSpPr/>
          <p:nvPr/>
        </p:nvSpPr>
        <p:spPr>
          <a:xfrm>
            <a:off x="539640" y="3789360"/>
            <a:ext cx="7620120" cy="1440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514080">
              <a:lnSpc>
                <a:spcPct val="100000"/>
              </a:lnSpc>
              <a:buClr>
                <a:srgbClr val="a9a57c"/>
              </a:buClr>
              <a:buFont typeface="Cambr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log</a:t>
            </a:r>
            <a:r>
              <a:rPr b="0" i="1" lang="cs-CZ" sz="2800" spc="-1" strike="noStrike" baseline="-25000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i="1" lang="cs-CZ" sz="2800" spc="-1" strike="noStrike" baseline="30000">
                <a:solidFill>
                  <a:srgbClr val="2f2b20"/>
                </a:solidFill>
                <a:latin typeface="Cambria"/>
              </a:rPr>
              <a:t>n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n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log</a:t>
            </a:r>
            <a:r>
              <a:rPr b="0" i="1" lang="cs-CZ" sz="2800" spc="-1" strike="noStrike" baseline="-25000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lvl="1" marL="531720" indent="2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„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Logaritmus mocniny kladného čísla je roven součinu mocnitele a logaritmu.“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  <a:ea typeface="Arial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marL="609480" indent="-514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1258920" y="5551560"/>
                <a:ext cx="5362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,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TextovéPole 12"/>
          <p:cNvSpPr/>
          <p:nvPr/>
        </p:nvSpPr>
        <p:spPr>
          <a:xfrm>
            <a:off x="539640" y="5589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f2b20"/>
                </a:solidFill>
                <a:latin typeface="Cambria"/>
              </a:rPr>
              <a:t>Př.: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Nadpis 1"/>
          <p:cNvSpPr/>
          <p:nvPr/>
        </p:nvSpPr>
        <p:spPr>
          <a:xfrm>
            <a:off x="539640" y="549360"/>
            <a:ext cx="7596360" cy="792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Vypočtěte:    2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log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6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3 + 3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log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6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2 – log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6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12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971640" y="1844640"/>
                <a:ext cx="405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ovéPole 10"/>
          <p:cNvSpPr/>
          <p:nvPr/>
        </p:nvSpPr>
        <p:spPr>
          <a:xfrm>
            <a:off x="539640" y="4932360"/>
            <a:ext cx="4753080" cy="6426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tože všechny logaritmy jsou o stejném základu, můžeme použít vět o logaritmech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Oválný popisek 14"/>
          <p:cNvSpPr/>
          <p:nvPr/>
        </p:nvSpPr>
        <p:spPr>
          <a:xfrm>
            <a:off x="5364000" y="3860640"/>
            <a:ext cx="2953080" cy="792360"/>
          </a:xfrm>
          <a:prstGeom prst="wedgeEllipseCallout">
            <a:avLst>
              <a:gd name="adj1" fmla="val -67166"/>
              <a:gd name="adj2" fmla="val -52013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Základ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 logaritmu umocním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na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971640" y="2492280"/>
                <a:ext cx="3716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971640" y="3141720"/>
                <a:ext cx="4527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Oválný popisek 7"/>
          <p:cNvSpPr/>
          <p:nvPr/>
        </p:nvSpPr>
        <p:spPr>
          <a:xfrm>
            <a:off x="5724360" y="1628640"/>
            <a:ext cx="2016360" cy="1152720"/>
          </a:xfrm>
          <a:prstGeom prst="wedgeEllipseCallout">
            <a:avLst>
              <a:gd name="adj1" fmla="val -82842"/>
              <a:gd name="adj2" fmla="val -12500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ěta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o logaritmu mocnin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Nadpis 1"/>
          <p:cNvSpPr/>
          <p:nvPr/>
        </p:nvSpPr>
        <p:spPr>
          <a:xfrm>
            <a:off x="539640" y="549360"/>
            <a:ext cx="7643880" cy="1224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Určete 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pro které platí: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log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0,5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log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+ 2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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log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b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971640" y="2133720"/>
                <a:ext cx="3382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ovéPole 10"/>
          <p:cNvSpPr/>
          <p:nvPr/>
        </p:nvSpPr>
        <p:spPr>
          <a:xfrm>
            <a:off x="611280" y="5229360"/>
            <a:ext cx="7561080" cy="3682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Vět o logaritmech využíváme i při řešení logaritmických rovnic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0" name="Oválný popisek 14"/>
          <p:cNvSpPr/>
          <p:nvPr/>
        </p:nvSpPr>
        <p:spPr>
          <a:xfrm>
            <a:off x="4788000" y="3645000"/>
            <a:ext cx="2448000" cy="936360"/>
          </a:xfrm>
          <a:prstGeom prst="wedgeEllipseCallout">
            <a:avLst>
              <a:gd name="adj1" fmla="val -118981"/>
              <a:gd name="adj2" fmla="val 50967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Hledaný logaritmovaný výraz je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3"/>
              <p:cNvSpPr txBox="1"/>
              <p:nvPr/>
            </p:nvSpPr>
            <p:spPr>
              <a:xfrm>
                <a:off x="1692360" y="2851200"/>
                <a:ext cx="2235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692360" y="3500280"/>
                <a:ext cx="16477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476360" y="4292640"/>
                <a:ext cx="14828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Oválný popisek 8"/>
          <p:cNvSpPr/>
          <p:nvPr/>
        </p:nvSpPr>
        <p:spPr>
          <a:xfrm>
            <a:off x="5651640" y="1628640"/>
            <a:ext cx="2016000" cy="1152720"/>
          </a:xfrm>
          <a:prstGeom prst="wedgeEllipseCallout">
            <a:avLst>
              <a:gd name="adj1" fmla="val -116009"/>
              <a:gd name="adj2" fmla="val 34884"/>
            </a:avLst>
          </a:prstGeom>
          <a:solidFill>
            <a:srgbClr val="ff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ěta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o logaritmu mocnin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Olda</cp:lastModifiedBy>
  <dcterms:modified xsi:type="dcterms:W3CDTF">2014-03-27T08:20:45Z</dcterms:modified>
  <cp:revision>585</cp:revision>
  <dc:subject/>
  <dc:title>Název</dc:title>
</cp:coreProperties>
</file>