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713F-C812-42C8-9E05-6A61F2A3AC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09BA-3433-468E-A526-E5169DE3FDAC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2ABA-8227-44C2-BAF2-3B1E7A54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3816-93C6-423D-B874-DD186C9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0758-29DD-48B6-9CAA-96A8E268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F98B-2657-414B-A764-FC823DC5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4A93-C0FC-4973-8F00-BCF2D0EF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527-EB8E-4943-9B4E-EDFC50F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9AC-78F8-4CDF-943A-FD61234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1C59-2467-43C9-980A-C55706B5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3A0F-A115-48A3-B7D4-22ED07F6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D042-4CD8-4432-90F4-C96BB1C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F9BF-A2A6-4D66-987C-21BEBDD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DE02-8F01-4E7C-BCC8-E00473BF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2E7-96F4-476C-9ADD-A833D1E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A759-42BB-4804-8C73-D6C5467C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6B10-8F4B-438D-A9D7-7DCF26F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1EE5-A4B8-4A2C-A5B4-5407F195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C755-1E46-400D-B640-02FEE04C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62BE-42E0-4B45-9500-10580FB4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C02A-B01C-42B8-A5A8-B02305CC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7EF8-A805-4AC6-B57C-160DFD9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3F47-65AE-4BAC-B1E9-4FA5394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8659-0C47-43D0-AEBC-CFA90E0F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5F89-1C7C-4776-A35B-E1BFF92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99B4-A01C-4A89-B8FC-5539208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63F0-911E-4D34-A5AC-F6B736D86659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E150-A7C5-4549-BA30-0C6995133575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FB1-E24E-4CE6-975A-E371BD19469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7B40-5171-49D8-81F7-9DFAF81BDA9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Kvadratická funkce II.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68360" y="1844640"/>
                <a:ext cx="7004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Oválný popisek 2"/>
          <p:cNvSpPr/>
          <p:nvPr/>
        </p:nvSpPr>
        <p:spPr>
          <a:xfrm>
            <a:off x="4716360" y="2708280"/>
            <a:ext cx="3240360" cy="865080"/>
          </a:xfrm>
          <a:prstGeom prst="wedgeEllipseCallout">
            <a:avLst>
              <a:gd name="adj1" fmla="val 13027"/>
              <a:gd name="adj2" fmla="val -85888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ouřadnice vrcholu funkce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2,8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7" name="Zástupný symbol pro obsah 2"/>
          <p:cNvSpPr/>
          <p:nvPr/>
        </p:nvSpPr>
        <p:spPr>
          <a:xfrm>
            <a:off x="468360" y="4005360"/>
            <a:ext cx="7561080" cy="718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emědělec by měl postavit výběh tak, aby jeho boční strany měly délku 2 m a jeho délka byla 4 m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8" name="Zástupný symbol pro obsah 2"/>
          <p:cNvSpPr/>
          <p:nvPr/>
        </p:nvSpPr>
        <p:spPr>
          <a:xfrm>
            <a:off x="468360" y="620640"/>
            <a:ext cx="7561080" cy="720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běh bude mít max. obsah ve vrcholu funkce, který určíme úpravou předpisu doplněním na rozdíl čtverců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659640" y="450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0" name="Nadpis 1"/>
          <p:cNvSpPr/>
          <p:nvPr/>
        </p:nvSpPr>
        <p:spPr>
          <a:xfrm>
            <a:off x="468360" y="404640"/>
            <a:ext cx="7620120" cy="1224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:</a:t>
            </a:r>
            <a:r>
              <a:rPr b="0" lang="cs-CZ" sz="46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Zahrada tvaru obdélníku má obsah 448 m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1" name="Zástupný symbol pro obsah 2"/>
          <p:cNvSpPr/>
          <p:nvPr/>
        </p:nvSpPr>
        <p:spPr>
          <a:xfrm>
            <a:off x="468360" y="1989000"/>
            <a:ext cx="756108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é jsou její rozměry, jestliže její délka je o 12 m větší než její šířka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755640" y="3141720"/>
                <a:ext cx="1147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471600" y="3573360"/>
                <a:ext cx="2239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826920" y="4005360"/>
                <a:ext cx="23529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3851280" y="3789360"/>
                <a:ext cx="31910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684760" y="4581360"/>
                <a:ext cx="12780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Zástupný symbol pro obsah 2"/>
          <p:cNvSpPr/>
          <p:nvPr/>
        </p:nvSpPr>
        <p:spPr>
          <a:xfrm>
            <a:off x="611280" y="5445000"/>
            <a:ext cx="4681440" cy="43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změry zahrady jsou 28 m a 12 m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9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KVADRATICKÁ FUNKCE I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5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Nadpis 1"/>
          <p:cNvSpPr/>
          <p:nvPr/>
        </p:nvSpPr>
        <p:spPr>
          <a:xfrm>
            <a:off x="46836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:</a:t>
            </a:r>
            <a:r>
              <a:rPr b="0" lang="cs-CZ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Zjistěte pro funkci :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+ 5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+ 6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funkční hodnoty v bodech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-1)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0)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2)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2" name="Nadpis 1"/>
          <p:cNvSpPr/>
          <p:nvPr/>
        </p:nvSpPr>
        <p:spPr>
          <a:xfrm>
            <a:off x="539640" y="3933720"/>
            <a:ext cx="7643880" cy="790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14440" indent="-514440">
              <a:lnSpc>
                <a:spcPct val="100000"/>
              </a:lnSpc>
              <a:buClr>
                <a:srgbClr val="2f2b20"/>
              </a:buClr>
              <a:buFont typeface="Cambri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pro jaké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 bu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(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) = 0?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468360" y="1989000"/>
                <a:ext cx="4038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468360" y="2565360"/>
                <a:ext cx="3478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468360" y="314172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539640" y="4941720"/>
                <a:ext cx="42958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547640" y="5589720"/>
                <a:ext cx="23464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4572000" y="5994360"/>
            <a:ext cx="86364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2021040" y="2178000"/>
                <a:ext cx="2625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719280" y="2781360"/>
                <a:ext cx="1203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719280" y="3284640"/>
                <a:ext cx="979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627280" y="2781360"/>
                <a:ext cx="981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841480" y="3321000"/>
                <a:ext cx="1708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Přímá spojovací čára 10"/>
          <p:cNvSpPr/>
          <p:nvPr/>
        </p:nvSpPr>
        <p:spPr>
          <a:xfrm>
            <a:off x="2484360" y="4292640"/>
            <a:ext cx="208908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Přímá spojovací čára 11"/>
          <p:cNvSpPr/>
          <p:nvPr/>
        </p:nvSpPr>
        <p:spPr>
          <a:xfrm>
            <a:off x="2411280" y="2708280"/>
            <a:ext cx="20894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6" name="Elipsa 12"/>
          <p:cNvSpPr/>
          <p:nvPr/>
        </p:nvSpPr>
        <p:spPr>
          <a:xfrm>
            <a:off x="1427040" y="278136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7" name="Přímá spojovací šipka 13"/>
          <p:cNvCxnSpPr/>
          <p:nvPr/>
        </p:nvCxnSpPr>
        <p:spPr>
          <a:xfrm flipV="1">
            <a:off x="1859040" y="2996640"/>
            <a:ext cx="721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18" name="Skupina 18"/>
          <p:cNvGrpSpPr/>
          <p:nvPr/>
        </p:nvGrpSpPr>
        <p:grpSpPr>
          <a:xfrm>
            <a:off x="4643280" y="4437000"/>
            <a:ext cx="792360" cy="847800"/>
            <a:chOff x="4643280" y="4437000"/>
            <a:chExt cx="792360" cy="847800"/>
          </a:xfrm>
        </p:grpSpPr>
        <p:sp>
          <p:nvSpPr>
            <p:cNvPr id="119" name="Pravá složená závorka 15"/>
            <p:cNvSpPr/>
            <p:nvPr/>
          </p:nvSpPr>
          <p:spPr>
            <a:xfrm>
              <a:off x="4643280" y="4437000"/>
              <a:ext cx="144360" cy="8478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847800"/>
                <a:gd name="textAreaBottom" fmla="*/ 84420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4"/>
                    <a:pt x="10800" y="307"/>
                  </a:cubicBezTo>
                  <a:lnTo>
                    <a:pt x="10800" y="10493"/>
                  </a:lnTo>
                  <a:cubicBezTo>
                    <a:pt x="10800" y="10647"/>
                    <a:pt x="16200" y="10800"/>
                    <a:pt x="21600" y="10800"/>
                  </a:cubicBezTo>
                  <a:cubicBezTo>
                    <a:pt x="16200" y="10800"/>
                    <a:pt x="10800" y="10954"/>
                    <a:pt x="10800" y="11107"/>
                  </a:cubicBezTo>
                  <a:lnTo>
                    <a:pt x="10800" y="21293"/>
                  </a:lnTo>
                  <a:cubicBezTo>
                    <a:pt x="10800" y="21447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0" name="TextovéPole 16"/>
            <p:cNvSpPr/>
            <p:nvPr/>
          </p:nvSpPr>
          <p:spPr>
            <a:xfrm>
              <a:off x="4930560" y="450036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5645160" y="4653000"/>
                <a:ext cx="1373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7062840" y="5086440"/>
                <a:ext cx="1179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484360" y="5805360"/>
                <a:ext cx="2455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Nadpis 1"/>
          <p:cNvSpPr/>
          <p:nvPr/>
        </p:nvSpPr>
        <p:spPr>
          <a:xfrm>
            <a:off x="468360" y="5805360"/>
            <a:ext cx="1763640" cy="505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vnice funkce j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Nadpis 1"/>
          <p:cNvSpPr/>
          <p:nvPr/>
        </p:nvSpPr>
        <p:spPr>
          <a:xfrm>
            <a:off x="46836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:</a:t>
            </a:r>
            <a:r>
              <a:rPr b="0" lang="cs-CZ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pište rovnici kvadratické funkce, jejíž graf prochází body 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,-3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B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1,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C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-1,-4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Oválný popisek 39"/>
          <p:cNvSpPr/>
          <p:nvPr/>
        </p:nvSpPr>
        <p:spPr>
          <a:xfrm>
            <a:off x="5219640" y="1628640"/>
            <a:ext cx="2303640" cy="1152720"/>
          </a:xfrm>
          <a:prstGeom prst="wedgeEllipseCallout">
            <a:avLst>
              <a:gd name="adj1" fmla="val -87134"/>
              <a:gd name="adj2" fmla="val 91962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Úlohu řešíme jako soustavu 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719280" y="3789360"/>
                <a:ext cx="1284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2556000" y="3860640"/>
                <a:ext cx="1931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2855880" y="4402080"/>
                <a:ext cx="1679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2556000" y="4941720"/>
                <a:ext cx="1931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Přímá spojovací čára 28"/>
          <p:cNvSpPr/>
          <p:nvPr/>
        </p:nvSpPr>
        <p:spPr>
          <a:xfrm>
            <a:off x="2411280" y="5373720"/>
            <a:ext cx="20894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6084720" y="5084640"/>
                <a:ext cx="729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227640" y="4797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620120" cy="64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:</a:t>
            </a:r>
            <a:r>
              <a:rPr b="0" lang="cs-CZ" sz="46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průsečík funkcí daných rovnicemi: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967040" y="2276640"/>
                <a:ext cx="1280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1992240" y="1700280"/>
                <a:ext cx="2513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Přímá spojovací čára 5"/>
          <p:cNvSpPr/>
          <p:nvPr/>
        </p:nvSpPr>
        <p:spPr>
          <a:xfrm>
            <a:off x="1979640" y="2924280"/>
            <a:ext cx="208908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2022480" y="4869000"/>
                <a:ext cx="2293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4862520" y="4869000"/>
                <a:ext cx="1171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Oválný popisek 13"/>
          <p:cNvSpPr/>
          <p:nvPr/>
        </p:nvSpPr>
        <p:spPr>
          <a:xfrm>
            <a:off x="5003640" y="1916280"/>
            <a:ext cx="2951280" cy="1295280"/>
          </a:xfrm>
          <a:prstGeom prst="wedgeEllipseCallout">
            <a:avLst>
              <a:gd name="adj1" fmla="val -89837"/>
              <a:gd name="adj2" fmla="val 84310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Úlohu řešíme jako soustavu rovnic, např. m. porovnávac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TextovéPole 19"/>
          <p:cNvSpPr/>
          <p:nvPr/>
        </p:nvSpPr>
        <p:spPr>
          <a:xfrm>
            <a:off x="46836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OČETNĚ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"/>
              <p:cNvSpPr txBox="1"/>
              <p:nvPr/>
            </p:nvSpPr>
            <p:spPr>
              <a:xfrm>
                <a:off x="1258920" y="3068640"/>
                <a:ext cx="1982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258920" y="3500280"/>
                <a:ext cx="2011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4"/>
              <p:cNvSpPr txBox="1"/>
              <p:nvPr/>
            </p:nvSpPr>
            <p:spPr>
              <a:xfrm>
                <a:off x="857160" y="4005360"/>
                <a:ext cx="2430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5" name="Přímá spojovací šipka 20"/>
          <p:cNvCxnSpPr/>
          <p:nvPr/>
        </p:nvCxnSpPr>
        <p:spPr>
          <a:xfrm>
            <a:off x="1692360" y="4508640"/>
            <a:ext cx="288000" cy="57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2003400" y="5300640"/>
                <a:ext cx="2181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4859280" y="5373720"/>
                <a:ext cx="976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468360" y="6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GRAFICKY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TextovéPole 9"/>
          <p:cNvSpPr/>
          <p:nvPr/>
        </p:nvSpPr>
        <p:spPr>
          <a:xfrm>
            <a:off x="1979640" y="620640"/>
            <a:ext cx="612144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Načrtneme grafy jednotlivých funkcí a kde se přímky protnou, je hledané řešen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6227640" y="2421000"/>
                <a:ext cx="1281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5796000" y="1628640"/>
                <a:ext cx="2512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5724360" y="3068640"/>
                <a:ext cx="976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826920" y="2133720"/>
                <a:ext cx="1171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620120" cy="1152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:</a:t>
            </a:r>
            <a:r>
              <a:rPr b="0" lang="cs-CZ" sz="46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675e47"/>
                </a:solidFill>
                <a:latin typeface="Cambria"/>
              </a:rPr>
              <a:t>Zvýší-li vlak rychlost o 9 km/h, ujede    180 km o hodinu dříve než předtím. 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6" name="Zástupný symbol pro obsah 2"/>
          <p:cNvSpPr/>
          <p:nvPr/>
        </p:nvSpPr>
        <p:spPr>
          <a:xfrm>
            <a:off x="468360" y="1844640"/>
            <a:ext cx="7561080" cy="504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a jak dlouho projel vlak tuto trať při původní rychlosti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3708360" y="2708280"/>
                <a:ext cx="10033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539640" y="3716280"/>
                <a:ext cx="2791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Zástupný symbol pro obsah 2"/>
          <p:cNvSpPr/>
          <p:nvPr/>
        </p:nvSpPr>
        <p:spPr>
          <a:xfrm>
            <a:off x="395280" y="3213000"/>
            <a:ext cx="36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rychlost vlaku před zrychlením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0" name="Zástupný symbol pro obsah 2"/>
          <p:cNvSpPr/>
          <p:nvPr/>
        </p:nvSpPr>
        <p:spPr>
          <a:xfrm>
            <a:off x="4572000" y="3213000"/>
            <a:ext cx="36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rychlost vlaku po zrychlení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4716360" y="3645000"/>
                <a:ext cx="2567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4716360" y="4221000"/>
                <a:ext cx="3068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716360" y="5119560"/>
                <a:ext cx="320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3708360" y="2997360"/>
            <a:ext cx="863640" cy="86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684360" y="692280"/>
                <a:ext cx="23698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851280" y="981000"/>
                <a:ext cx="449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684360" y="1628640"/>
                <a:ext cx="2565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724200" y="1844640"/>
                <a:ext cx="561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84360" y="2276640"/>
                <a:ext cx="18684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684360" y="2924280"/>
                <a:ext cx="3402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Zástupný symbol pro obsah 2"/>
          <p:cNvSpPr/>
          <p:nvPr/>
        </p:nvSpPr>
        <p:spPr>
          <a:xfrm>
            <a:off x="468360" y="4076640"/>
            <a:ext cx="756108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lak trať dlouhou 180 km projel vlak při původní rychlosti za 5 hodin.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Nadpis 1"/>
          <p:cNvSpPr/>
          <p:nvPr/>
        </p:nvSpPr>
        <p:spPr>
          <a:xfrm>
            <a:off x="468360" y="404640"/>
            <a:ext cx="7620120" cy="1729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:</a:t>
            </a:r>
            <a:r>
              <a:rPr b="0" lang="cs-CZ" sz="46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Hospodář chce oplotit výběh kuřatům. Jednu stranu obdélníkového výběhu tvoří zeď.    K dispozici má 8 m pletiva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Zástupný symbol pro obsah 2"/>
          <p:cNvSpPr/>
          <p:nvPr/>
        </p:nvSpPr>
        <p:spPr>
          <a:xfrm>
            <a:off x="468360" y="2421000"/>
            <a:ext cx="7561080" cy="503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é rozměry musí mít výběh, aby měl co největší obsah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74" name="Skupina 17"/>
          <p:cNvGrpSpPr/>
          <p:nvPr/>
        </p:nvGrpSpPr>
        <p:grpSpPr>
          <a:xfrm>
            <a:off x="684360" y="3357360"/>
            <a:ext cx="1584000" cy="2950920"/>
            <a:chOff x="684360" y="3357360"/>
            <a:chExt cx="1584000" cy="2950920"/>
          </a:xfrm>
        </p:grpSpPr>
        <p:sp>
          <p:nvSpPr>
            <p:cNvPr id="175" name="Obdélník 4"/>
            <p:cNvSpPr/>
            <p:nvPr/>
          </p:nvSpPr>
          <p:spPr>
            <a:xfrm rot="16200000">
              <a:off x="-466920" y="4509000"/>
              <a:ext cx="2950920" cy="647640"/>
            </a:xfrm>
            <a:prstGeom prst="rect">
              <a:avLst/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6" name="Obdélník 5"/>
            <p:cNvSpPr/>
            <p:nvPr/>
          </p:nvSpPr>
          <p:spPr>
            <a:xfrm rot="16200000">
              <a:off x="792000" y="4411440"/>
              <a:ext cx="2016000" cy="936360"/>
            </a:xfrm>
            <a:prstGeom prst="rect">
              <a:avLst/>
            </a:prstGeom>
            <a:solidFill>
              <a:srgbClr val="e9d9be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77" name="TextovéPole 6"/>
          <p:cNvSpPr/>
          <p:nvPr/>
        </p:nvSpPr>
        <p:spPr>
          <a:xfrm>
            <a:off x="1547640" y="58770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TextovéPole 7"/>
          <p:cNvSpPr/>
          <p:nvPr/>
        </p:nvSpPr>
        <p:spPr>
          <a:xfrm>
            <a:off x="1619280" y="33577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9" name="TextovéPole 8"/>
          <p:cNvSpPr/>
          <p:nvPr/>
        </p:nvSpPr>
        <p:spPr>
          <a:xfrm>
            <a:off x="2340000" y="458136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8 – 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3419640" y="3429000"/>
                <a:ext cx="1147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3419640" y="3860640"/>
                <a:ext cx="19605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Oválný popisek 11"/>
          <p:cNvSpPr/>
          <p:nvPr/>
        </p:nvSpPr>
        <p:spPr>
          <a:xfrm>
            <a:off x="5076720" y="3068640"/>
            <a:ext cx="2159280" cy="647640"/>
          </a:xfrm>
          <a:prstGeom prst="wedgeEllipseCallout">
            <a:avLst>
              <a:gd name="adj1" fmla="val -60152"/>
              <a:gd name="adj2" fmla="val 68444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rovnice funkc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19640" y="4365720"/>
                <a:ext cx="198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Oválný popisek 16"/>
          <p:cNvSpPr/>
          <p:nvPr/>
        </p:nvSpPr>
        <p:spPr>
          <a:xfrm>
            <a:off x="4356000" y="5013360"/>
            <a:ext cx="3816360" cy="792000"/>
          </a:xfrm>
          <a:prstGeom prst="wedgeEllipseCallout">
            <a:avLst>
              <a:gd name="adj1" fmla="val -45388"/>
              <a:gd name="adj2" fmla="val -70398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Rozměry výběhu budou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v intervalu 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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0,4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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45:41Z</dcterms:modified>
  <cp:revision>319</cp:revision>
  <dc:subject/>
  <dc:title>Název</dc:title>
</cp:coreProperties>
</file>