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80B7-1B65-4267-85AC-AF29D6BA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0E49-5451-4B35-B74D-2B26BD16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6FF3-8733-4864-9B5A-0E45CFE2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5ACD-5F13-444F-BDE0-B84DD423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F8DD-F1F2-4703-91FA-EA9333F9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07A3-D91D-44C0-82DE-DDA473A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A6B-CD39-471D-AD89-85527D4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7786-CA02-4100-B42A-19C3D3C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F65-23D9-4DC9-8C33-3848AE37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48A9-F4EA-4FE8-AB5C-5547F42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0679-E551-46BC-80F8-C302505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0BE2-FC3C-49C6-BC84-FC40B9B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0BC-CB29-4950-9814-D9D70E6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6121-2221-4ECD-8469-6FBA2B3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2A5B-2E60-4FCF-96CD-EFE5A9B2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735-9D5C-4457-9760-6038E3E3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095-D2E6-4898-8EBF-F2207E18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EBFA-8C3C-4BFF-A8B4-CBD6C66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7D6-91D9-448F-A8FC-2158F80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D955-F7DB-473C-B54A-62315DC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0C5A-FD10-4AD7-8099-CE7B3F8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B315-A774-45CB-8CEF-231E256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5083-9C27-49BE-9A27-BCDA740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B9C0-3FD6-4E51-9874-D5457CDE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7DC-F0F4-4BBB-82E3-156C04C17C6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BB5-6183-4261-8E71-30F6BC7779BD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79AA-2535-44BF-936B-D7C99A34D02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0F1-99D9-4CF0-9648-5A09A72E73D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ineární funk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ovéPole 4"/>
          <p:cNvSpPr/>
          <p:nvPr/>
        </p:nvSpPr>
        <p:spPr>
          <a:xfrm>
            <a:off x="6156360" y="112536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6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2f2b20"/>
                </a:solidFill>
                <a:latin typeface="Arial"/>
              </a:rPr>
              <a:t>–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1 </a:t>
            </a:r>
            <a:r>
              <a:rPr b="1" lang="cs-CZ" sz="2200" spc="-1" strike="noStrike">
                <a:solidFill>
                  <a:srgbClr val="2f2b20"/>
                </a:solidFill>
                <a:latin typeface="Arial"/>
              </a:rPr>
              <a:t>–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2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773360"/>
          <a:ext cx="1979640" cy="85392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TextovéPole 9"/>
          <p:cNvSpPr/>
          <p:nvPr/>
        </p:nvSpPr>
        <p:spPr>
          <a:xfrm>
            <a:off x="755640" y="112536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–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TextovéPole 10"/>
          <p:cNvSpPr/>
          <p:nvPr/>
        </p:nvSpPr>
        <p:spPr>
          <a:xfrm>
            <a:off x="3419640" y="1125360"/>
            <a:ext cx="1726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1 </a:t>
            </a:r>
            <a:r>
              <a:rPr b="1" lang="cs-CZ" sz="2200" spc="-1" strike="noStrike">
                <a:solidFill>
                  <a:srgbClr val="2f2b20"/>
                </a:solidFill>
                <a:latin typeface="Arial"/>
              </a:rPr>
              <a:t>–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348000" y="1773360"/>
          <a:ext cx="1979640" cy="85392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/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84720" y="1773360"/>
          <a:ext cx="1979640" cy="853920"/>
        </p:xfrm>
        <a:graphic>
          <a:graphicData uri="http://schemas.openxmlformats.org/drawingml/2006/table">
            <a:tbl>
              <a:tblPr/>
              <a:tblGrid>
                <a:gridCol w="540000"/>
                <a:gridCol w="720720"/>
                <a:gridCol w="71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/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22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181240" cy="2028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21812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218124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15"/>
          <p:cNvSpPr/>
          <p:nvPr/>
        </p:nvSpPr>
        <p:spPr>
          <a:xfrm>
            <a:off x="684360" y="5373720"/>
            <a:ext cx="6696000" cy="7174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5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4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3" name="Přímá spojovací šipka 16"/>
          <p:cNvCxnSpPr/>
          <p:nvPr/>
        </p:nvCxnSpPr>
        <p:spPr>
          <a:xfrm flipV="1">
            <a:off x="4716000" y="349992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4" name="TextovéPole 17"/>
          <p:cNvSpPr/>
          <p:nvPr/>
        </p:nvSpPr>
        <p:spPr>
          <a:xfrm>
            <a:off x="48592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5" name="Elipsa 18"/>
          <p:cNvSpPr/>
          <p:nvPr/>
        </p:nvSpPr>
        <p:spPr>
          <a:xfrm>
            <a:off x="4859280" y="350028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6" name="Přímá spojovací šipka 19"/>
          <p:cNvCxnSpPr/>
          <p:nvPr/>
        </p:nvCxnSpPr>
        <p:spPr>
          <a:xfrm>
            <a:off x="7451280" y="378936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Elipsa 20"/>
          <p:cNvSpPr/>
          <p:nvPr/>
        </p:nvSpPr>
        <p:spPr>
          <a:xfrm>
            <a:off x="7596360" y="4292640"/>
            <a:ext cx="433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TextovéPole 21"/>
          <p:cNvSpPr/>
          <p:nvPr/>
        </p:nvSpPr>
        <p:spPr>
          <a:xfrm>
            <a:off x="7596360" y="429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9" name="Oválný popisek 22"/>
          <p:cNvSpPr/>
          <p:nvPr/>
        </p:nvSpPr>
        <p:spPr>
          <a:xfrm>
            <a:off x="1547640" y="260280"/>
            <a:ext cx="2160720" cy="792360"/>
          </a:xfrm>
          <a:prstGeom prst="wedgeEllipseCallout">
            <a:avLst>
              <a:gd name="adj1" fmla="val 77578"/>
              <a:gd name="adj2" fmla="val 66060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růsečík s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osou</a:t>
            </a:r>
            <a:r>
              <a:rPr b="1" i="1" lang="cs-CZ" sz="1800" spc="-1" strike="noStrike">
                <a:solidFill>
                  <a:srgbClr val="ff0000"/>
                </a:solidFill>
                <a:latin typeface="Cambria"/>
              </a:rPr>
              <a:t> 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4284720" y="5516640"/>
            <a:ext cx="8636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11280" y="2205000"/>
                <a:ext cx="1843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16000" y="2781360"/>
                <a:ext cx="1008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5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755640" y="3284640"/>
                <a:ext cx="1371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2878200" y="2852640"/>
                <a:ext cx="1400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658960" y="3243240"/>
                <a:ext cx="1652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−</m:t>
                          </m:r>
                        </m:e>
                      </m:mr>
                    </m:m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Přímá spojovací čára 10"/>
          <p:cNvSpPr/>
          <p:nvPr/>
        </p:nvSpPr>
        <p:spPr>
          <a:xfrm>
            <a:off x="2411280" y="3860640"/>
            <a:ext cx="20894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7" name="Přímá spojovací čára 11"/>
          <p:cNvSpPr/>
          <p:nvPr/>
        </p:nvSpPr>
        <p:spPr>
          <a:xfrm>
            <a:off x="2411280" y="2708280"/>
            <a:ext cx="20894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8" name="Elipsa 12"/>
          <p:cNvSpPr/>
          <p:nvPr/>
        </p:nvSpPr>
        <p:spPr>
          <a:xfrm>
            <a:off x="1619280" y="2781360"/>
            <a:ext cx="43164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9" name="Přímá spojovací šipka 13"/>
          <p:cNvCxnSpPr/>
          <p:nvPr/>
        </p:nvCxnSpPr>
        <p:spPr>
          <a:xfrm flipV="1">
            <a:off x="2050920" y="2996640"/>
            <a:ext cx="721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70" name="Skupina 18"/>
          <p:cNvGrpSpPr/>
          <p:nvPr/>
        </p:nvGrpSpPr>
        <p:grpSpPr>
          <a:xfrm>
            <a:off x="5651640" y="2852640"/>
            <a:ext cx="792000" cy="847800"/>
            <a:chOff x="5651640" y="2852640"/>
            <a:chExt cx="792000" cy="847800"/>
          </a:xfrm>
        </p:grpSpPr>
        <p:sp>
          <p:nvSpPr>
            <p:cNvPr id="171" name="Pravá složená závorka 15"/>
            <p:cNvSpPr/>
            <p:nvPr/>
          </p:nvSpPr>
          <p:spPr>
            <a:xfrm>
              <a:off x="5651640" y="2852640"/>
              <a:ext cx="144360" cy="8478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47800"/>
                <a:gd name="textAreaBottom" fmla="*/ 8442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"/>
                    <a:pt x="10800" y="307"/>
                  </a:cubicBezTo>
                  <a:lnTo>
                    <a:pt x="10800" y="10493"/>
                  </a:lnTo>
                  <a:cubicBezTo>
                    <a:pt x="10800" y="10647"/>
                    <a:pt x="16200" y="10800"/>
                    <a:pt x="21600" y="10800"/>
                  </a:cubicBezTo>
                  <a:cubicBezTo>
                    <a:pt x="16200" y="10800"/>
                    <a:pt x="10800" y="10954"/>
                    <a:pt x="10800" y="11107"/>
                  </a:cubicBezTo>
                  <a:lnTo>
                    <a:pt x="10800" y="21293"/>
                  </a:lnTo>
                  <a:cubicBezTo>
                    <a:pt x="10800" y="21447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2" name="TextovéPole 16"/>
            <p:cNvSpPr/>
            <p:nvPr/>
          </p:nvSpPr>
          <p:spPr>
            <a:xfrm>
              <a:off x="5938920" y="2916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4572000" y="3213000"/>
                <a:ext cx="86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916360" y="4076640"/>
                <a:ext cx="925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2914560" y="4508640"/>
                <a:ext cx="784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4211640" y="4508640"/>
                <a:ext cx="1122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2771640" y="5373720"/>
                <a:ext cx="1814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8" name="Přímá spojovací šipka 26"/>
          <p:cNvCxnSpPr/>
          <p:nvPr/>
        </p:nvCxnSpPr>
        <p:spPr>
          <a:xfrm flipH="1">
            <a:off x="4500000" y="4869000"/>
            <a:ext cx="64836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Přímá spojovací šipka 30"/>
          <p:cNvCxnSpPr/>
          <p:nvPr/>
        </p:nvCxnSpPr>
        <p:spPr>
          <a:xfrm>
            <a:off x="3564000" y="4869000"/>
            <a:ext cx="2167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0" name="Nadpis 1"/>
          <p:cNvSpPr/>
          <p:nvPr/>
        </p:nvSpPr>
        <p:spPr>
          <a:xfrm>
            <a:off x="684360" y="5300640"/>
            <a:ext cx="1763640" cy="50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vnice funkce j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1" name="Nadpis 1"/>
          <p:cNvSpPr/>
          <p:nvPr/>
        </p:nvSpPr>
        <p:spPr>
          <a:xfrm>
            <a:off x="46836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:</a:t>
            </a:r>
            <a:r>
              <a:rPr b="0" lang="cs-CZ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pište rovnici lineární funkce, jejíž graf prochází body 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2,5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a B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-1,-1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Oválný popisek 39"/>
          <p:cNvSpPr/>
          <p:nvPr/>
        </p:nvSpPr>
        <p:spPr>
          <a:xfrm>
            <a:off x="5940360" y="1413000"/>
            <a:ext cx="2303640" cy="1152360"/>
          </a:xfrm>
          <a:prstGeom prst="wedgeEllipseCallout">
            <a:avLst>
              <a:gd name="adj1" fmla="val -92467"/>
              <a:gd name="adj2" fmla="val 75384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Úlohu řešíme jako soustavu 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7380360" y="5084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923920"/>
            <a:ext cx="7620120" cy="64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:</a:t>
            </a:r>
            <a:r>
              <a:rPr b="0" lang="cs-CZ" sz="4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průsečík funkcí daných rovnicemi: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050920" y="3933720"/>
                <a:ext cx="1843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2014560" y="4510080"/>
                <a:ext cx="17589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římá spojovací čára 5"/>
          <p:cNvSpPr/>
          <p:nvPr/>
        </p:nvSpPr>
        <p:spPr>
          <a:xfrm>
            <a:off x="1943280" y="5157720"/>
            <a:ext cx="208908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2627280" y="5877000"/>
                <a:ext cx="1954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6300720" y="5300640"/>
                <a:ext cx="920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Oválný popisek 13"/>
          <p:cNvSpPr/>
          <p:nvPr/>
        </p:nvSpPr>
        <p:spPr>
          <a:xfrm>
            <a:off x="5076720" y="3789360"/>
            <a:ext cx="2951280" cy="1295280"/>
          </a:xfrm>
          <a:prstGeom prst="wedgeEllipseCallout">
            <a:avLst>
              <a:gd name="adj1" fmla="val -89837"/>
              <a:gd name="adj2" fmla="val 84310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Úlohu řešíme jako soustavu rovnic, např. m. porovnávac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Nadpis 1"/>
          <p:cNvSpPr/>
          <p:nvPr/>
        </p:nvSpPr>
        <p:spPr>
          <a:xfrm>
            <a:off x="46836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:</a:t>
            </a:r>
            <a:r>
              <a:rPr b="0" lang="cs-CZ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pište rovnici přímé úměrnosti, jejíž graf prochází body 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3,-2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900000" y="2060640"/>
                <a:ext cx="1395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8"/>
              <p:cNvSpPr txBox="1"/>
              <p:nvPr/>
            </p:nvSpPr>
            <p:spPr>
              <a:xfrm>
                <a:off x="2916360" y="1844640"/>
                <a:ext cx="2622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372360" y="1844640"/>
                <a:ext cx="1730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5" name="Přímá spojovací šipka 20"/>
          <p:cNvCxnSpPr/>
          <p:nvPr/>
        </p:nvCxnSpPr>
        <p:spPr>
          <a:xfrm>
            <a:off x="5580000" y="2349000"/>
            <a:ext cx="721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6" name="Přímá spojovací šipka 24"/>
          <p:cNvCxnSpPr/>
          <p:nvPr/>
        </p:nvCxnSpPr>
        <p:spPr>
          <a:xfrm>
            <a:off x="2340000" y="2276280"/>
            <a:ext cx="720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7" name="TextovéPole 19"/>
          <p:cNvSpPr/>
          <p:nvPr/>
        </p:nvSpPr>
        <p:spPr>
          <a:xfrm>
            <a:off x="43164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OČETNĚ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2050920" y="5373720"/>
                <a:ext cx="1787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7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272040" cy="30430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468360" y="6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GRAFICKY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755640" y="1773360"/>
                <a:ext cx="1843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6084720" y="1773360"/>
                <a:ext cx="17589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684360" y="2565360"/>
          <a:ext cx="1979640" cy="85428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5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156360" y="2565360"/>
          <a:ext cx="1979640" cy="85428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3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5" name="TextovéPole 9"/>
          <p:cNvSpPr/>
          <p:nvPr/>
        </p:nvSpPr>
        <p:spPr>
          <a:xfrm>
            <a:off x="1979640" y="620640"/>
            <a:ext cx="612144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Načrtneme grafy jednotlivých funkcí a kde se přímky protnou, je hledané řešen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06" name="Obrázek 40" descr="zatržítko.JPG"/>
          <p:cNvPicPr/>
          <p:nvPr/>
        </p:nvPicPr>
        <p:blipFill>
          <a:blip r:embed="rId2"/>
          <a:srcRect l="6951" t="6628" r="9451" b="13547"/>
          <a:stretch/>
        </p:blipFill>
        <p:spPr>
          <a:xfrm>
            <a:off x="6156360" y="4076640"/>
            <a:ext cx="8636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508720" y="3789360"/>
                <a:ext cx="920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9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INEÁRNÍ 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tivační příklady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3959280"/>
            <a:ext cx="7561440" cy="1254240"/>
          </a:xfrm>
          <a:prstGeom prst="rect">
            <a:avLst/>
          </a:prstGeom>
          <a:solidFill>
            <a:srgbClr val="a47b38"/>
          </a:solidFill>
          <a:ln w="25560">
            <a:solidFill>
              <a:srgbClr val="dec59e"/>
            </a:solidFill>
            <a:miter/>
          </a:ln>
        </p:spPr>
        <p:txBody>
          <a:bodyPr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ambria"/>
              </a:rPr>
              <a:t>Honza má na vkladní knížce 1000 Kč. Každý měsíc si vybere 150 Kč. Vyjádřete závislost zůstatku na vkladní knížce v čase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Zástupný symbol pro obsah 2"/>
          <p:cNvSpPr/>
          <p:nvPr/>
        </p:nvSpPr>
        <p:spPr>
          <a:xfrm>
            <a:off x="539640" y="1700280"/>
            <a:ext cx="7561440" cy="1701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Cisterna na naftu má objem 4 hl. Plní se tak, že čerpadlo do ní přivádí každou minutu 25 l nafty. Jak závisí její množství (v litrech) v cisterně na čase, jestliže na začátku v ní bylo 50 l nafty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516720" y="5229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obsah 2"/>
          <p:cNvSpPr/>
          <p:nvPr/>
        </p:nvSpPr>
        <p:spPr>
          <a:xfrm>
            <a:off x="468360" y="1844640"/>
            <a:ext cx="756108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 závisí množství nafty (v litrech) v cisterně na čase, jestliže na začátku v ní bylo 50 l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9" name="Nadpis 1"/>
          <p:cNvSpPr/>
          <p:nvPr/>
        </p:nvSpPr>
        <p:spPr>
          <a:xfrm>
            <a:off x="468360" y="549360"/>
            <a:ext cx="764388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:</a:t>
            </a:r>
            <a:r>
              <a:rPr b="0" lang="cs-CZ" sz="3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Cisterna má objem 4 hl. Plní se tak, že čerpadlo do ní přivádí každou minutu 25 l nafty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0" name="TextovéPole 4"/>
          <p:cNvSpPr/>
          <p:nvPr/>
        </p:nvSpPr>
        <p:spPr>
          <a:xfrm>
            <a:off x="468360" y="2997360"/>
            <a:ext cx="74883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bjem nafty (v litrech) za 1 min ……………………………..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5 l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bjem nafty (v litrech) z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in ……………………………..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5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bjem nafty (v litrech) před čerpáním ……………………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50 l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bjem nafty (v litrech) po x minutách v nádrži ……….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"/>
              <p:cNvSpPr txBox="1"/>
              <p:nvPr/>
            </p:nvSpPr>
            <p:spPr>
              <a:xfrm>
                <a:off x="4572000" y="5300640"/>
                <a:ext cx="2201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Zástupný symbol pro obsah 2"/>
          <p:cNvSpPr/>
          <p:nvPr/>
        </p:nvSpPr>
        <p:spPr>
          <a:xfrm>
            <a:off x="468360" y="5157720"/>
            <a:ext cx="352728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vislost množství nafty v cisterně lze vyjádřit rovnic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Přímá spojovací čára 10"/>
          <p:cNvSpPr/>
          <p:nvPr/>
        </p:nvSpPr>
        <p:spPr>
          <a:xfrm>
            <a:off x="539640" y="4869000"/>
            <a:ext cx="7128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7307280" y="5229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obsah 2"/>
          <p:cNvSpPr/>
          <p:nvPr/>
        </p:nvSpPr>
        <p:spPr>
          <a:xfrm>
            <a:off x="539640" y="2276640"/>
            <a:ext cx="7561440" cy="50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yjádřete závislost výše zůstatku na vkladní knížce v čase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6" name="Nadpis 1"/>
          <p:cNvSpPr/>
          <p:nvPr/>
        </p:nvSpPr>
        <p:spPr>
          <a:xfrm>
            <a:off x="468360" y="549360"/>
            <a:ext cx="764388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:</a:t>
            </a:r>
            <a:r>
              <a:rPr b="0" lang="cs-CZ" sz="3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Honza má na vkladní knížce 1000 Kč. Každý měsíc si vybere 150 Kč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5075280" y="5300640"/>
                <a:ext cx="2619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ovéPole 4"/>
          <p:cNvSpPr/>
          <p:nvPr/>
        </p:nvSpPr>
        <p:spPr>
          <a:xfrm>
            <a:off x="468360" y="2997360"/>
            <a:ext cx="74883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ěsíční výběr ……………………………………………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50 Kč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běr z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ěsíců ………………………………………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50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čáteční stav na vkladní knížce ……….……….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000 Kč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ůstatek na knížce p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ěsících ………………..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Zástupný symbol pro obsah 2"/>
          <p:cNvSpPr/>
          <p:nvPr/>
        </p:nvSpPr>
        <p:spPr>
          <a:xfrm>
            <a:off x="468360" y="5157720"/>
            <a:ext cx="424656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vislost výše zůstatku na vkladní knížce lze vyjádřit rovnic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0" name="Přímá spojovací čára 7"/>
          <p:cNvSpPr/>
          <p:nvPr/>
        </p:nvSpPr>
        <p:spPr>
          <a:xfrm>
            <a:off x="539640" y="4869000"/>
            <a:ext cx="6912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Zástupný symbol pro obsah 2"/>
          <p:cNvSpPr/>
          <p:nvPr/>
        </p:nvSpPr>
        <p:spPr>
          <a:xfrm>
            <a:off x="468360" y="549360"/>
            <a:ext cx="7561080" cy="503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 dlouho bude nafta do nádrže přitékat než bude plná?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971640" y="1484280"/>
                <a:ext cx="21780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Zástupný symbol pro obsah 2"/>
          <p:cNvSpPr/>
          <p:nvPr/>
        </p:nvSpPr>
        <p:spPr>
          <a:xfrm>
            <a:off x="468360" y="3419640"/>
            <a:ext cx="7343640" cy="46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fta bude do nádrže přitékat 14 minut než ji naplní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6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3059280" y="2276640"/>
            <a:ext cx="86328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3284280"/>
            <a:ext cx="7620120" cy="2808360"/>
          </a:xfrm>
          <a:prstGeom prst="rect">
            <a:avLst/>
          </a:prstGeom>
          <a:solidFill>
            <a:srgbClr val="e9d9b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peciálním případem lineárních funkcí jsou funkce, pro něž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0, tj. funk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teré nazývám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onstantní funk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ro lineární funkce, vyjádřené ve tvar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stliž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0, užíváme též název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římá úměrnost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9" name="Nadpis 1"/>
          <p:cNvSpPr/>
          <p:nvPr/>
        </p:nvSpPr>
        <p:spPr>
          <a:xfrm>
            <a:off x="468360" y="1341360"/>
            <a:ext cx="7643880" cy="1871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ineární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je každá funkce definovaná na množině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R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daná rovni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jsou reálná čísla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5796000" y="2565360"/>
            <a:ext cx="2305080" cy="642600"/>
          </a:xfrm>
          <a:prstGeom prst="rect">
            <a:avLst/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… směrnice přímk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b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… průsečík s osou 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628640"/>
          <a:ext cx="7620120" cy="439920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4016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gt; 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lt; 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= 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9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ani shora ani 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ani shora ani zdola 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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b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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rostoucí ani klesající 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není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omezen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má max. a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876680" cy="174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348000" y="2349360"/>
            <a:ext cx="1876320" cy="174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18763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8" descr=""/>
          <p:cNvPicPr/>
          <p:nvPr/>
        </p:nvPicPr>
        <p:blipFill>
          <a:blip r:embed="rId1"/>
          <a:stretch/>
        </p:blipFill>
        <p:spPr>
          <a:xfrm>
            <a:off x="6084720" y="3068640"/>
            <a:ext cx="2181240" cy="2028960"/>
          </a:xfrm>
          <a:prstGeom prst="rect">
            <a:avLst/>
          </a:prstGeom>
          <a:ln w="0">
            <a:noFill/>
          </a:ln>
        </p:spPr>
      </p:pic>
      <p:sp>
        <p:nvSpPr>
          <p:cNvPr id="127" name="TextovéPole 11"/>
          <p:cNvSpPr/>
          <p:nvPr/>
        </p:nvSpPr>
        <p:spPr>
          <a:xfrm>
            <a:off x="3492360" y="1413000"/>
            <a:ext cx="172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+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419640" y="1989000"/>
          <a:ext cx="1979280" cy="85428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/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2181240" cy="20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55640" y="1989000"/>
          <a:ext cx="1979640" cy="85428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TextovéPole 21"/>
          <p:cNvSpPr/>
          <p:nvPr/>
        </p:nvSpPr>
        <p:spPr>
          <a:xfrm>
            <a:off x="755640" y="141300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2181240" cy="2028960"/>
          </a:xfrm>
          <a:prstGeom prst="rect">
            <a:avLst/>
          </a:prstGeom>
          <a:ln w="0">
            <a:noFill/>
          </a:ln>
        </p:spPr>
      </p:pic>
      <p:sp>
        <p:nvSpPr>
          <p:cNvPr id="133" name="TextovéPole 23"/>
          <p:cNvSpPr/>
          <p:nvPr/>
        </p:nvSpPr>
        <p:spPr>
          <a:xfrm>
            <a:off x="684360" y="5445000"/>
            <a:ext cx="6696000" cy="7174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-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4" name="Přímá spojovací šipka 25"/>
          <p:cNvCxnSpPr/>
          <p:nvPr/>
        </p:nvCxnSpPr>
        <p:spPr>
          <a:xfrm flipV="1">
            <a:off x="4860720" y="357156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TextovéPole 26"/>
          <p:cNvSpPr/>
          <p:nvPr/>
        </p:nvSpPr>
        <p:spPr>
          <a:xfrm>
            <a:off x="5003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Elipsa 27"/>
          <p:cNvSpPr/>
          <p:nvPr/>
        </p:nvSpPr>
        <p:spPr>
          <a:xfrm>
            <a:off x="5003640" y="350028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TextovéPole 30"/>
          <p:cNvSpPr/>
          <p:nvPr/>
        </p:nvSpPr>
        <p:spPr>
          <a:xfrm>
            <a:off x="6012000" y="14130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2f2b20"/>
                </a:solidFill>
                <a:latin typeface="Arial"/>
              </a:rPr>
              <a:t>–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12000" y="1989000"/>
          <a:ext cx="1979640" cy="854280"/>
        </p:xfrm>
        <a:graphic>
          <a:graphicData uri="http://schemas.openxmlformats.org/drawingml/2006/table">
            <a:tbl>
              <a:tblPr/>
              <a:tblGrid>
                <a:gridCol w="539640"/>
                <a:gridCol w="720720"/>
                <a:gridCol w="7192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/2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9" name="Přímá spojovací šipka 33"/>
          <p:cNvCxnSpPr/>
          <p:nvPr/>
        </p:nvCxnSpPr>
        <p:spPr>
          <a:xfrm>
            <a:off x="6732360" y="3716280"/>
            <a:ext cx="108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Elipsa 35"/>
          <p:cNvSpPr/>
          <p:nvPr/>
        </p:nvSpPr>
        <p:spPr>
          <a:xfrm>
            <a:off x="6156360" y="4148280"/>
            <a:ext cx="433440" cy="43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ovéPole 36"/>
          <p:cNvSpPr/>
          <p:nvPr/>
        </p:nvSpPr>
        <p:spPr>
          <a:xfrm>
            <a:off x="615636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T 1</cp:lastModifiedBy>
  <dcterms:modified xsi:type="dcterms:W3CDTF">2014-03-26T11:38:35Z</dcterms:modified>
  <cp:revision>257</cp:revision>
  <dc:subject/>
  <dc:title>Název</dc:title>
</cp:coreProperties>
</file>