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5BEF-64DA-4F7D-A45F-C2D6CA5036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B09F-80BB-4DE9-909B-C3E0F72A0274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2C70-82D7-4C3D-B72C-38AA0B99BB1F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2A73-7693-46FB-A9A3-4809FE22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AE82-B11F-4C7B-88E4-44E74874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B85B-E95D-4082-89FC-F990ABB5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5750-C2A3-4ACC-8499-C321C0F8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6564-D5B2-4116-825F-A106F76D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A5BB-7DF5-4CE3-AD72-32AE5A83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F4E6-C3EF-454C-83DC-0C0B73A0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3990-F118-4202-A353-91177D98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12B8-5794-40ED-8F6F-FBBD577D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7E5D-FEAF-426D-ADAD-D2B37A81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A185-65BC-4CCE-83D2-499BAEB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95AE-F836-47B2-8532-01B2AA82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6419-2962-46F2-BA37-CE972EA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740B-7685-477D-B7EC-BA1FAD7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D731-DEC3-4E8F-A66C-5543EFB6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8530-7CE9-4117-92F5-F046D816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1E21-C284-47C0-A061-03C0D019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A2ED-3835-4D03-89B4-7CD221AC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B148-9744-4835-9F25-CE1E3A77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48B9-7FFB-4709-9BA8-EFA93B6A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D7C4-DAAF-48FC-8D9F-3BC39909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50DC-09FE-4BA2-AAD7-B3F8D4E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B4E6-0764-4EE9-B606-8FFC06C4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6AF1-FCBB-43AD-B1C0-4D331A7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C092-2599-4919-BBC0-D02E6C78D34A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8A6A-A780-4FFC-93A7-54D491758C9A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13E3-A5EC-489E-A6ED-F78E371CB811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6430-EF64-431B-BE06-7541CE4FC71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3860640"/>
            <a:ext cx="754380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Goniometrické funkce (obecně)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ro obsah 2"/>
          <p:cNvSpPr/>
          <p:nvPr/>
        </p:nvSpPr>
        <p:spPr>
          <a:xfrm>
            <a:off x="468360" y="5157720"/>
            <a:ext cx="7704000" cy="792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46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Kotangens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poměr délek odvěsn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přilehlé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k úhlu </a:t>
            </a:r>
            <a:r>
              <a:rPr b="0" i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a odvěsn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protilehlé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4" name="Zástupný symbol pro obsah 2"/>
          <p:cNvSpPr/>
          <p:nvPr/>
        </p:nvSpPr>
        <p:spPr>
          <a:xfrm>
            <a:off x="468360" y="4149720"/>
            <a:ext cx="7704000" cy="792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46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Tangens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poměr délek odvěsn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protilehlé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k úhlu </a:t>
            </a:r>
            <a:r>
              <a:rPr b="0" i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a odvěsn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přilehlé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5" name="Zástupný symbol pro obsah 2"/>
          <p:cNvSpPr/>
          <p:nvPr/>
        </p:nvSpPr>
        <p:spPr>
          <a:xfrm>
            <a:off x="468360" y="3068640"/>
            <a:ext cx="7704000" cy="792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46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Kosinus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poměr délky odvěsn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přilehlé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k úhlu </a:t>
            </a:r>
            <a:r>
              <a:rPr b="0" i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a délk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přepon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539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Goniometrické funkce ostrého úhlu </a:t>
            </a:r>
            <a:r>
              <a:rPr b="0" lang="cs-CZ" sz="4600" spc="-1" strike="noStrike">
                <a:solidFill>
                  <a:srgbClr val="675e47"/>
                </a:solidFill>
                <a:latin typeface="Cambria"/>
              </a:rPr>
              <a:t>– </a:t>
            </a: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360" y="1988640"/>
            <a:ext cx="7704000" cy="792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16146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inus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poměr délky odvěsn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protilehlé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k úhlu </a:t>
            </a:r>
            <a:r>
              <a:rPr b="0" i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a délk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přepon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pravoúhlého trojúhelníku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755640" y="3141720"/>
                <a:ext cx="1089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755640" y="2060640"/>
                <a:ext cx="1066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863640" y="4221000"/>
                <a:ext cx="933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539640" y="5229360"/>
                <a:ext cx="12448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g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Nadpis 1"/>
          <p:cNvSpPr/>
          <p:nvPr/>
        </p:nvSpPr>
        <p:spPr>
          <a:xfrm>
            <a:off x="53964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Zapište hodnoty sin </a:t>
            </a:r>
            <a:r>
              <a:rPr b="0" i="1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cos </a:t>
            </a:r>
            <a:r>
              <a:rPr b="0" i="1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tg </a:t>
            </a:r>
            <a:r>
              <a:rPr b="0" i="1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cotg </a:t>
            </a:r>
            <a:r>
              <a:rPr b="0" i="1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= 30°; 45°; 60°. Výsledky zapište do tabulky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3" name="TextovéPole 15"/>
          <p:cNvSpPr/>
          <p:nvPr/>
        </p:nvSpPr>
        <p:spPr>
          <a:xfrm>
            <a:off x="5292720" y="2060640"/>
            <a:ext cx="2879640" cy="2288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i odvozování hodnot goniometrických funkcí využíváme pro úhly 30° a 60°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rovnostranný trojúhelník (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= 2)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ýška v trojúhelníku půlí úhel i základn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94" name="Skupina 32"/>
          <p:cNvGrpSpPr/>
          <p:nvPr/>
        </p:nvGrpSpPr>
        <p:grpSpPr>
          <a:xfrm>
            <a:off x="971640" y="2133720"/>
            <a:ext cx="3051000" cy="2770200"/>
            <a:chOff x="971640" y="2133720"/>
            <a:chExt cx="3051000" cy="2770200"/>
          </a:xfrm>
        </p:grpSpPr>
        <p:grpSp>
          <p:nvGrpSpPr>
            <p:cNvPr id="195" name="Skupina 31"/>
            <p:cNvGrpSpPr/>
            <p:nvPr/>
          </p:nvGrpSpPr>
          <p:grpSpPr>
            <a:xfrm>
              <a:off x="971640" y="2133720"/>
              <a:ext cx="3051000" cy="2756160"/>
              <a:chOff x="971640" y="2133720"/>
              <a:chExt cx="3051000" cy="2756160"/>
            </a:xfrm>
          </p:grpSpPr>
          <p:sp>
            <p:nvSpPr>
              <p:cNvPr id="196" name="Rovnoramenný trojúhelník 6"/>
              <p:cNvSpPr/>
              <p:nvPr/>
            </p:nvSpPr>
            <p:spPr>
              <a:xfrm>
                <a:off x="971640" y="2133720"/>
                <a:ext cx="2713320" cy="23194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7" name="Přímá spojovací čára 8"/>
              <p:cNvSpPr/>
              <p:nvPr/>
            </p:nvSpPr>
            <p:spPr>
              <a:xfrm>
                <a:off x="2328840" y="2133720"/>
                <a:ext cx="0" cy="231948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8" name="Oblouk 9"/>
              <p:cNvSpPr/>
              <p:nvPr/>
            </p:nvSpPr>
            <p:spPr>
              <a:xfrm rot="6321000">
                <a:off x="2208600" y="2338920"/>
                <a:ext cx="347400" cy="527040"/>
              </a:xfrm>
              <a:custGeom>
                <a:avLst/>
                <a:gdLst>
                  <a:gd name="textAreaLeft" fmla="*/ 173880 w 347400"/>
                  <a:gd name="textAreaRight" fmla="*/ 347760 w 347400"/>
                  <a:gd name="textAreaTop" fmla="*/ 0 h 527040"/>
                  <a:gd name="textAreaBottom" fmla="*/ 263520 h 527040"/>
                </a:gdLst>
                <a:ahLst/>
                <a:rect l="textAreaLeft" t="textAreaTop" r="textAreaRight" b="textAreaBottom"/>
                <a:pathLst>
                  <a:path stroke="0" w="432076" h="649197">
                    <a:moveTo>
                      <a:pt x="216038" y="0"/>
                    </a:moveTo>
                    <a:lnTo>
                      <a:pt x="216038" y="0"/>
                    </a:lnTo>
                    <a:arcTo wR="216038" hR="324599" stAng="-5400000" swAng="5400016"/>
                    <a:lnTo>
                      <a:pt x="216038" y="324599"/>
                    </a:lnTo>
                    <a:close/>
                  </a:path>
                  <a:path fill="none" w="432076" h="649197">
                    <a:moveTo>
                      <a:pt x="216038" y="0"/>
                    </a:moveTo>
                    <a:lnTo>
                      <a:pt x="216038" y="0"/>
                    </a:lnTo>
                    <a:arcTo wR="216038" hR="324599" stAng="-5400000" swAng="5400016"/>
                  </a:path>
                </a:pathLst>
              </a:custGeom>
              <a:noFill/>
              <a:ln w="255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9" name="Oblouk 10"/>
              <p:cNvSpPr/>
              <p:nvPr/>
            </p:nvSpPr>
            <p:spPr>
              <a:xfrm rot="15154200">
                <a:off x="3164040" y="4034880"/>
                <a:ext cx="771480" cy="749160"/>
              </a:xfrm>
              <a:custGeom>
                <a:avLst/>
                <a:gdLst>
                  <a:gd name="textAreaLeft" fmla="*/ 450000 w 771480"/>
                  <a:gd name="textAreaRight" fmla="*/ 771480 w 771480"/>
                  <a:gd name="textAreaTop" fmla="*/ 5040 h 749160"/>
                  <a:gd name="textAreaBottom" fmla="*/ 368640 h 749160"/>
                </a:gdLst>
                <a:ahLst/>
                <a:rect l="textAreaLeft" t="textAreaTop" r="textAreaRight" b="textAreaBottom"/>
                <a:pathLst>
                  <a:path stroke="0" w="958852" h="922955">
                    <a:moveTo>
                      <a:pt x="559141" y="6424"/>
                    </a:moveTo>
                    <a:lnTo>
                      <a:pt x="559141" y="6424"/>
                    </a:lnTo>
                    <a:arcTo wR="479426" hR="461478" stAng="-4803835" swAng="4751846"/>
                    <a:lnTo>
                      <a:pt x="479426" y="461478"/>
                    </a:lnTo>
                    <a:close/>
                  </a:path>
                  <a:path fill="none" w="958852" h="922955">
                    <a:moveTo>
                      <a:pt x="559141" y="6424"/>
                    </a:moveTo>
                    <a:lnTo>
                      <a:pt x="559141" y="6424"/>
                    </a:lnTo>
                    <a:arcTo wR="479426" hR="461478" stAng="-4803835" swAng="4751846"/>
                  </a:path>
                </a:pathLst>
              </a:custGeom>
              <a:noFill/>
              <a:ln w="255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0" name="Oblouk 13"/>
              <p:cNvSpPr/>
              <p:nvPr/>
            </p:nvSpPr>
            <p:spPr>
              <a:xfrm>
                <a:off x="1995480" y="4125960"/>
                <a:ext cx="641160" cy="636480"/>
              </a:xfrm>
              <a:custGeom>
                <a:avLst/>
                <a:gdLst>
                  <a:gd name="textAreaLeft" fmla="*/ 320760 w 641160"/>
                  <a:gd name="textAreaRight" fmla="*/ 641160 w 641160"/>
                  <a:gd name="textAreaTop" fmla="*/ 0 h 636480"/>
                  <a:gd name="textAreaBottom" fmla="*/ 318240 h 636480"/>
                </a:gdLst>
                <a:ahLst/>
                <a:rect l="textAreaLeft" t="textAreaTop" r="textAreaRight" b="textAreaBottom"/>
                <a:pathLst>
                  <a:path stroke="0" w="789987" h="791151">
                    <a:moveTo>
                      <a:pt x="394994" y="0"/>
                    </a:moveTo>
                    <a:lnTo>
                      <a:pt x="394994" y="0"/>
                    </a:lnTo>
                    <a:arcTo wR="394994" hR="395576" stAng="-5400000" swAng="5400009"/>
                    <a:lnTo>
                      <a:pt x="394994" y="395576"/>
                    </a:lnTo>
                    <a:close/>
                  </a:path>
                  <a:path fill="none" w="789987" h="791151">
                    <a:moveTo>
                      <a:pt x="394994" y="0"/>
                    </a:moveTo>
                    <a:lnTo>
                      <a:pt x="394994" y="0"/>
                    </a:lnTo>
                    <a:arcTo wR="394994" hR="395576" stAng="-5400000" swAng="5400009"/>
                  </a:path>
                </a:pathLst>
              </a:custGeom>
              <a:noFill/>
              <a:ln w="255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1" name="TextovéPole 16"/>
              <p:cNvSpPr/>
              <p:nvPr/>
            </p:nvSpPr>
            <p:spPr>
              <a:xfrm>
                <a:off x="2374560" y="4161600"/>
                <a:ext cx="17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2f2b20"/>
                    </a:solidFill>
                    <a:latin typeface="Symbol"/>
                    <a:ea typeface="Symbol"/>
                  </a:rPr>
                  <a:t></a:t>
                </a: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202" name="TextovéPole 17"/>
            <p:cNvSpPr/>
            <p:nvPr/>
          </p:nvSpPr>
          <p:spPr>
            <a:xfrm>
              <a:off x="2772000" y="40053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60°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3" name="TextovéPole 21"/>
            <p:cNvSpPr/>
            <p:nvPr/>
          </p:nvSpPr>
          <p:spPr>
            <a:xfrm>
              <a:off x="2340000" y="2852640"/>
              <a:ext cx="6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30°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4" name="TextovéPole 23"/>
            <p:cNvSpPr/>
            <p:nvPr/>
          </p:nvSpPr>
          <p:spPr>
            <a:xfrm>
              <a:off x="1978200" y="34322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>
                  <a:solidFill>
                    <a:srgbClr val="2f2b20"/>
                  </a:solidFill>
                  <a:latin typeface="Cambria"/>
                </a:rPr>
                <a:t>v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5" name="TextovéPole 24"/>
            <p:cNvSpPr/>
            <p:nvPr/>
          </p:nvSpPr>
          <p:spPr>
            <a:xfrm>
              <a:off x="3119760" y="3106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2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6" name="TextovéPole 25"/>
            <p:cNvSpPr/>
            <p:nvPr/>
          </p:nvSpPr>
          <p:spPr>
            <a:xfrm>
              <a:off x="2716200" y="45356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5292720" y="4941720"/>
                <a:ext cx="196524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TextovéPole 28"/>
          <p:cNvSpPr/>
          <p:nvPr/>
        </p:nvSpPr>
        <p:spPr>
          <a:xfrm>
            <a:off x="5219640" y="45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ythagorova věta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9" name="TextovéPole 29"/>
          <p:cNvSpPr/>
          <p:nvPr/>
        </p:nvSpPr>
        <p:spPr>
          <a:xfrm>
            <a:off x="53964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.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1116000" y="5084640"/>
                <a:ext cx="12272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1123920" y="5772240"/>
                <a:ext cx="1428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2987640" y="5048280"/>
                <a:ext cx="1474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2987640" y="5805360"/>
                <a:ext cx="1271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ovéPole 1"/>
          <p:cNvSpPr/>
          <p:nvPr/>
        </p:nvSpPr>
        <p:spPr>
          <a:xfrm>
            <a:off x="4932360" y="936720"/>
            <a:ext cx="3168720" cy="22885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i odvozování hodnot goniometrických funkcí využíváme pro úhel 45°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čtverec (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= 1)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Úhlopříčka rozdělí čtverec na dva rovnoramenné pravoúhlé trojúhelníky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5003640" y="5084640"/>
                <a:ext cx="1920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ovéPole 3"/>
          <p:cNvSpPr/>
          <p:nvPr/>
        </p:nvSpPr>
        <p:spPr>
          <a:xfrm>
            <a:off x="4932360" y="45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ythagorova věta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7" name="TextovéPole 4"/>
          <p:cNvSpPr/>
          <p:nvPr/>
        </p:nvSpPr>
        <p:spPr>
          <a:xfrm>
            <a:off x="539640" y="45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.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1116000" y="4365720"/>
                <a:ext cx="2610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1258920" y="5218200"/>
                <a:ext cx="14288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" name="Skupina 24"/>
          <p:cNvGrpSpPr/>
          <p:nvPr/>
        </p:nvGrpSpPr>
        <p:grpSpPr>
          <a:xfrm>
            <a:off x="684360" y="516240"/>
            <a:ext cx="3552120" cy="3668400"/>
            <a:chOff x="684360" y="516240"/>
            <a:chExt cx="3552120" cy="3668400"/>
          </a:xfrm>
        </p:grpSpPr>
        <p:sp>
          <p:nvSpPr>
            <p:cNvPr id="221" name="TextovéPole 17"/>
            <p:cNvSpPr/>
            <p:nvPr/>
          </p:nvSpPr>
          <p:spPr>
            <a:xfrm>
              <a:off x="1908360" y="1944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>
                  <a:solidFill>
                    <a:srgbClr val="2f2b20"/>
                  </a:solidFill>
                  <a:latin typeface="Cambria"/>
                </a:rPr>
                <a:t>u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222" name="Skupina 19"/>
            <p:cNvGrpSpPr/>
            <p:nvPr/>
          </p:nvGrpSpPr>
          <p:grpSpPr>
            <a:xfrm>
              <a:off x="684360" y="516240"/>
              <a:ext cx="3552120" cy="3588840"/>
              <a:chOff x="684360" y="516240"/>
              <a:chExt cx="3552120" cy="3588840"/>
            </a:xfrm>
          </p:grpSpPr>
          <p:grpSp>
            <p:nvGrpSpPr>
              <p:cNvPr id="223" name="Skupina 16"/>
              <p:cNvGrpSpPr/>
              <p:nvPr/>
            </p:nvGrpSpPr>
            <p:grpSpPr>
              <a:xfrm>
                <a:off x="684360" y="516240"/>
                <a:ext cx="3552120" cy="3588840"/>
                <a:chOff x="684360" y="516240"/>
                <a:chExt cx="3552120" cy="3588840"/>
              </a:xfrm>
            </p:grpSpPr>
            <p:sp>
              <p:nvSpPr>
                <p:cNvPr id="224" name="Obdélník 9"/>
                <p:cNvSpPr/>
                <p:nvPr/>
              </p:nvSpPr>
              <p:spPr>
                <a:xfrm>
                  <a:off x="957240" y="928800"/>
                  <a:ext cx="2734200" cy="2779560"/>
                </a:xfrm>
                <a:prstGeom prst="rect">
                  <a:avLst/>
                </a:prstGeom>
                <a:noFill/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225" name="Přímá spojovací čára 11"/>
                <p:cNvSpPr/>
                <p:nvPr/>
              </p:nvSpPr>
              <p:spPr>
                <a:xfrm flipV="1">
                  <a:off x="957240" y="928440"/>
                  <a:ext cx="2734200" cy="2779560"/>
                </a:xfrm>
                <a:prstGeom prst="line">
                  <a:avLst/>
                </a:prstGeom>
                <a:ln w="25560">
                  <a:solidFill>
                    <a:srgbClr val="2f2b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226" name="Oblouk 12"/>
                <p:cNvSpPr/>
                <p:nvPr/>
              </p:nvSpPr>
              <p:spPr>
                <a:xfrm rot="16200000">
                  <a:off x="3309120" y="3323520"/>
                  <a:ext cx="765000" cy="752400"/>
                </a:xfrm>
                <a:custGeom>
                  <a:avLst/>
                  <a:gdLst>
                    <a:gd name="textAreaLeft" fmla="*/ 382680 w 765000"/>
                    <a:gd name="textAreaRight" fmla="*/ 765360 w 765000"/>
                    <a:gd name="textAreaTop" fmla="*/ 0 h 752400"/>
                    <a:gd name="textAreaBottom" fmla="*/ 376200 h 752400"/>
                  </a:gdLst>
                  <a:ahLst/>
                  <a:rect l="textAreaLeft" t="textAreaTop" r="textAreaRight" b="textAreaBottom"/>
                  <a:pathLst>
                    <a:path stroke="0" w="792612" h="792745">
                      <a:moveTo>
                        <a:pt x="396306" y="0"/>
                      </a:moveTo>
                      <a:lnTo>
                        <a:pt x="396306" y="0"/>
                      </a:lnTo>
                      <a:arcTo wR="396306" hR="396373" stAng="-5400000" swAng="5400009"/>
                      <a:lnTo>
                        <a:pt x="396306" y="396373"/>
                      </a:lnTo>
                      <a:close/>
                    </a:path>
                    <a:path fill="none" w="792612" h="792745">
                      <a:moveTo>
                        <a:pt x="396306" y="0"/>
                      </a:moveTo>
                      <a:lnTo>
                        <a:pt x="396306" y="0"/>
                      </a:lnTo>
                      <a:arcTo wR="396306" hR="396373" stAng="-5400000" swAng="5400009"/>
                    </a:path>
                  </a:pathLst>
                </a:custGeom>
                <a:noFill/>
                <a:ln w="255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227" name="Oblouk 14"/>
                <p:cNvSpPr/>
                <p:nvPr/>
              </p:nvSpPr>
              <p:spPr>
                <a:xfrm>
                  <a:off x="684360" y="3222720"/>
                  <a:ext cx="868320" cy="882360"/>
                </a:xfrm>
                <a:custGeom>
                  <a:avLst/>
                  <a:gdLst>
                    <a:gd name="textAreaLeft" fmla="*/ 669600 w 868320"/>
                    <a:gd name="textAreaRight" fmla="*/ 868680 w 868320"/>
                    <a:gd name="textAreaTop" fmla="*/ 70200 h 882360"/>
                    <a:gd name="textAreaBottom" fmla="*/ 491760 h 882360"/>
                  </a:gdLst>
                  <a:ahLst/>
                  <a:rect l="textAreaLeft" t="textAreaTop" r="textAreaRight" b="textAreaBottom"/>
                  <a:pathLst>
                    <a:path stroke="0" w="914834" h="914300">
                      <a:moveTo>
                        <a:pt x="705197" y="72881"/>
                      </a:moveTo>
                      <a:lnTo>
                        <a:pt x="705197" y="72881"/>
                      </a:lnTo>
                      <a:arcTo wR="457417" hR="457150" stAng="-3431143" swAng="3827084"/>
                      <a:lnTo>
                        <a:pt x="457417" y="457150"/>
                      </a:lnTo>
                      <a:close/>
                    </a:path>
                    <a:path fill="none" w="914834" h="914300">
                      <a:moveTo>
                        <a:pt x="705197" y="72881"/>
                      </a:moveTo>
                      <a:lnTo>
                        <a:pt x="705197" y="72881"/>
                      </a:lnTo>
                      <a:arcTo wR="457417" hR="457150" stAng="-3431143" swAng="3827084"/>
                    </a:path>
                  </a:pathLst>
                </a:custGeom>
                <a:noFill/>
                <a:ln w="255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228" name="Oblouk 15"/>
                <p:cNvSpPr/>
                <p:nvPr/>
              </p:nvSpPr>
              <p:spPr>
                <a:xfrm rot="8358600">
                  <a:off x="3186720" y="691920"/>
                  <a:ext cx="866880" cy="882360"/>
                </a:xfrm>
                <a:custGeom>
                  <a:avLst/>
                  <a:gdLst>
                    <a:gd name="textAreaLeft" fmla="*/ 668520 w 866880"/>
                    <a:gd name="textAreaRight" fmla="*/ 867240 w 866880"/>
                    <a:gd name="textAreaTop" fmla="*/ 70560 h 882360"/>
                    <a:gd name="textAreaBottom" fmla="*/ 491760 h 882360"/>
                  </a:gdLst>
                  <a:ahLst/>
                  <a:rect l="textAreaLeft" t="textAreaTop" r="textAreaRight" b="textAreaBottom"/>
                  <a:pathLst>
                    <a:path stroke="0" w="913162" h="914300">
                      <a:moveTo>
                        <a:pt x="704228" y="73087"/>
                      </a:moveTo>
                      <a:lnTo>
                        <a:pt x="704228" y="73087"/>
                      </a:lnTo>
                      <a:arcTo wR="456581" hR="457150" stAng="-3431145" swAng="3827076"/>
                      <a:lnTo>
                        <a:pt x="456581" y="457150"/>
                      </a:lnTo>
                      <a:close/>
                    </a:path>
                    <a:path fill="none" w="913162" h="914300">
                      <a:moveTo>
                        <a:pt x="704228" y="73087"/>
                      </a:moveTo>
                      <a:lnTo>
                        <a:pt x="704228" y="73087"/>
                      </a:lnTo>
                      <a:arcTo wR="456581" hR="457150" stAng="-3431145" swAng="3827076"/>
                    </a:path>
                  </a:pathLst>
                </a:custGeom>
                <a:noFill/>
                <a:ln w="255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ovéPole 18"/>
              <p:cNvSpPr/>
              <p:nvPr/>
            </p:nvSpPr>
            <p:spPr>
              <a:xfrm>
                <a:off x="3420000" y="33134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2f2b20"/>
                    </a:solidFill>
                    <a:latin typeface="Symbol"/>
                    <a:ea typeface="Symbol"/>
                  </a:rPr>
                  <a:t></a:t>
                </a: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230" name="TextovéPole 20"/>
            <p:cNvSpPr/>
            <p:nvPr/>
          </p:nvSpPr>
          <p:spPr>
            <a:xfrm>
              <a:off x="2268720" y="3816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1" name="TextovéPole 21"/>
            <p:cNvSpPr/>
            <p:nvPr/>
          </p:nvSpPr>
          <p:spPr>
            <a:xfrm>
              <a:off x="3851280" y="2232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2" name="TextovéPole 22"/>
            <p:cNvSpPr/>
            <p:nvPr/>
          </p:nvSpPr>
          <p:spPr>
            <a:xfrm>
              <a:off x="1620720" y="3240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45°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3" name="TextovéPole 23"/>
            <p:cNvSpPr/>
            <p:nvPr/>
          </p:nvSpPr>
          <p:spPr>
            <a:xfrm>
              <a:off x="3059280" y="16574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45°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Tabulka hodnot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1280" y="1557360"/>
          <a:ext cx="7561080" cy="3744720"/>
        </p:xfrm>
        <a:graphic>
          <a:graphicData uri="http://schemas.openxmlformats.org/drawingml/2006/table">
            <a:tbl>
              <a:tblPr/>
              <a:tblGrid>
                <a:gridCol w="1890720"/>
                <a:gridCol w="1888920"/>
                <a:gridCol w="1890720"/>
                <a:gridCol w="18907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5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0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sinu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osinu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tangen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otangen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3276720" y="2349360"/>
                <a:ext cx="266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113440" y="2276640"/>
                <a:ext cx="4683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7020000" y="2276640"/>
                <a:ext cx="4683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5"/>
              <p:cNvSpPr txBox="1"/>
              <p:nvPr/>
            </p:nvSpPr>
            <p:spPr>
              <a:xfrm>
                <a:off x="3132000" y="3068640"/>
                <a:ext cx="466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6"/>
              <p:cNvSpPr txBox="1"/>
              <p:nvPr/>
            </p:nvSpPr>
            <p:spPr>
              <a:xfrm>
                <a:off x="5113440" y="3068640"/>
                <a:ext cx="4665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3132000" y="3789360"/>
                <a:ext cx="466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7056360" y="4508640"/>
                <a:ext cx="466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7164360" y="3068640"/>
                <a:ext cx="266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0"/>
              <p:cNvSpPr txBox="1"/>
              <p:nvPr/>
            </p:nvSpPr>
            <p:spPr>
              <a:xfrm>
                <a:off x="5219640" y="4076640"/>
                <a:ext cx="200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1"/>
              <p:cNvSpPr txBox="1"/>
              <p:nvPr/>
            </p:nvSpPr>
            <p:spPr>
              <a:xfrm>
                <a:off x="5219640" y="4797360"/>
                <a:ext cx="200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2"/>
              <p:cNvSpPr txBox="1"/>
              <p:nvPr/>
            </p:nvSpPr>
            <p:spPr>
              <a:xfrm>
                <a:off x="7056360" y="3933720"/>
                <a:ext cx="4222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3"/>
              <p:cNvSpPr txBox="1"/>
              <p:nvPr/>
            </p:nvSpPr>
            <p:spPr>
              <a:xfrm>
                <a:off x="3132000" y="4724280"/>
                <a:ext cx="4222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9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dotisk 1. vydání: ISBN -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3]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Goniometr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3, dotisk 3. vydání: ISBN 80-7196-203-1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GONIOMETRICKÉ FUNKCE (OBECNĚ)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12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Úhel a jeho velikos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2" name="Zástupný symbol pro obsah 2"/>
          <p:cNvSpPr/>
          <p:nvPr/>
        </p:nvSpPr>
        <p:spPr>
          <a:xfrm>
            <a:off x="611280" y="1413000"/>
            <a:ext cx="7559640" cy="576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Úhel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část roviny vymezená dvěma polopřímkami.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Obdélník 4"/>
          <p:cNvSpPr/>
          <p:nvPr/>
        </p:nvSpPr>
        <p:spPr>
          <a:xfrm>
            <a:off x="611280" y="2708280"/>
            <a:ext cx="7561080" cy="9313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važujem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jednotkovou kružnici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se středem S, tj. kružnici s poloměrem 1, pak délka této kružnice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o = 2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.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4" name="Obdélník 5"/>
          <p:cNvSpPr/>
          <p:nvPr/>
        </p:nvSpPr>
        <p:spPr>
          <a:xfrm>
            <a:off x="611280" y="3933720"/>
            <a:ext cx="7561080" cy="1692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elikost úhlu vyjadřujeme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82440">
              <a:lnSpc>
                <a:spcPct val="125000"/>
              </a:lnSpc>
              <a:buClr>
                <a:srgbClr val="2f2b20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e stupňové míře – jednotka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tupeň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1° = 60´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82440">
              <a:lnSpc>
                <a:spcPct val="125000"/>
              </a:lnSpc>
              <a:buClr>
                <a:srgbClr val="2f2b20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 obloukové míře – jednotka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radián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(rad) =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středový úhel, kterému přísluší na jednotkové kružnici oblouk o délce poloměr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Skupina 32"/>
          <p:cNvGrpSpPr/>
          <p:nvPr/>
        </p:nvGrpSpPr>
        <p:grpSpPr>
          <a:xfrm>
            <a:off x="1763640" y="1341360"/>
            <a:ext cx="5353200" cy="4391640"/>
            <a:chOff x="1763640" y="1341360"/>
            <a:chExt cx="5353200" cy="4391640"/>
          </a:xfrm>
        </p:grpSpPr>
        <p:sp>
          <p:nvSpPr>
            <p:cNvPr id="106" name="Elipsa 15"/>
            <p:cNvSpPr/>
            <p:nvPr/>
          </p:nvSpPr>
          <p:spPr>
            <a:xfrm>
              <a:off x="2811240" y="2106360"/>
              <a:ext cx="3013200" cy="3022920"/>
            </a:xfrm>
            <a:prstGeom prst="ellipse">
              <a:avLst/>
            </a:prstGeom>
            <a:noFill/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07" name="Přímá spojovací šipka 16"/>
            <p:cNvCxnSpPr/>
            <p:nvPr/>
          </p:nvCxnSpPr>
          <p:spPr>
            <a:xfrm>
              <a:off x="4352400" y="1366560"/>
              <a:ext cx="1080" cy="4366800"/>
            </a:xfrm>
            <a:prstGeom prst="straightConnector1">
              <a:avLst/>
            </a:prstGeom>
            <a:ln w="25560">
              <a:solidFill>
                <a:srgbClr val="2f2b20"/>
              </a:solidFill>
              <a:miter/>
              <a:headEnd len="med" type="arrow" w="med"/>
            </a:ln>
          </p:spPr>
        </p:cxnSp>
        <p:cxnSp>
          <p:nvCxnSpPr>
            <p:cNvPr id="108" name="Přímá spojovací šipka 17"/>
            <p:cNvCxnSpPr/>
            <p:nvPr/>
          </p:nvCxnSpPr>
          <p:spPr>
            <a:xfrm flipH="1">
              <a:off x="2198160" y="3704760"/>
              <a:ext cx="4353840" cy="1080"/>
            </a:xfrm>
            <a:prstGeom prst="straightConnector1">
              <a:avLst/>
            </a:prstGeom>
            <a:ln w="25560">
              <a:solidFill>
                <a:srgbClr val="2f2b20"/>
              </a:solidFill>
              <a:miter/>
              <a:headEnd len="med" type="arrow" w="med"/>
            </a:ln>
          </p:spPr>
        </p:cxnSp>
        <p:sp>
          <p:nvSpPr>
            <p:cNvPr id="109" name="TextovéPole 18"/>
            <p:cNvSpPr/>
            <p:nvPr/>
          </p:nvSpPr>
          <p:spPr>
            <a:xfrm>
              <a:off x="6194520" y="3222720"/>
              <a:ext cx="46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200" spc="-1" strike="noStrike">
                  <a:solidFill>
                    <a:srgbClr val="2f2b20"/>
                  </a:solidFill>
                  <a:latin typeface="Cambria"/>
                </a:rPr>
                <a:t>x</a:t>
              </a:r>
              <a:endParaRPr b="0" lang="en-US" sz="2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0" name="TextovéPole 19"/>
            <p:cNvSpPr/>
            <p:nvPr/>
          </p:nvSpPr>
          <p:spPr>
            <a:xfrm>
              <a:off x="3984480" y="1341360"/>
              <a:ext cx="46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200" spc="-1" strike="noStrike">
                  <a:solidFill>
                    <a:srgbClr val="2f2b20"/>
                  </a:solidFill>
                  <a:latin typeface="Cambria"/>
                </a:rPr>
                <a:t>y</a:t>
              </a:r>
              <a:endParaRPr b="0" lang="en-US" sz="2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1" name="TextovéPole 11"/>
            <p:cNvSpPr/>
            <p:nvPr/>
          </p:nvSpPr>
          <p:spPr>
            <a:xfrm>
              <a:off x="5507280" y="1628640"/>
              <a:ext cx="153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ff0000"/>
                  </a:solidFill>
                  <a:latin typeface="Cambria"/>
                </a:rPr>
                <a:t>I. kvadrant</a:t>
              </a:r>
              <a:endParaRPr b="0" lang="en-US" sz="2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2" name="TextovéPole 12"/>
            <p:cNvSpPr/>
            <p:nvPr/>
          </p:nvSpPr>
          <p:spPr>
            <a:xfrm>
              <a:off x="1908000" y="1628640"/>
              <a:ext cx="1646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ff0000"/>
                  </a:solidFill>
                  <a:latin typeface="Cambria"/>
                </a:rPr>
                <a:t>II. kvadrant</a:t>
              </a:r>
              <a:endParaRPr b="0" lang="en-US" sz="2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3" name="TextovéPole 13"/>
            <p:cNvSpPr/>
            <p:nvPr/>
          </p:nvSpPr>
          <p:spPr>
            <a:xfrm>
              <a:off x="1763640" y="5229360"/>
              <a:ext cx="172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ff0000"/>
                  </a:solidFill>
                  <a:latin typeface="Cambria"/>
                </a:rPr>
                <a:t>III. kvadrant</a:t>
              </a:r>
              <a:endParaRPr b="0" lang="en-US" sz="2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4" name="TextovéPole 14"/>
            <p:cNvSpPr/>
            <p:nvPr/>
          </p:nvSpPr>
          <p:spPr>
            <a:xfrm>
              <a:off x="5507280" y="5229360"/>
              <a:ext cx="1609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ff0000"/>
                  </a:solidFill>
                  <a:latin typeface="Cambria"/>
                </a:rPr>
                <a:t>IV. kvadrant</a:t>
              </a:r>
              <a:endParaRPr b="0" lang="en-US" sz="2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5" name="TextovéPole 20"/>
            <p:cNvSpPr/>
            <p:nvPr/>
          </p:nvSpPr>
          <p:spPr>
            <a:xfrm>
              <a:off x="5840640" y="370512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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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0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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6" name="TextovéPole 21"/>
            <p:cNvSpPr/>
            <p:nvPr/>
          </p:nvSpPr>
          <p:spPr>
            <a:xfrm>
              <a:off x="4386240" y="174456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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0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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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7" name="TextovéPole 22"/>
            <p:cNvSpPr/>
            <p:nvPr/>
          </p:nvSpPr>
          <p:spPr>
            <a:xfrm>
              <a:off x="4340160" y="513756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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0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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–1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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8" name="TextovéPole 23"/>
            <p:cNvSpPr/>
            <p:nvPr/>
          </p:nvSpPr>
          <p:spPr>
            <a:xfrm>
              <a:off x="2055600" y="3705120"/>
              <a:ext cx="7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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–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1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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0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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19" name="Přímá spojovací šipka 25"/>
            <p:cNvCxnSpPr/>
            <p:nvPr/>
          </p:nvCxnSpPr>
          <p:spPr>
            <a:xfrm flipV="1">
              <a:off x="4352760" y="2348640"/>
              <a:ext cx="737280" cy="1343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20" name="TextovéPole 27"/>
            <p:cNvSpPr/>
            <p:nvPr/>
          </p:nvSpPr>
          <p:spPr>
            <a:xfrm>
              <a:off x="4788000" y="288612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0000"/>
                  </a:solidFill>
                  <a:latin typeface="Cambria"/>
                </a:rPr>
                <a:t>r = 1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1" name="TextovéPole 28"/>
            <p:cNvSpPr/>
            <p:nvPr/>
          </p:nvSpPr>
          <p:spPr>
            <a:xfrm>
              <a:off x="4319640" y="369252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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0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</a:t>
              </a: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0</a:t>
              </a:r>
              <a:r>
                <a:rPr b="1" lang="cs-CZ" sz="18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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22" name="TextovéPole 33"/>
          <p:cNvSpPr/>
          <p:nvPr/>
        </p:nvSpPr>
        <p:spPr>
          <a:xfrm>
            <a:off x="468360" y="476280"/>
            <a:ext cx="7991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675e47"/>
                </a:solidFill>
                <a:latin typeface="Calibri"/>
              </a:rPr>
              <a:t>Jednotková kružnice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596360" cy="718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:</a:t>
            </a: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yjádřete úhel </a:t>
            </a:r>
            <a:r>
              <a:rPr b="0" i="1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60° v obloukové míře.</a:t>
            </a:r>
            <a:r>
              <a:rPr b="0" lang="cs-CZ" sz="4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4" name="TextovéPole 2"/>
          <p:cNvSpPr/>
          <p:nvPr/>
        </p:nvSpPr>
        <p:spPr>
          <a:xfrm>
            <a:off x="468360" y="177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ři převodu stupňů na radiány a opačně vycházíme z přímé úměrnosti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1042920" y="2852640"/>
                <a:ext cx="3241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d</m:t>
                                    </m:r>
                                  </m:e>
                                </m:mr>
                              </m:m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</m:t>
                                  </m:r>
                                </m:e>
                                <m:sup>
                                  <m:r>
                                    <m:t xml:space="preserve">∘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x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rPr>
                                  <m:lit/>
                                  <m:nor/>
                                </m:rPr>
                                <m:t xml:space="preserve">rad</m:t>
                              </m:r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126" name="Přímá spojovací šipka 5"/>
          <p:cNvCxnSpPr/>
          <p:nvPr/>
        </p:nvCxnSpPr>
        <p:spPr>
          <a:xfrm flipH="1" flipV="1">
            <a:off x="4371120" y="2852640"/>
            <a:ext cx="5760" cy="972360"/>
          </a:xfrm>
          <a:prstGeom prst="straightConnector1">
            <a:avLst/>
          </a:prstGeom>
          <a:ln w="255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27" name="Přímá spojovací šipka 7"/>
          <p:cNvCxnSpPr/>
          <p:nvPr/>
        </p:nvCxnSpPr>
        <p:spPr>
          <a:xfrm flipH="1" flipV="1">
            <a:off x="986760" y="2852640"/>
            <a:ext cx="5760" cy="972360"/>
          </a:xfrm>
          <a:prstGeom prst="straightConnector1">
            <a:avLst/>
          </a:prstGeom>
          <a:ln w="25560">
            <a:solidFill>
              <a:srgbClr val="2f2b20"/>
            </a:solidFill>
            <a:miter/>
            <a:tailEnd len="med" type="arrow" w="med"/>
          </a:ln>
        </p:spPr>
      </p:cxnSp>
      <p:sp>
        <p:nvSpPr>
          <p:cNvPr id="128" name="Přímá spojovací čára 9"/>
          <p:cNvSpPr/>
          <p:nvPr/>
        </p:nvSpPr>
        <p:spPr>
          <a:xfrm>
            <a:off x="971640" y="4003560"/>
            <a:ext cx="3456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1187280" y="4581360"/>
                <a:ext cx="20941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ovéPole 11"/>
          <p:cNvSpPr/>
          <p:nvPr/>
        </p:nvSpPr>
        <p:spPr>
          <a:xfrm>
            <a:off x="5076720" y="2808360"/>
            <a:ext cx="3095640" cy="11912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 výpočet postačí polovina oblouku jednotkové kružnice, tj. 180° =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rad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Nadpis 1"/>
          <p:cNvSpPr/>
          <p:nvPr/>
        </p:nvSpPr>
        <p:spPr>
          <a:xfrm>
            <a:off x="539640" y="549360"/>
            <a:ext cx="7620120" cy="718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:</a:t>
            </a: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yjádřete úhel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/6 ve stupňové míře.</a:t>
            </a:r>
            <a:r>
              <a:rPr b="0" lang="cs-CZ" sz="4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1187280" y="1773360"/>
                <a:ext cx="3241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d</m:t>
                                    </m:r>
                                  </m:e>
                                </m:mr>
                              </m:m>
                            </m:e>
                            <m:e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∘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m>
                                <m:mr>
                                  <m:e/>
                                </m:mr>
                              </m:m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m>
                                <m:mr>
                                  <m:e/>
                                </m:mr>
                              </m:m>
                              <m:r>
                                <m:rPr>
                                  <m:lit/>
                                  <m:nor/>
                                </m:rPr>
                                <m:t xml:space="preserve">rad</m:t>
                              </m:r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133" name="Přímá spojovací šipka 3"/>
          <p:cNvCxnSpPr/>
          <p:nvPr/>
        </p:nvCxnSpPr>
        <p:spPr>
          <a:xfrm flipH="1" flipV="1">
            <a:off x="4571640" y="1843920"/>
            <a:ext cx="7200" cy="1261080"/>
          </a:xfrm>
          <a:prstGeom prst="straightConnector1">
            <a:avLst/>
          </a:prstGeom>
          <a:ln w="255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34" name="Přímá spojovací šipka 4"/>
          <p:cNvCxnSpPr/>
          <p:nvPr/>
        </p:nvCxnSpPr>
        <p:spPr>
          <a:xfrm flipH="1" flipV="1">
            <a:off x="1025280" y="1844280"/>
            <a:ext cx="18000" cy="1224720"/>
          </a:xfrm>
          <a:prstGeom prst="straightConnector1">
            <a:avLst/>
          </a:prstGeom>
          <a:ln w="25560">
            <a:solidFill>
              <a:srgbClr val="2f2b20"/>
            </a:solidFill>
            <a:miter/>
            <a:tailEnd len="med" type="arrow" w="med"/>
          </a:ln>
        </p:spPr>
      </p:cxnSp>
      <p:sp>
        <p:nvSpPr>
          <p:cNvPr id="135" name="Přímá spojovací čára 5"/>
          <p:cNvSpPr/>
          <p:nvPr/>
        </p:nvSpPr>
        <p:spPr>
          <a:xfrm>
            <a:off x="1006560" y="3213000"/>
            <a:ext cx="35654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1116000" y="3645000"/>
                <a:ext cx="24861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Hodnoty některých úhlů ve stupňové i obloukové míře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89000"/>
          <a:ext cx="7417080" cy="1440000"/>
        </p:xfrm>
        <a:graphic>
          <a:graphicData uri="http://schemas.openxmlformats.org/drawingml/2006/table">
            <a:tbl>
              <a:tblPr/>
              <a:tblGrid>
                <a:gridCol w="505080"/>
                <a:gridCol w="863280"/>
                <a:gridCol w="863640"/>
                <a:gridCol w="863640"/>
                <a:gridCol w="865440"/>
                <a:gridCol w="863280"/>
                <a:gridCol w="863640"/>
                <a:gridCol w="863640"/>
                <a:gridCol w="865440"/>
              </a:tblGrid>
              <a:tr h="64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°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30°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45°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60°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90°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80°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70°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360°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2197080" y="2637000"/>
                <a:ext cx="291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3060720" y="2637000"/>
                <a:ext cx="291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3924360" y="2637000"/>
                <a:ext cx="291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4788000" y="2637000"/>
                <a:ext cx="291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6450120" y="2708280"/>
                <a:ext cx="42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5724360" y="2924280"/>
                <a:ext cx="247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7308720" y="2889360"/>
                <a:ext cx="4050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ovéPole 11"/>
          <p:cNvSpPr/>
          <p:nvPr/>
        </p:nvSpPr>
        <p:spPr>
          <a:xfrm>
            <a:off x="539640" y="364500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Polovina oblouku jednotkové kružnice odpovídá 180°, tj. 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 rad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Další úhly bez trojčlenky jednoduše odvodíme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90° je polovina ze 180°, tj.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/2,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45° je zase polovina z 90° nebo čtvrtina ze 180°, tj.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/4,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30°je třetina z 90°, tj.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/6 apod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Vyjádřete bez výpočtu  úhel 120° v obloukové míř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rientovaný úhel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48" name="Obdélník 2"/>
          <p:cNvSpPr/>
          <p:nvPr/>
        </p:nvSpPr>
        <p:spPr>
          <a:xfrm>
            <a:off x="611280" y="1440000"/>
            <a:ext cx="7561080" cy="17686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Orientovaný úhel  AVB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 každá uspořádaná dvojice polopřímek VA a VB se společným počátkem V.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82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lopřímka VA se nazývá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očáteční rameno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VB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koncové rameno.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9" name="TextovéPole 24"/>
          <p:cNvSpPr/>
          <p:nvPr/>
        </p:nvSpPr>
        <p:spPr>
          <a:xfrm>
            <a:off x="611280" y="3429000"/>
            <a:ext cx="3600360" cy="2150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Úhel vzniká otočením počátečního ramene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82440">
              <a:lnSpc>
                <a:spcPct val="125000"/>
              </a:lnSpc>
              <a:buClr>
                <a:srgbClr val="2f2b20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roti směru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hodinových ručiček  –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kladně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rientovaný úhel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marL="82440">
              <a:lnSpc>
                <a:spcPct val="125000"/>
              </a:lnSpc>
              <a:buClr>
                <a:srgbClr val="2f2b20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e směru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hodinových ručiček –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záporně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orientovaný úhel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50" name="Skupina 40"/>
          <p:cNvGrpSpPr/>
          <p:nvPr/>
        </p:nvGrpSpPr>
        <p:grpSpPr>
          <a:xfrm>
            <a:off x="4500720" y="3446280"/>
            <a:ext cx="2339640" cy="1530360"/>
            <a:chOff x="4500720" y="3446280"/>
            <a:chExt cx="2339640" cy="1530360"/>
          </a:xfrm>
        </p:grpSpPr>
        <p:sp>
          <p:nvSpPr>
            <p:cNvPr id="151" name="TextovéPole 4"/>
            <p:cNvSpPr/>
            <p:nvPr/>
          </p:nvSpPr>
          <p:spPr>
            <a:xfrm>
              <a:off x="5329080" y="3573360"/>
              <a:ext cx="151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2f2b20"/>
                  </a:solidFill>
                  <a:latin typeface="Cambria"/>
                </a:rPr>
                <a:t>kladně orientovaný úhel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2" name="TextovéPole 5"/>
            <p:cNvSpPr/>
            <p:nvPr/>
          </p:nvSpPr>
          <p:spPr>
            <a:xfrm>
              <a:off x="5189400" y="460836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V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3" name="TextovéPole 6"/>
            <p:cNvSpPr/>
            <p:nvPr/>
          </p:nvSpPr>
          <p:spPr>
            <a:xfrm>
              <a:off x="6372360" y="4608360"/>
              <a:ext cx="2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A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4" name="TextovéPole 7"/>
            <p:cNvSpPr/>
            <p:nvPr/>
          </p:nvSpPr>
          <p:spPr>
            <a:xfrm>
              <a:off x="4500720" y="3573360"/>
              <a:ext cx="2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2f2b20"/>
                  </a:solidFill>
                  <a:latin typeface="Cambria"/>
                </a:rPr>
                <a:t>B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5" name="Přímá spojovací čára 9"/>
            <p:cNvSpPr/>
            <p:nvPr/>
          </p:nvSpPr>
          <p:spPr>
            <a:xfrm>
              <a:off x="5376960" y="4589640"/>
              <a:ext cx="13204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6" name="Oblouk 10"/>
            <p:cNvSpPr/>
            <p:nvPr/>
          </p:nvSpPr>
          <p:spPr>
            <a:xfrm>
              <a:off x="5059440" y="4299120"/>
              <a:ext cx="582480" cy="580680"/>
            </a:xfrm>
            <a:custGeom>
              <a:avLst/>
              <a:gdLst>
                <a:gd name="textAreaLeft" fmla="*/ 166680 w 582480"/>
                <a:gd name="textAreaRight" fmla="*/ 582840 w 582480"/>
                <a:gd name="textAreaTop" fmla="*/ 0 h 580680"/>
                <a:gd name="textAreaBottom" fmla="*/ 290520 h 580680"/>
              </a:gdLst>
              <a:ahLst/>
              <a:rect l="textAreaLeft" t="textAreaTop" r="textAreaRight" b="textAreaBottom"/>
              <a:pathLst>
                <a:path stroke="0" w="582672" h="581050">
                  <a:moveTo>
                    <a:pt x="166736" y="27912"/>
                  </a:moveTo>
                  <a:lnTo>
                    <a:pt x="166736" y="27911"/>
                  </a:lnTo>
                  <a:arcTo wR="291336" hR="290525" stAng="-6922955" swAng="6922967"/>
                  <a:lnTo>
                    <a:pt x="291336" y="290525"/>
                  </a:lnTo>
                  <a:close/>
                </a:path>
                <a:path fill="none" w="582672" h="581050">
                  <a:moveTo>
                    <a:pt x="166736" y="27912"/>
                  </a:moveTo>
                  <a:lnTo>
                    <a:pt x="166736" y="27911"/>
                  </a:lnTo>
                  <a:arcTo wR="291336" hR="290525" stAng="-6922955" swAng="6922967"/>
                </a:path>
              </a:pathLst>
            </a:custGeom>
            <a:noFill/>
            <a:ln w="25560">
              <a:solidFill>
                <a:srgbClr val="2f2b2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7" name="Přímá spojovací čára 12"/>
            <p:cNvSpPr/>
            <p:nvPr/>
          </p:nvSpPr>
          <p:spPr>
            <a:xfrm flipH="1" flipV="1">
              <a:off x="4717800" y="3446280"/>
              <a:ext cx="660960" cy="11433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8" name="Přímá spojovací čára 32"/>
            <p:cNvSpPr/>
            <p:nvPr/>
          </p:nvSpPr>
          <p:spPr>
            <a:xfrm>
              <a:off x="6553080" y="4537080"/>
              <a:ext cx="0" cy="1076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9" name="Přímá spojovací čára 33"/>
            <p:cNvSpPr/>
            <p:nvPr/>
          </p:nvSpPr>
          <p:spPr>
            <a:xfrm flipH="1">
              <a:off x="4782240" y="3580200"/>
              <a:ext cx="84240" cy="576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60" name="Skupina 41"/>
          <p:cNvGrpSpPr/>
          <p:nvPr/>
        </p:nvGrpSpPr>
        <p:grpSpPr>
          <a:xfrm>
            <a:off x="5986080" y="4365720"/>
            <a:ext cx="2480040" cy="1736640"/>
            <a:chOff x="5986080" y="4365720"/>
            <a:chExt cx="2480040" cy="1736640"/>
          </a:xfrm>
        </p:grpSpPr>
        <p:grpSp>
          <p:nvGrpSpPr>
            <p:cNvPr id="161" name="Skupina 14"/>
            <p:cNvGrpSpPr/>
            <p:nvPr/>
          </p:nvGrpSpPr>
          <p:grpSpPr>
            <a:xfrm>
              <a:off x="5986080" y="4365720"/>
              <a:ext cx="2480040" cy="1736640"/>
              <a:chOff x="5986080" y="4365720"/>
              <a:chExt cx="2480040" cy="1736640"/>
            </a:xfrm>
          </p:grpSpPr>
          <p:sp>
            <p:nvSpPr>
              <p:cNvPr id="162" name="TextovéPole 15"/>
              <p:cNvSpPr/>
              <p:nvPr/>
            </p:nvSpPr>
            <p:spPr>
              <a:xfrm>
                <a:off x="7020000" y="4797360"/>
                <a:ext cx="1446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2f2b20"/>
                    </a:solidFill>
                    <a:latin typeface="Cambria"/>
                  </a:rPr>
                  <a:t>záporně orientovaný úhel</a:t>
                </a:r>
                <a:endParaRPr b="0" lang="en-US" sz="1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3" name="TextovéPole 16"/>
              <p:cNvSpPr/>
              <p:nvPr/>
            </p:nvSpPr>
            <p:spPr>
              <a:xfrm>
                <a:off x="5986080" y="5688000"/>
                <a:ext cx="37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2f2b20"/>
                    </a:solidFill>
                    <a:latin typeface="Cambria"/>
                  </a:rPr>
                  <a:t>V</a:t>
                </a: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4" name="TextovéPole 17"/>
              <p:cNvSpPr/>
              <p:nvPr/>
            </p:nvSpPr>
            <p:spPr>
              <a:xfrm>
                <a:off x="7667640" y="5688000"/>
                <a:ext cx="23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2f2b20"/>
                    </a:solidFill>
                    <a:latin typeface="Cambria"/>
                  </a:rPr>
                  <a:t>A</a:t>
                </a: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5" name="TextovéPole 18"/>
              <p:cNvSpPr/>
              <p:nvPr/>
            </p:nvSpPr>
            <p:spPr>
              <a:xfrm>
                <a:off x="7235640" y="4365720"/>
                <a:ext cx="23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2f2b20"/>
                    </a:solidFill>
                    <a:latin typeface="Cambria"/>
                  </a:rPr>
                  <a:t>B</a:t>
                </a: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6" name="Přímá spojovací čára 19"/>
              <p:cNvSpPr/>
              <p:nvPr/>
            </p:nvSpPr>
            <p:spPr>
              <a:xfrm>
                <a:off x="6103800" y="5683320"/>
                <a:ext cx="1865520" cy="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7" name="Oblouk 20"/>
              <p:cNvSpPr/>
              <p:nvPr/>
            </p:nvSpPr>
            <p:spPr>
              <a:xfrm>
                <a:off x="6053040" y="5264280"/>
                <a:ext cx="820800" cy="838080"/>
              </a:xfrm>
              <a:custGeom>
                <a:avLst/>
                <a:gdLst>
                  <a:gd name="textAreaLeft" fmla="*/ 583560 w 820800"/>
                  <a:gd name="textAreaRight" fmla="*/ 821160 w 820800"/>
                  <a:gd name="textAreaTop" fmla="*/ 38880 h 838080"/>
                  <a:gd name="textAreaBottom" fmla="*/ 419040 h 838080"/>
                </a:gdLst>
                <a:ahLst/>
                <a:rect l="textAreaLeft" t="textAreaTop" r="textAreaRight" b="textAreaBottom"/>
                <a:pathLst>
                  <a:path stroke="0" w="1266794" h="1294429">
                    <a:moveTo>
                      <a:pt x="900475" y="60350"/>
                    </a:moveTo>
                    <a:lnTo>
                      <a:pt x="900475" y="60350"/>
                    </a:lnTo>
                    <a:arcTo wR="633397" hR="647215" stAng="-3931799" swAng="3931804"/>
                    <a:lnTo>
                      <a:pt x="633397" y="647215"/>
                    </a:lnTo>
                    <a:close/>
                  </a:path>
                  <a:path fill="none" w="1266794" h="1294429">
                    <a:moveTo>
                      <a:pt x="900475" y="60350"/>
                    </a:moveTo>
                    <a:lnTo>
                      <a:pt x="900475" y="60350"/>
                    </a:lnTo>
                    <a:arcTo wR="633397" hR="647215" stAng="-3931799" swAng="3931804"/>
                  </a:path>
                </a:pathLst>
              </a:custGeom>
              <a:noFill/>
              <a:ln w="25560">
                <a:solidFill>
                  <a:srgbClr val="2f2b2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8" name="Přímá spojovací čára 22"/>
              <p:cNvSpPr/>
              <p:nvPr/>
            </p:nvSpPr>
            <p:spPr>
              <a:xfrm flipV="1">
                <a:off x="6117120" y="4582440"/>
                <a:ext cx="1513440" cy="1093680"/>
              </a:xfrm>
              <a:prstGeom prst="line">
                <a:avLst/>
              </a:prstGeom>
              <a:ln w="255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69" name="Přímá spojovací čára 31"/>
            <p:cNvSpPr/>
            <p:nvPr/>
          </p:nvSpPr>
          <p:spPr>
            <a:xfrm>
              <a:off x="7812000" y="5615280"/>
              <a:ext cx="0" cy="1076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0" name="Přímá spojovací čára 34"/>
            <p:cNvSpPr/>
            <p:nvPr/>
          </p:nvSpPr>
          <p:spPr>
            <a:xfrm>
              <a:off x="7457040" y="4648320"/>
              <a:ext cx="61920" cy="8208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lipsa 9"/>
          <p:cNvSpPr/>
          <p:nvPr/>
        </p:nvSpPr>
        <p:spPr>
          <a:xfrm>
            <a:off x="4211640" y="2563920"/>
            <a:ext cx="2872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2" name="Obdélník 2"/>
          <p:cNvSpPr/>
          <p:nvPr/>
        </p:nvSpPr>
        <p:spPr>
          <a:xfrm>
            <a:off x="539640" y="549360"/>
            <a:ext cx="7561440" cy="1350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Velikost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orientovaného úhlu AVB, jehož základní velikost ve stupňové míře je úhel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se nazývá každé číslo 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k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360°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v obloukové míře 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+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k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kd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libovolné celé číslo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TextovéPole 28"/>
          <p:cNvSpPr/>
          <p:nvPr/>
        </p:nvSpPr>
        <p:spPr>
          <a:xfrm>
            <a:off x="539640" y="2637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Např.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2540160" y="2708280"/>
                <a:ext cx="2733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2363760" y="4724280"/>
                <a:ext cx="35258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Obdélník 7"/>
          <p:cNvSpPr/>
          <p:nvPr/>
        </p:nvSpPr>
        <p:spPr>
          <a:xfrm>
            <a:off x="1116000" y="3645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základní velikost úhlu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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0;360°) nebo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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0;2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7" name="Obdélník 8"/>
          <p:cNvSpPr/>
          <p:nvPr/>
        </p:nvSpPr>
        <p:spPr>
          <a:xfrm>
            <a:off x="5722920" y="3213000"/>
            <a:ext cx="2448000" cy="916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i otáčení může polopřímka vykonat libovolný počet otáček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8" name="Přímá spojovací šipka 11"/>
          <p:cNvCxnSpPr/>
          <p:nvPr/>
        </p:nvCxnSpPr>
        <p:spPr>
          <a:xfrm flipH="1" flipV="1">
            <a:off x="4571280" y="3212640"/>
            <a:ext cx="1080360" cy="50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9" name="Přímá spojovací šipka 15"/>
          <p:cNvCxnSpPr/>
          <p:nvPr/>
        </p:nvCxnSpPr>
        <p:spPr>
          <a:xfrm flipV="1">
            <a:off x="2484000" y="3212640"/>
            <a:ext cx="1080360" cy="432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0" name="Přímá spojovací šipka 10"/>
          <p:cNvCxnSpPr/>
          <p:nvPr/>
        </p:nvCxnSpPr>
        <p:spPr>
          <a:xfrm flipH="1">
            <a:off x="3419280" y="4292640"/>
            <a:ext cx="28800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1" name="Elipsa 14"/>
          <p:cNvSpPr/>
          <p:nvPr/>
        </p:nvSpPr>
        <p:spPr>
          <a:xfrm>
            <a:off x="5076720" y="4797360"/>
            <a:ext cx="2872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82" name="Přímá spojovací šipka 16"/>
          <p:cNvCxnSpPr/>
          <p:nvPr/>
        </p:nvCxnSpPr>
        <p:spPr>
          <a:xfrm flipH="1">
            <a:off x="5292000" y="4220640"/>
            <a:ext cx="43236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4-04-27T19:32:40Z</dcterms:modified>
  <cp:revision>667</cp:revision>
  <dc:subject/>
  <dc:title>Název</dc:title>
</cp:coreProperties>
</file>