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C695-231B-46F3-A6C5-0A42D439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8CDF-4188-4636-A0E8-D27753F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90EE-73D2-4265-933C-48FDF2CC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62E9-EF83-478B-B99F-96BDB71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5D5C-2F2B-4204-936A-C34C5F90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B84E-552D-442F-87B7-95C889B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83C1-A776-4DC9-B9CF-3199874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9108-6474-4267-A333-3A145F7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8571-0B76-4611-BB80-3E03E19B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C621-C8DE-4208-BE1E-1B0B019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D33-55C0-4B4E-BC5D-5564E32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90E2-0B0B-4589-A775-C2BE35A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C134-ABC3-4A00-A065-3BC7FBD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752-A36D-4354-89F9-FD264EF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8397-EF91-4C0F-87DA-97165BC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D22-DAF8-44DD-93A7-EF56CD50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A4BE-3FC1-4D6E-86EF-67D9726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7ED5-0E27-43C1-8D3C-AC02E42F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E9F4-6A15-4AE8-B407-C0F8984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92D5-B7B5-4125-A77D-C17D1EC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1453-624B-41B3-938A-7FDBB49A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5DA8-879D-492A-8C07-2387318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E82E-A009-4A41-9B09-97D9A11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2B10-27B8-448F-9D36-8571BEA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26FC-85B1-4F09-9EBA-3E273984AEE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2BE-9728-4DC6-BA58-949A637BC578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7CCD-B817-4555-B71D-D08890C0A20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FDD-B789-4039-9723-E2D9554A56D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Pojem funk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948360" y="306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395280" y="69228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e) graf 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–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708360" y="476280"/>
                <a:ext cx="4392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5613480" y="1341360"/>
                <a:ext cx="2411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6516720" y="1844640"/>
                <a:ext cx="757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4102200" y="2421000"/>
                <a:ext cx="2065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6129360" y="2997360"/>
                <a:ext cx="1089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4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1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3. vydání: ISBN -80-7196-154-X.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POJEM 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Co je funkce?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852640"/>
            <a:ext cx="78598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apisujeme ji:  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)    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čteme: funkční hodnota v bodě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nezávisle proměnná,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závisle proměnná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nožinu všech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R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tj. množinu všech nezávisle proměnných), k nimž existuj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azývám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DEFINIČNÍ OBOR 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. Značíme 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nožina všech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e kterým existuje aspoň jedn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tak, že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BOR HODNOT 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Značíme 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H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nožina všech bodů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 rovině takových, ž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a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 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válný popisek 4"/>
          <p:cNvSpPr/>
          <p:nvPr/>
        </p:nvSpPr>
        <p:spPr>
          <a:xfrm>
            <a:off x="4643280" y="476280"/>
            <a:ext cx="2160720" cy="865080"/>
          </a:xfrm>
          <a:prstGeom prst="wedgeEllipseCallout">
            <a:avLst>
              <a:gd name="adj1" fmla="val -96462"/>
              <a:gd name="adj2" fmla="val -3106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ávislost mezi jev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11280" y="1413000"/>
            <a:ext cx="7643880" cy="1079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FUNKCE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je předpis, který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ke každému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 množiny D přiřazu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právě jedno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reálné číslo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181240" cy="207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3276720" y="1630440"/>
            <a:ext cx="2181240" cy="20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5940360" y="1630440"/>
            <a:ext cx="2181240" cy="2076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15" descr="g14.jpg"/>
          <p:cNvPicPr/>
          <p:nvPr/>
        </p:nvPicPr>
        <p:blipFill>
          <a:blip r:embed="rId4"/>
          <a:stretch/>
        </p:blipFill>
        <p:spPr>
          <a:xfrm>
            <a:off x="3205080" y="393372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16" descr="g13.jpg"/>
          <p:cNvPicPr/>
          <p:nvPr/>
        </p:nvPicPr>
        <p:blipFill>
          <a:blip r:embed="rId5"/>
          <a:stretch/>
        </p:blipFill>
        <p:spPr>
          <a:xfrm>
            <a:off x="468360" y="3933720"/>
            <a:ext cx="2200320" cy="2257560"/>
          </a:xfrm>
          <a:prstGeom prst="rect">
            <a:avLst/>
          </a:prstGeom>
          <a:ln w="0">
            <a:noFill/>
          </a:ln>
        </p:spPr>
      </p:pic>
      <p:sp>
        <p:nvSpPr>
          <p:cNvPr id="103" name="Nadpis 1"/>
          <p:cNvSpPr/>
          <p:nvPr/>
        </p:nvSpPr>
        <p:spPr>
          <a:xfrm>
            <a:off x="5867280" y="3860640"/>
            <a:ext cx="2449800" cy="2089440"/>
          </a:xfrm>
          <a:prstGeom prst="rect">
            <a:avLst/>
          </a:prstGeom>
          <a:noFill/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 obrázku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D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ne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zobrazena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funk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otože ke každému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přiřazeno víc než jedn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!!!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19"/>
          <p:cNvSpPr/>
          <p:nvPr/>
        </p:nvSpPr>
        <p:spPr>
          <a:xfrm>
            <a:off x="612720" y="1630440"/>
            <a:ext cx="503280" cy="429120"/>
          </a:xfrm>
          <a:prstGeom prst="rect">
            <a:avLst/>
          </a:prstGeom>
          <a:solidFill>
            <a:srgbClr val="d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ovéPole 21"/>
          <p:cNvSpPr/>
          <p:nvPr/>
        </p:nvSpPr>
        <p:spPr>
          <a:xfrm>
            <a:off x="3240000" y="1620720"/>
            <a:ext cx="505080" cy="429120"/>
          </a:xfrm>
          <a:prstGeom prst="rect">
            <a:avLst/>
          </a:prstGeom>
          <a:solidFill>
            <a:srgbClr val="d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6" name="TextovéPole 22"/>
          <p:cNvSpPr/>
          <p:nvPr/>
        </p:nvSpPr>
        <p:spPr>
          <a:xfrm>
            <a:off x="5796000" y="1620720"/>
            <a:ext cx="504720" cy="429120"/>
          </a:xfrm>
          <a:prstGeom prst="rect">
            <a:avLst/>
          </a:prstGeom>
          <a:solidFill>
            <a:srgbClr val="d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7" name="TextovéPole 23"/>
          <p:cNvSpPr/>
          <p:nvPr/>
        </p:nvSpPr>
        <p:spPr>
          <a:xfrm>
            <a:off x="539640" y="3924360"/>
            <a:ext cx="505080" cy="429120"/>
          </a:xfrm>
          <a:prstGeom prst="rect">
            <a:avLst/>
          </a:prstGeom>
          <a:solidFill>
            <a:srgbClr val="d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8" name="TextovéPole 24"/>
          <p:cNvSpPr/>
          <p:nvPr/>
        </p:nvSpPr>
        <p:spPr>
          <a:xfrm>
            <a:off x="3276720" y="3924360"/>
            <a:ext cx="503280" cy="429120"/>
          </a:xfrm>
          <a:prstGeom prst="rect">
            <a:avLst/>
          </a:prstGeom>
          <a:solidFill>
            <a:srgbClr val="d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Arial"/>
              </a:rPr>
              <a:t>E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Nadpis 1"/>
          <p:cNvSpPr/>
          <p:nvPr/>
        </p:nvSpPr>
        <p:spPr>
          <a:xfrm>
            <a:off x="468360" y="333360"/>
            <a:ext cx="7620120" cy="746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teré zobrazení není grafem funkce?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Způsoby zadání funkce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tabulkou (výčtem prvků)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i můžeme také zapsat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buClr>
                <a:srgbClr val="a9a57c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čním předpisem (rovnicí)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buClr>
                <a:srgbClr val="a9a57c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buClr>
                <a:srgbClr val="a9a57c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grafem: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u empirických funkcí, jejichž hodnoty se získávají měřením, např. teplota vzduchu během dn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buClr>
                <a:srgbClr val="a9a57c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491400" indent="-393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2133720"/>
          <a:ext cx="4172040" cy="741240"/>
        </p:xfrm>
        <a:graphic>
          <a:graphicData uri="http://schemas.openxmlformats.org/drawingml/2006/table">
            <a:tbl>
              <a:tblPr/>
              <a:tblGrid>
                <a:gridCol w="432000"/>
                <a:gridCol w="747720"/>
                <a:gridCol w="749160"/>
                <a:gridCol w="747720"/>
                <a:gridCol w="747720"/>
                <a:gridCol w="747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4572000" y="3500280"/>
                <a:ext cx="31384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Oválný popisek 11"/>
          <p:cNvSpPr/>
          <p:nvPr/>
        </p:nvSpPr>
        <p:spPr>
          <a:xfrm>
            <a:off x="6084720" y="1484280"/>
            <a:ext cx="1800360" cy="720720"/>
          </a:xfrm>
          <a:prstGeom prst="wedgeEllipseCallout">
            <a:avLst>
              <a:gd name="adj1" fmla="val -84458"/>
              <a:gd name="adj2" fmla="val 60587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efiniční obor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Oválný popisek 12"/>
          <p:cNvSpPr/>
          <p:nvPr/>
        </p:nvSpPr>
        <p:spPr>
          <a:xfrm>
            <a:off x="6156360" y="2492280"/>
            <a:ext cx="1584360" cy="720720"/>
          </a:xfrm>
          <a:prstGeom prst="wedgeEllipseCallout">
            <a:avLst>
              <a:gd name="adj1" fmla="val -91587"/>
              <a:gd name="adj2" fmla="val -19546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bor hodnot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189080" y="4653000"/>
                <a:ext cx="144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205080" y="4653000"/>
                <a:ext cx="14875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5292720" y="4653000"/>
                <a:ext cx="1709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43880" cy="993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chybějící souřadnici bodu 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–2,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který leží na grafu funkc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1 –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900000" y="1486080"/>
                <a:ext cx="2124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Nadpis 1"/>
          <p:cNvSpPr/>
          <p:nvPr/>
        </p:nvSpPr>
        <p:spPr>
          <a:xfrm>
            <a:off x="457200" y="2232000"/>
            <a:ext cx="762012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počtěte hodnotu funkce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g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: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= 2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2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– 3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 v bodě –2 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900000" y="3465360"/>
                <a:ext cx="42325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Nadpis 1"/>
          <p:cNvSpPr/>
          <p:nvPr/>
        </p:nvSpPr>
        <p:spPr>
          <a:xfrm>
            <a:off x="457200" y="4248000"/>
            <a:ext cx="7620120" cy="936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Ověřte, zda body P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–1,2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Q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–3</a:t>
            </a:r>
            <a:r>
              <a:rPr b="0" lang="cs-CZ" sz="28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leží na grafu funkc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: y = 2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+ 4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4" name="Přímá spojovací šipka 12"/>
          <p:cNvCxnSpPr/>
          <p:nvPr/>
        </p:nvCxnSpPr>
        <p:spPr>
          <a:xfrm flipH="1">
            <a:off x="5724000" y="691920"/>
            <a:ext cx="172800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863640" y="5445000"/>
                <a:ext cx="19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3780000" y="5445000"/>
                <a:ext cx="19825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Oválný popisek 19"/>
          <p:cNvSpPr/>
          <p:nvPr/>
        </p:nvSpPr>
        <p:spPr>
          <a:xfrm>
            <a:off x="6012000" y="4869000"/>
            <a:ext cx="2232000" cy="863640"/>
          </a:xfrm>
          <a:prstGeom prst="wedgeEllipseCallout">
            <a:avLst>
              <a:gd name="adj1" fmla="val -69129"/>
              <a:gd name="adj2" fmla="val 73083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leží na grafu,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Q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n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Elipsa 23"/>
          <p:cNvSpPr/>
          <p:nvPr/>
        </p:nvSpPr>
        <p:spPr>
          <a:xfrm>
            <a:off x="5148360" y="83664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TextovéPole 14"/>
          <p:cNvSpPr/>
          <p:nvPr/>
        </p:nvSpPr>
        <p:spPr>
          <a:xfrm>
            <a:off x="395280" y="5373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P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TextovéPole 15"/>
          <p:cNvSpPr/>
          <p:nvPr/>
        </p:nvSpPr>
        <p:spPr>
          <a:xfrm>
            <a:off x="3292560" y="5373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Q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8506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definiční obor funkce: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719280" y="4365720"/>
                <a:ext cx="2770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719280" y="1773360"/>
                <a:ext cx="2293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719280" y="3681360"/>
                <a:ext cx="21826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719280" y="2708280"/>
                <a:ext cx="195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719280" y="5084640"/>
                <a:ext cx="2070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780000" y="2133720"/>
                <a:ext cx="15476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5867280" y="2060640"/>
                <a:ext cx="1954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0"/>
              <p:cNvSpPr txBox="1"/>
              <p:nvPr/>
            </p:nvSpPr>
            <p:spPr>
              <a:xfrm>
                <a:off x="3778200" y="2852640"/>
                <a:ext cx="1236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1"/>
              <p:cNvSpPr txBox="1"/>
              <p:nvPr/>
            </p:nvSpPr>
            <p:spPr>
              <a:xfrm>
                <a:off x="5867280" y="2924280"/>
                <a:ext cx="1976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2"/>
              <p:cNvSpPr txBox="1"/>
              <p:nvPr/>
            </p:nvSpPr>
            <p:spPr>
              <a:xfrm>
                <a:off x="3778200" y="3789360"/>
                <a:ext cx="11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5867280" y="3573360"/>
                <a:ext cx="1643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3778200" y="5373720"/>
                <a:ext cx="19033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5867280" y="5300640"/>
                <a:ext cx="1711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3778200" y="4508640"/>
                <a:ext cx="1579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5724360" y="4508640"/>
                <a:ext cx="2778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Oválný popisek 18"/>
          <p:cNvSpPr/>
          <p:nvPr/>
        </p:nvSpPr>
        <p:spPr>
          <a:xfrm>
            <a:off x="4859280" y="981000"/>
            <a:ext cx="2233800" cy="792360"/>
          </a:xfrm>
          <a:prstGeom prst="wedgeEllipseCallout">
            <a:avLst>
              <a:gd name="adj1" fmla="val -55064"/>
              <a:gd name="adj2" fmla="val 80513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tanovíme podmínk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lipsa 28"/>
          <p:cNvSpPr/>
          <p:nvPr/>
        </p:nvSpPr>
        <p:spPr>
          <a:xfrm>
            <a:off x="2627280" y="1125360"/>
            <a:ext cx="1081080" cy="79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Elipsa 7"/>
          <p:cNvSpPr/>
          <p:nvPr/>
        </p:nvSpPr>
        <p:spPr>
          <a:xfrm>
            <a:off x="3564000" y="4292640"/>
            <a:ext cx="1584360" cy="64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7620120" cy="1441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počtěte souřadnice bodu, v němž graf funkce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protíná: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Zástupný symbol pro obsah 4"/>
              <p:cNvSpPr txBox="1"/>
              <p:nvPr/>
            </p:nvSpPr>
            <p:spPr>
              <a:xfrm>
                <a:off x="1763640" y="3068640"/>
                <a:ext cx="2098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ovéPole 5"/>
          <p:cNvSpPr/>
          <p:nvPr/>
        </p:nvSpPr>
        <p:spPr>
          <a:xfrm>
            <a:off x="539640" y="458136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) os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1763640" y="4365720"/>
                <a:ext cx="4478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54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7524720" y="5013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468360" y="260280"/>
            <a:ext cx="76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dílnou součástí grafu jsou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RŮSEČÍKY S OSAMI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ouřadnicového systému. Tedy body, které mají jednu ze souřadnic rovnu nule: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 osou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x: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sou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y: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3"/>
              <p:cNvSpPr txBox="1"/>
              <p:nvPr/>
            </p:nvSpPr>
            <p:spPr>
              <a:xfrm>
                <a:off x="6588000" y="4365720"/>
                <a:ext cx="1198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2627280" y="1301760"/>
                <a:ext cx="1003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5364000" y="1301760"/>
                <a:ext cx="1068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Elipsa 29"/>
          <p:cNvSpPr/>
          <p:nvPr/>
        </p:nvSpPr>
        <p:spPr>
          <a:xfrm>
            <a:off x="5364000" y="1125360"/>
            <a:ext cx="1224000" cy="79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7596360" y="522936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6"/>
          <p:cNvSpPr/>
          <p:nvPr/>
        </p:nvSpPr>
        <p:spPr>
          <a:xfrm>
            <a:off x="395280" y="4221000"/>
            <a:ext cx="27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d) graf 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g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3240000" y="4049640"/>
                <a:ext cx="29941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4606920" y="4842000"/>
                <a:ext cx="3019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64" name="Obrázek 40" descr="zatržítko.JPG"/>
          <p:cNvPicPr/>
          <p:nvPr/>
        </p:nvPicPr>
        <p:blipFill>
          <a:blip r:embed="rId2"/>
          <a:srcRect l="6951" t="6628" r="9451" b="13547"/>
          <a:stretch/>
        </p:blipFill>
        <p:spPr>
          <a:xfrm>
            <a:off x="7596360" y="350028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65" name="TextovéPole 12"/>
          <p:cNvSpPr/>
          <p:nvPr/>
        </p:nvSpPr>
        <p:spPr>
          <a:xfrm>
            <a:off x="468360" y="194328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c) osu I. a III. kvadrantu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2200" y="1733400"/>
                <a:ext cx="3135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840200" y="2565360"/>
                <a:ext cx="1708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ovéPole 15"/>
          <p:cNvSpPr/>
          <p:nvPr/>
        </p:nvSpPr>
        <p:spPr>
          <a:xfrm>
            <a:off x="458640" y="7650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b) os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1692360" y="549360"/>
                <a:ext cx="46735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70" name="Obrázek 40" descr="zatržítko.JPG"/>
          <p:cNvPicPr/>
          <p:nvPr/>
        </p:nvPicPr>
        <p:blipFill>
          <a:blip r:embed="rId3"/>
          <a:srcRect l="6951" t="6628" r="9451" b="13547"/>
          <a:stretch/>
        </p:blipFill>
        <p:spPr>
          <a:xfrm>
            <a:off x="7596360" y="1268280"/>
            <a:ext cx="86328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6804000" y="549360"/>
                <a:ext cx="12286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084720" y="2924280"/>
                <a:ext cx="8668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7093080" y="2924280"/>
                <a:ext cx="12286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3"/>
              <p:cNvSpPr txBox="1"/>
              <p:nvPr/>
            </p:nvSpPr>
            <p:spPr>
              <a:xfrm>
                <a:off x="6516720" y="5445000"/>
                <a:ext cx="1033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5003640" y="2924280"/>
                <a:ext cx="838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T 1</cp:lastModifiedBy>
  <dcterms:modified xsi:type="dcterms:W3CDTF">2014-03-26T11:38:01Z</dcterms:modified>
  <cp:revision>149</cp:revision>
  <dc:subject/>
  <dc:title>Název</dc:title>
</cp:coreProperties>
</file>