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689E-9E3F-44F8-95B9-A4BEA9B1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1210-08E7-4C99-8B03-8D47FDA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8446-23AB-4876-991D-A50B7C02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5B15-5B9A-4747-9BC4-071B008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21A-7610-44F7-ADC3-31AAB2F3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CFE5-167D-40A8-80C1-A24EEF1D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00FF-0801-450E-9B2C-B6FDCBC4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A93-EACC-4A25-BFD7-F0DAA747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7E0E-4448-49D2-A6E3-64AFE79F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F6B4-77B1-40A7-B3D9-4BDEEDE5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673D-D242-4195-8D54-EBAB435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730C-0E0A-4623-BF2E-27CEA9E2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11A9-3308-42A9-97B0-3AF902F4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9E1A-7D9C-4AAA-8A74-3AB8FC6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664-9C9D-4DA2-A8ED-F71829C5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CCF-F3A9-40C0-9DDE-3D946C75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0FC9-A247-44D1-B611-8E84D626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C621-7E45-4C65-8D67-F494586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515D-4388-42CC-9C85-2939F2D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28A3-C816-43F9-BEB0-76B5E05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43C3-B62C-433B-85EC-95DD1803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121D-9984-46F3-9395-AAC759A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0A52-F5A5-48F6-BAA8-1CAEB5C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CEE5-E901-42D6-86A0-240995A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7948-9E5D-4608-B1DE-7B705ADE3AD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E9D-AB7F-4BD5-831B-76DF51FE623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F716-EEC1-43DD-9AE1-BE48605ED24D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618A-32A3-41AD-99A8-03A945D5A5C2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ineární nerovni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rovnici řešte v množině R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množině N určete všechna řešení rovnice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ro která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R je výraz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 větší než -6?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terá záporná čísla vyhovují nerovnici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lik řešení má v N, Z, R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nerovnice?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,  2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,2,3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3)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  ,  4) všechna,  5) N, Z, R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4643280" y="1628640"/>
                <a:ext cx="319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6472080" y="1978200"/>
                <a:ext cx="1578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3995640" y="2565360"/>
                <a:ext cx="7113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1"/>
              <p:cNvSpPr txBox="1"/>
              <p:nvPr/>
            </p:nvSpPr>
            <p:spPr>
              <a:xfrm>
                <a:off x="900000" y="5013360"/>
                <a:ext cx="1022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4067280" y="3716280"/>
                <a:ext cx="2104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4"/>
              <p:cNvSpPr txBox="1"/>
              <p:nvPr/>
            </p:nvSpPr>
            <p:spPr>
              <a:xfrm>
                <a:off x="3780000" y="5013360"/>
                <a:ext cx="1090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1692360" y="3357720"/>
                <a:ext cx="28033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2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2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INEÁRNÍ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3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neární nerovni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3860280"/>
            <a:ext cx="7620120" cy="23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ak řešením nerovnice je množina reálných čísel, kterou lze vyjádřit pomocí intervalu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spcAft>
                <a:spcPts val="1199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= 0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současně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=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ak má nerovnice nekonečně mnoho řešení, pro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0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žádné řešení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Pozor!!! Při dělení nerovnice záporným číslem nebo při záměně stran se obrací znak nerovnosti!!!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2160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ineární nerovnicí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 neznám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zýváme každou nerovnici, kterou lze převést ekvivalentními úpravami do tvar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x + b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&gt; 0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Znak nerovnosti může být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&gt;, ≥, &lt;, ≤,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kvivalentní úprav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pomocí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ekvivalentních úprav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evádíme nerovnici na jednodušší tvar, ze kterého můžeme vyjádřit výsledek. Přitom množina všech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řešení nerovnice se nezmě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ovedeme-li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áměnu stran nerovnice se současným obrácením znaku nerovnosti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čteme-li (odečteme) stejné číslo nebo stejný výraz s neznámou k oběma stranám ne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rovnici vynásobíme (dělíme) stejným nenulovým číslem (odstranění zlomku z nerovnic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Úpravy vždy aplikujeme na obě strany nerovnice!!!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stup řeše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dstranění zlomků a závorek z ne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jednodušení levé a pravé strany ne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dělení nerovnice číslem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, </a:t>
            </a:r>
            <a:r>
              <a:rPr b="1" i="1" lang="cs-CZ" sz="2200" spc="-1" strike="noStrike">
                <a:solidFill>
                  <a:srgbClr val="ff0000"/>
                </a:solidFill>
                <a:latin typeface="Cambria"/>
              </a:rPr>
              <a:t>vyjádření výsledku intervalem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kontrola správnosti výsledku dosazením libovolné zvolené hodnoty do výrazů na levé i pravé straně nerovnic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zn.: Pro jednodušší představu při zápisu intervalu využíváme grafického znázornění na číselné ose.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(Řekni si: „Kam jde znak nerovnosti, tam jde šipka na číselné ose!“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Zástupný symbol pro obsah 3"/>
              <p:cNvSpPr txBox="1"/>
              <p:nvPr/>
            </p:nvSpPr>
            <p:spPr>
              <a:xfrm>
                <a:off x="2987640" y="581040"/>
                <a:ext cx="4308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1238400" y="1871640"/>
                <a:ext cx="2597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1116000" y="2421000"/>
                <a:ext cx="2206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763640" y="2997360"/>
                <a:ext cx="1285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1895400" y="3500280"/>
                <a:ext cx="94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Zaoblený obdélníkový popisek 16"/>
          <p:cNvSpPr/>
          <p:nvPr/>
        </p:nvSpPr>
        <p:spPr>
          <a:xfrm>
            <a:off x="5292720" y="2565360"/>
            <a:ext cx="2808360" cy="934920"/>
          </a:xfrm>
          <a:prstGeom prst="wedgeRoundRectCallout">
            <a:avLst>
              <a:gd name="adj1" fmla="val -120296"/>
              <a:gd name="adj2" fmla="val -4159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řičt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 oběma stranám nerovnice členu 3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a odečtení 6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8" name="Zaoblený obdélníkový popisek 17"/>
          <p:cNvSpPr/>
          <p:nvPr/>
        </p:nvSpPr>
        <p:spPr>
          <a:xfrm>
            <a:off x="4284720" y="3933720"/>
            <a:ext cx="3600360" cy="432000"/>
          </a:xfrm>
          <a:prstGeom prst="wedgeRoundRectCallout">
            <a:avLst>
              <a:gd name="adj1" fmla="val -84129"/>
              <a:gd name="adj2" fmla="val -211652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děl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nerovnice číslem 5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Zaoblený obdélníkový popisek 19"/>
          <p:cNvSpPr/>
          <p:nvPr/>
        </p:nvSpPr>
        <p:spPr>
          <a:xfrm>
            <a:off x="1476360" y="5661000"/>
            <a:ext cx="3672000" cy="647640"/>
          </a:xfrm>
          <a:prstGeom prst="wedgeRoundRectCallout">
            <a:avLst>
              <a:gd name="adj1" fmla="val -38018"/>
              <a:gd name="adj2" fmla="val -21086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Řešením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nerovnice jsou všechna 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menší nebo rovna -2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10" name="Skupina 18"/>
          <p:cNvGrpSpPr/>
          <p:nvPr/>
        </p:nvGrpSpPr>
        <p:grpSpPr>
          <a:xfrm>
            <a:off x="899280" y="4149360"/>
            <a:ext cx="3312360" cy="1006920"/>
            <a:chOff x="899280" y="4149360"/>
            <a:chExt cx="3312360" cy="1006920"/>
          </a:xfrm>
        </p:grpSpPr>
        <p:sp>
          <p:nvSpPr>
            <p:cNvPr id="111" name="Přímá spojovací čára 23"/>
            <p:cNvSpPr/>
            <p:nvPr/>
          </p:nvSpPr>
          <p:spPr>
            <a:xfrm>
              <a:off x="900000" y="4940640"/>
              <a:ext cx="331164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Přímá spojovací čára 25"/>
            <p:cNvSpPr/>
            <p:nvPr/>
          </p:nvSpPr>
          <p:spPr>
            <a:xfrm>
              <a:off x="3203640" y="4149720"/>
              <a:ext cx="0" cy="10065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13" name="Přímá spojovací šipka 28"/>
            <p:cNvCxnSpPr/>
            <p:nvPr/>
          </p:nvCxnSpPr>
          <p:spPr>
            <a:xfrm flipH="1">
              <a:off x="899280" y="4149360"/>
              <a:ext cx="2304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med" type="arrow" w="med"/>
            </a:ln>
          </p:spPr>
        </p:cxnSp>
      </p:grpSp>
      <p:sp>
        <p:nvSpPr>
          <p:cNvPr id="114" name="TextovéPole 29"/>
          <p:cNvSpPr/>
          <p:nvPr/>
        </p:nvSpPr>
        <p:spPr>
          <a:xfrm>
            <a:off x="2916360" y="5156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7"/>
              <p:cNvSpPr txBox="1"/>
              <p:nvPr/>
            </p:nvSpPr>
            <p:spPr>
              <a:xfrm>
                <a:off x="5724360" y="5084640"/>
                <a:ext cx="1814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Zaoblený obdélníkový popisek 32"/>
          <p:cNvSpPr/>
          <p:nvPr/>
        </p:nvSpPr>
        <p:spPr>
          <a:xfrm>
            <a:off x="5435640" y="1700280"/>
            <a:ext cx="2952720" cy="649080"/>
          </a:xfrm>
          <a:prstGeom prst="wedgeRoundRectCallout">
            <a:avLst>
              <a:gd name="adj1" fmla="val -97611"/>
              <a:gd name="adj2" fmla="val 542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dstraně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závorek na obou stranách  ne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7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524720" y="508464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Zástupný symbol pro obsah 3"/>
              <p:cNvSpPr txBox="1"/>
              <p:nvPr/>
            </p:nvSpPr>
            <p:spPr>
              <a:xfrm>
                <a:off x="2873520" y="549360"/>
                <a:ext cx="5295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611280" y="1916280"/>
                <a:ext cx="33512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826920" y="2421000"/>
                <a:ext cx="2486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9"/>
              <p:cNvSpPr txBox="1"/>
              <p:nvPr/>
            </p:nvSpPr>
            <p:spPr>
              <a:xfrm>
                <a:off x="1930320" y="2997360"/>
                <a:ext cx="9511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Zaoblený obdélníkový popisek 7"/>
          <p:cNvSpPr/>
          <p:nvPr/>
        </p:nvSpPr>
        <p:spPr>
          <a:xfrm>
            <a:off x="5435640" y="1628640"/>
            <a:ext cx="2952720" cy="720720"/>
          </a:xfrm>
          <a:prstGeom prst="wedgeRoundRectCallout">
            <a:avLst>
              <a:gd name="adj1" fmla="val -97611"/>
              <a:gd name="adj2" fmla="val 542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dstraně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závorek na obou stranách  ne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4" name="Zaoblený obdélníkový popisek 8"/>
          <p:cNvSpPr/>
          <p:nvPr/>
        </p:nvSpPr>
        <p:spPr>
          <a:xfrm>
            <a:off x="5076720" y="2565360"/>
            <a:ext cx="3022560" cy="719280"/>
          </a:xfrm>
          <a:prstGeom prst="wedgeRoundRectCallout">
            <a:avLst>
              <a:gd name="adj1" fmla="val -105328"/>
              <a:gd name="adj2" fmla="val -4001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řičt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 oběma stranám nerovnice 6 a odečtení 10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Zaoblený obdélníkový popisek 9"/>
          <p:cNvSpPr/>
          <p:nvPr/>
        </p:nvSpPr>
        <p:spPr>
          <a:xfrm>
            <a:off x="4356000" y="3716280"/>
            <a:ext cx="3311640" cy="863640"/>
          </a:xfrm>
          <a:prstGeom prst="wedgeRoundRectCallout">
            <a:avLst>
              <a:gd name="adj1" fmla="val -93875"/>
              <a:gd name="adj2" fmla="val -10837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otože řešením nerovnice dostáváme nepravdivý výrok, nerovnice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NEMÁ ŘEŠENÍ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TextovéPole 4"/>
          <p:cNvSpPr/>
          <p:nvPr/>
        </p:nvSpPr>
        <p:spPr>
          <a:xfrm>
            <a:off x="539640" y="472428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zn.: Kdyby byla nerovnice zadána s opačným znakem nerovnosti, pak bychom úpravami nerovnice získali pravdivý výrok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a jejím řešením by byla celá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množina 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651640" y="5013360"/>
                <a:ext cx="7524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2700360" y="5373720"/>
            <a:ext cx="863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466560" y="3789360"/>
                <a:ext cx="2233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Zaoblený obdélníkový popisek 12"/>
          <p:cNvSpPr/>
          <p:nvPr/>
        </p:nvSpPr>
        <p:spPr>
          <a:xfrm>
            <a:off x="5435640" y="1773360"/>
            <a:ext cx="2952720" cy="934920"/>
          </a:xfrm>
          <a:prstGeom prst="wedgeRoundRectCallout">
            <a:avLst>
              <a:gd name="adj1" fmla="val -93782"/>
              <a:gd name="adj2" fmla="val -1160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násob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nerovnice nejmenším společným jmenovatelem zlomk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2" name="Zaoblený obdélníkový popisek 17"/>
          <p:cNvSpPr/>
          <p:nvPr/>
        </p:nvSpPr>
        <p:spPr>
          <a:xfrm>
            <a:off x="5148360" y="2924280"/>
            <a:ext cx="2592360" cy="649080"/>
          </a:xfrm>
          <a:prstGeom prst="wedgeRoundRectCallout">
            <a:avLst>
              <a:gd name="adj1" fmla="val -105291"/>
              <a:gd name="adj2" fmla="val -308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Zkrác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zlomků a roznásobení závorek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Zaoblený obdélníkový popisek 19"/>
          <p:cNvSpPr/>
          <p:nvPr/>
        </p:nvSpPr>
        <p:spPr>
          <a:xfrm>
            <a:off x="4716360" y="3716280"/>
            <a:ext cx="2808360" cy="647640"/>
          </a:xfrm>
          <a:prstGeom prst="wedgeRoundRectCallout">
            <a:avLst>
              <a:gd name="adj1" fmla="val -96638"/>
              <a:gd name="adj2" fmla="val -867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dečt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 obou stran rovnice výrazu 3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a 6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Zaoblený obdélníkový popisek 20"/>
          <p:cNvSpPr/>
          <p:nvPr/>
        </p:nvSpPr>
        <p:spPr>
          <a:xfrm>
            <a:off x="4211640" y="4724280"/>
            <a:ext cx="3097080" cy="648000"/>
          </a:xfrm>
          <a:prstGeom prst="wedgeRoundRectCallout">
            <a:avLst>
              <a:gd name="adj1" fmla="val -73337"/>
              <a:gd name="adj2" fmla="val 917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děl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rovnice  -8,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obrácení znaku nerovnosti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4"/>
              <p:cNvSpPr txBox="1"/>
              <p:nvPr/>
            </p:nvSpPr>
            <p:spPr>
              <a:xfrm>
                <a:off x="2897280" y="333360"/>
                <a:ext cx="30826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5"/>
              <p:cNvSpPr txBox="1"/>
              <p:nvPr/>
            </p:nvSpPr>
            <p:spPr>
              <a:xfrm>
                <a:off x="468360" y="1773360"/>
                <a:ext cx="36385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39640" y="2637000"/>
                <a:ext cx="33260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7"/>
              <p:cNvSpPr txBox="1"/>
              <p:nvPr/>
            </p:nvSpPr>
            <p:spPr>
              <a:xfrm>
                <a:off x="1079640" y="4292640"/>
                <a:ext cx="1341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8"/>
              <p:cNvSpPr txBox="1"/>
              <p:nvPr/>
            </p:nvSpPr>
            <p:spPr>
              <a:xfrm>
                <a:off x="873000" y="3284640"/>
                <a:ext cx="2793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2"/>
              <p:cNvSpPr txBox="1"/>
              <p:nvPr/>
            </p:nvSpPr>
            <p:spPr>
              <a:xfrm>
                <a:off x="2050920" y="5300640"/>
                <a:ext cx="252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1488960" y="4653000"/>
                <a:ext cx="809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aoblený obdélníkový popisek 1"/>
          <p:cNvSpPr/>
          <p:nvPr/>
        </p:nvSpPr>
        <p:spPr>
          <a:xfrm>
            <a:off x="2124000" y="2708280"/>
            <a:ext cx="3456000" cy="720720"/>
          </a:xfrm>
          <a:prstGeom prst="wedgeRoundRectCallout">
            <a:avLst>
              <a:gd name="adj1" fmla="val -32675"/>
              <a:gd name="adj2" fmla="val -21222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Řešením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nerovnice jsou všechna 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větší než  1/8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5732640" y="1793880"/>
                <a:ext cx="15080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4" name="Skupina 10"/>
          <p:cNvGrpSpPr/>
          <p:nvPr/>
        </p:nvGrpSpPr>
        <p:grpSpPr>
          <a:xfrm>
            <a:off x="755280" y="981000"/>
            <a:ext cx="3348360" cy="2024280"/>
            <a:chOff x="755280" y="981000"/>
            <a:chExt cx="3348360" cy="2024280"/>
          </a:xfrm>
        </p:grpSpPr>
        <p:sp>
          <p:nvSpPr>
            <p:cNvPr id="145" name="TextovéPole 6"/>
            <p:cNvSpPr/>
            <p:nvPr/>
          </p:nvSpPr>
          <p:spPr>
            <a:xfrm flipH="1">
              <a:off x="1476360" y="2060640"/>
              <a:ext cx="574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6" name="Přímá spojovací čára 3"/>
            <p:cNvSpPr/>
            <p:nvPr/>
          </p:nvSpPr>
          <p:spPr>
            <a:xfrm flipH="1">
              <a:off x="755280" y="1844640"/>
              <a:ext cx="331164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7" name="Přímá spojovací čára 4"/>
            <p:cNvSpPr/>
            <p:nvPr/>
          </p:nvSpPr>
          <p:spPr>
            <a:xfrm>
              <a:off x="1763640" y="1052280"/>
              <a:ext cx="0" cy="10098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48" name="Přímá spojovací šipka 5"/>
            <p:cNvCxnSpPr/>
            <p:nvPr/>
          </p:nvCxnSpPr>
          <p:spPr>
            <a:xfrm>
              <a:off x="1763640" y="1051920"/>
              <a:ext cx="234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149" name="Object 3"/>
                <p:cNvSpPr txBox="1"/>
                <p:nvPr/>
              </p:nvSpPr>
              <p:spPr>
                <a:xfrm>
                  <a:off x="1600200" y="2133720"/>
                  <a:ext cx="30924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Vývojový diagram: spojka 12"/>
            <p:cNvSpPr/>
            <p:nvPr/>
          </p:nvSpPr>
          <p:spPr>
            <a:xfrm>
              <a:off x="1692000" y="981000"/>
              <a:ext cx="179280" cy="179280"/>
            </a:xfrm>
            <a:prstGeom prst="flowChartConnector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pic>
        <p:nvPicPr>
          <p:cNvPr id="151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80360" y="198900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4-27T19:20:24Z</dcterms:modified>
  <cp:revision>160</cp:revision>
  <dc:subject/>
  <dc:title>Název</dc:title>
</cp:coreProperties>
</file>