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A70C-FFFD-4F5F-87D8-DB1EB451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64F6-3E81-468F-8E06-74532224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81B3-A10F-4FBD-9A46-917A5CE1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5B33-41B5-4B4B-915A-A11EC53E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AA7E-D36C-4AE7-9481-7DC85E9B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3FB4-856C-4C1F-8501-F6C229DD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006F-ED88-46B2-8364-7FAFFF6A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A7A0-0B34-4B2A-81DE-A765200A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EAF2-4989-4609-AAEA-FA460783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E12B-19AE-4E6E-92B3-9F4E828F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60D6-9E3F-4FEF-8D56-B38D70FF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6AF0-E81D-4609-9816-667BC934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D0C4-F04D-4A67-9B98-BB95BDED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6B63-0939-42DD-A5A0-CEB84FE1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52F2-3E24-4067-8A6D-3349093D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A692-9D6B-46A9-840C-49771595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DDD7-C474-43E6-8397-616DE3A8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DD65-7970-4DD5-A547-50741065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5061-6CBA-441A-AF68-15993C48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66C2-D4D3-4A61-B747-9AA1C05C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C1A8-A99C-497D-B8E2-AAAA60AD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50A1-991B-4A54-BF90-5EF9F412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2314-08FE-429B-A02D-66942FF2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D62C-4C47-438A-946A-2A84EB20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2C87-484D-4046-91C9-59F9DB0E9EEB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714F-43EA-4A40-BF1A-B3F263CC9ED2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C0DB-3F4F-4D49-8918-AC058B86105E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3D1B-8D47-4824-9B03-951A0985199D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Rovnice s absolutní hodnotou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5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Dytrych, M., Dobiasová, I., Livňansk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y pro nižší ročníky víceletých gymnázií a pro 2.stupeň základních škol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Fortuna, Praha 2001, 2. vydání: ISBN 80-7168-766-9    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Charvát, J., Zhouf, J., Boček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Rovnice a nerovni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3. vydání: ISBN 80-7196-154-X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Hudcová, M., Kubičíkov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 matematiky pro SOŠ, SOU a nástavbové studium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1. vydání: ISBN 80-7196-165-5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ROVNICE S ABSOLUTNÍ HODNOTOU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8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Rovnice s absolutní hodnotou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Lineární rovnice s jednou absolutní hodnotou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lze řešit z pohledu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geometrického významu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absolutní hodnoty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eálného čísla, tj. vzdálenosti obrazu tohoto čísla od počátku na číselné ose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apř.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Rovnice s více absolutními hodnotami je vhodné řešit </a:t>
            </a: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metodou nulových bodů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apř.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3203640" y="3213000"/>
                <a:ext cx="1289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3276720" y="5084640"/>
                <a:ext cx="2400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3132000" y="476280"/>
                <a:ext cx="17924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Zaoblený obdélníkový popisek 3"/>
          <p:cNvSpPr/>
          <p:nvPr/>
        </p:nvSpPr>
        <p:spPr>
          <a:xfrm>
            <a:off x="4572000" y="1341360"/>
            <a:ext cx="3672000" cy="1150920"/>
          </a:xfrm>
          <a:prstGeom prst="wedgeRoundRectCallout">
            <a:avLst>
              <a:gd name="adj1" fmla="val -56629"/>
              <a:gd name="adj2" fmla="val 107305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Nejprve učíme nulový bod, kterým rozdělíme množinu reálných čísel na dva intervaly a v každém z nich rovnici vyřešíme zvlášť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1" name="Zaoblený obdélníkový popisek 4"/>
          <p:cNvSpPr/>
          <p:nvPr/>
        </p:nvSpPr>
        <p:spPr>
          <a:xfrm>
            <a:off x="684360" y="4797360"/>
            <a:ext cx="4751280" cy="1152720"/>
          </a:xfrm>
          <a:prstGeom prst="wedgeRoundRectCallout">
            <a:avLst>
              <a:gd name="adj1" fmla="val 37347"/>
              <a:gd name="adj2" fmla="val -92393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Jinými slovy: počátek číselné osy posuneme do nulového bodu a hledáme taková </a:t>
            </a:r>
            <a:r>
              <a:rPr b="1" i="1" lang="cs-CZ" sz="1800" spc="-1" strike="noStrike">
                <a:solidFill>
                  <a:srgbClr val="2f2b20"/>
                </a:solidFill>
                <a:latin typeface="Cambria"/>
              </a:rPr>
              <a:t>x</a:t>
            </a: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, která jsou od něj vzdálena právě dvě jednotky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02" name="Skupina 20"/>
          <p:cNvGrpSpPr/>
          <p:nvPr/>
        </p:nvGrpSpPr>
        <p:grpSpPr>
          <a:xfrm>
            <a:off x="1692360" y="2852640"/>
            <a:ext cx="4680000" cy="1544760"/>
            <a:chOff x="1692360" y="2852640"/>
            <a:chExt cx="4680000" cy="1544760"/>
          </a:xfrm>
        </p:grpSpPr>
        <p:sp>
          <p:nvSpPr>
            <p:cNvPr id="103" name="Přímá spojovací čára 6"/>
            <p:cNvSpPr/>
            <p:nvPr/>
          </p:nvSpPr>
          <p:spPr>
            <a:xfrm>
              <a:off x="1692360" y="3716280"/>
              <a:ext cx="468000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4" name="Přímá spojovací čára 8"/>
            <p:cNvSpPr/>
            <p:nvPr/>
          </p:nvSpPr>
          <p:spPr>
            <a:xfrm>
              <a:off x="4213440" y="3500280"/>
              <a:ext cx="0" cy="36036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3"/>
                <p:cNvSpPr txBox="1"/>
                <p:nvPr/>
              </p:nvSpPr>
              <p:spPr>
                <a:xfrm>
                  <a:off x="4102920" y="4005360"/>
                  <a:ext cx="2523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Přímá spojovací čára 10"/>
            <p:cNvSpPr/>
            <p:nvPr/>
          </p:nvSpPr>
          <p:spPr>
            <a:xfrm>
              <a:off x="5653440" y="3527280"/>
              <a:ext cx="0" cy="36036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7" name="Přímá spojovací čára 11"/>
            <p:cNvSpPr/>
            <p:nvPr/>
          </p:nvSpPr>
          <p:spPr>
            <a:xfrm>
              <a:off x="2773440" y="3527280"/>
              <a:ext cx="0" cy="36036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4"/>
                <p:cNvSpPr txBox="1"/>
                <p:nvPr/>
              </p:nvSpPr>
              <p:spPr>
                <a:xfrm>
                  <a:off x="5545800" y="4005360"/>
                  <a:ext cx="2793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Object 5"/>
                <p:cNvSpPr txBox="1"/>
                <p:nvPr/>
              </p:nvSpPr>
              <p:spPr>
                <a:xfrm>
                  <a:off x="2662920" y="4005360"/>
                  <a:ext cx="2523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Oblouk 15"/>
            <p:cNvSpPr/>
            <p:nvPr/>
          </p:nvSpPr>
          <p:spPr>
            <a:xfrm>
              <a:off x="2771640" y="3284280"/>
              <a:ext cx="1441440" cy="504720"/>
            </a:xfrm>
            <a:custGeom>
              <a:avLst/>
              <a:gdLst>
                <a:gd name="textAreaLeft" fmla="*/ 0 w 1441440"/>
                <a:gd name="textAreaRight" fmla="*/ 1441440 w 1441440"/>
                <a:gd name="textAreaTop" fmla="*/ 0 h 504720"/>
                <a:gd name="textAreaBottom" fmla="*/ 252360 h 504720"/>
              </a:gdLst>
              <a:ahLst/>
              <a:rect l="textAreaLeft" t="textAreaTop" r="textAreaRight" b="textAreaBottom"/>
              <a:pathLst>
                <a:path stroke="0" w="1441465" h="504947">
                  <a:moveTo>
                    <a:pt x="24" y="250420"/>
                  </a:moveTo>
                  <a:lnTo>
                    <a:pt x="24" y="250420"/>
                  </a:lnTo>
                  <a:arcTo wR="720733" hR="252474" stAng="-10790203" swAng="10790207"/>
                  <a:lnTo>
                    <a:pt x="720733" y="252474"/>
                  </a:lnTo>
                  <a:close/>
                </a:path>
                <a:path fill="none" w="1441465" h="504947">
                  <a:moveTo>
                    <a:pt x="24" y="250420"/>
                  </a:moveTo>
                  <a:lnTo>
                    <a:pt x="24" y="250420"/>
                  </a:lnTo>
                  <a:arcTo wR="720733" hR="252474" stAng="-10790203" swAng="10790207"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1" name="Oblouk 16"/>
            <p:cNvSpPr/>
            <p:nvPr/>
          </p:nvSpPr>
          <p:spPr>
            <a:xfrm flipH="1">
              <a:off x="4212720" y="3284280"/>
              <a:ext cx="1439640" cy="504720"/>
            </a:xfrm>
            <a:custGeom>
              <a:avLst/>
              <a:gdLst>
                <a:gd name="textAreaLeft" fmla="*/ -360 w 1439640"/>
                <a:gd name="textAreaRight" fmla="*/ 1439640 w 1439640"/>
                <a:gd name="textAreaTop" fmla="*/ 0 h 504720"/>
                <a:gd name="textAreaBottom" fmla="*/ 252360 h 504720"/>
              </a:gdLst>
              <a:ahLst/>
              <a:rect l="textAreaLeft" t="textAreaTop" r="textAreaRight" b="textAreaBottom"/>
              <a:pathLst>
                <a:path stroke="0" w="1439878" h="504947">
                  <a:moveTo>
                    <a:pt x="24" y="250422"/>
                  </a:moveTo>
                  <a:lnTo>
                    <a:pt x="24" y="250422"/>
                  </a:lnTo>
                  <a:arcTo wR="719939" hR="252474" stAng="-10790206" swAng="10790216"/>
                  <a:lnTo>
                    <a:pt x="719939" y="252474"/>
                  </a:lnTo>
                  <a:close/>
                </a:path>
                <a:path fill="none" w="1439878" h="504947">
                  <a:moveTo>
                    <a:pt x="24" y="250422"/>
                  </a:moveTo>
                  <a:lnTo>
                    <a:pt x="24" y="250422"/>
                  </a:lnTo>
                  <a:arcTo wR="719939" hR="252474" stAng="-10790206" swAng="10790216"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6"/>
                <p:cNvSpPr txBox="1"/>
                <p:nvPr/>
              </p:nvSpPr>
              <p:spPr>
                <a:xfrm>
                  <a:off x="4716720" y="2852640"/>
                  <a:ext cx="53316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7"/>
                <p:cNvSpPr txBox="1"/>
                <p:nvPr/>
              </p:nvSpPr>
              <p:spPr>
                <a:xfrm>
                  <a:off x="3204360" y="2852640"/>
                  <a:ext cx="50292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6443640" y="4653000"/>
                <a:ext cx="1341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7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etoda nulových bodů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určíme tzv. </a:t>
            </a:r>
            <a:r>
              <a:rPr b="1" i="1" lang="cs-CZ" sz="2200" spc="-1" strike="noStrike">
                <a:solidFill>
                  <a:srgbClr val="ff0000"/>
                </a:solidFill>
                <a:latin typeface="Cambria"/>
              </a:rPr>
              <a:t>nulové body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šech výrazů v závorkách (tj. čísla, pro která se výrazy v závorkách rovnají nule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nulovými body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rozdělím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množinu reálných čísel (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číselnou osu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) na intervaly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 jednotlivých intervalů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volíme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vhodná celá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čísla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která dosazujeme do každého výrazu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 číselné ose pak značíme pouze znaménka hodnot výrazů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odle znamének v jednotlivých intervalech rovnici upravíme a v každém z nich ji vyřešíme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řešení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rovnice hledáme </a:t>
            </a:r>
            <a:r>
              <a:rPr b="0" i="1" lang="cs-CZ" sz="2200" spc="-1" strike="noStrike">
                <a:solidFill>
                  <a:srgbClr val="ff0000"/>
                </a:solidFill>
                <a:latin typeface="Cambria"/>
              </a:rPr>
              <a:t>jako průnik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množiny řešení s řešeným intervalem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Nadpis 1"/>
          <p:cNvSpPr/>
          <p:nvPr/>
        </p:nvSpPr>
        <p:spPr>
          <a:xfrm>
            <a:off x="457200" y="2602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</a:t>
            </a:r>
            <a:endParaRPr b="0" lang="en-US" sz="46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Zástupný symbol pro obsah 3"/>
              <p:cNvSpPr txBox="1"/>
              <p:nvPr/>
            </p:nvSpPr>
            <p:spPr>
              <a:xfrm>
                <a:off x="3406680" y="523800"/>
                <a:ext cx="3390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8"/>
              <p:cNvSpPr txBox="1"/>
              <p:nvPr/>
            </p:nvSpPr>
            <p:spPr>
              <a:xfrm>
                <a:off x="1332000" y="2349360"/>
                <a:ext cx="1230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9"/>
              <p:cNvSpPr txBox="1"/>
              <p:nvPr/>
            </p:nvSpPr>
            <p:spPr>
              <a:xfrm>
                <a:off x="6227640" y="2349360"/>
                <a:ext cx="13986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Obdélník 54"/>
          <p:cNvSpPr/>
          <p:nvPr/>
        </p:nvSpPr>
        <p:spPr>
          <a:xfrm>
            <a:off x="539640" y="393372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Nulové body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              rozdělí číselnou osu do tří intervalů. Doporučení: prostřední ponechme uzavřený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2"/>
              <p:cNvSpPr txBox="1"/>
              <p:nvPr/>
            </p:nvSpPr>
            <p:spPr>
              <a:xfrm>
                <a:off x="1979640" y="4005360"/>
                <a:ext cx="11826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Obousměrná vodorovná šipka 10"/>
          <p:cNvSpPr/>
          <p:nvPr/>
        </p:nvSpPr>
        <p:spPr>
          <a:xfrm>
            <a:off x="2843280" y="2205000"/>
            <a:ext cx="3024000" cy="107964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Určení nulových bobů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24" name="Přímá spojovací šipka 11"/>
          <p:cNvCxnSpPr/>
          <p:nvPr/>
        </p:nvCxnSpPr>
        <p:spPr>
          <a:xfrm flipH="1">
            <a:off x="2123280" y="1125360"/>
            <a:ext cx="1872360" cy="93600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125" name="Přímá spojovací šipka 12"/>
          <p:cNvCxnSpPr/>
          <p:nvPr/>
        </p:nvCxnSpPr>
        <p:spPr>
          <a:xfrm>
            <a:off x="5508360" y="1196640"/>
            <a:ext cx="1151640" cy="86436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Skupina 37"/>
          <p:cNvGrpSpPr/>
          <p:nvPr/>
        </p:nvGrpSpPr>
        <p:grpSpPr>
          <a:xfrm>
            <a:off x="684360" y="692280"/>
            <a:ext cx="4781520" cy="1497240"/>
            <a:chOff x="684360" y="692280"/>
            <a:chExt cx="4781520" cy="1497240"/>
          </a:xfrm>
        </p:grpSpPr>
        <p:sp>
          <p:nvSpPr>
            <p:cNvPr id="127" name="Přímá spojovací čára 5"/>
            <p:cNvSpPr/>
            <p:nvPr/>
          </p:nvSpPr>
          <p:spPr>
            <a:xfrm>
              <a:off x="684360" y="1555920"/>
              <a:ext cx="478152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8" name="Přímá spojovací čára 6"/>
            <p:cNvSpPr/>
            <p:nvPr/>
          </p:nvSpPr>
          <p:spPr>
            <a:xfrm>
              <a:off x="2757600" y="1441440"/>
              <a:ext cx="0" cy="23148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9" name="TextovéPole 29"/>
            <p:cNvSpPr/>
            <p:nvPr/>
          </p:nvSpPr>
          <p:spPr>
            <a:xfrm>
              <a:off x="4083480" y="1729800"/>
              <a:ext cx="34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f2b2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0" name="Přímá spojovací čára 8"/>
            <p:cNvSpPr/>
            <p:nvPr/>
          </p:nvSpPr>
          <p:spPr>
            <a:xfrm>
              <a:off x="4199040" y="1441440"/>
              <a:ext cx="0" cy="23004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2"/>
                <p:cNvSpPr txBox="1"/>
                <p:nvPr/>
              </p:nvSpPr>
              <p:spPr>
                <a:xfrm>
                  <a:off x="2641320" y="1786680"/>
                  <a:ext cx="224640" cy="2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" name="Object 3"/>
                <p:cNvSpPr txBox="1"/>
                <p:nvPr/>
              </p:nvSpPr>
              <p:spPr>
                <a:xfrm>
                  <a:off x="684360" y="1154520"/>
                  <a:ext cx="581400" cy="31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Object 4"/>
                <p:cNvSpPr txBox="1"/>
                <p:nvPr/>
              </p:nvSpPr>
              <p:spPr>
                <a:xfrm>
                  <a:off x="684360" y="1673280"/>
                  <a:ext cx="716040" cy="31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TextovéPole 10"/>
            <p:cNvSpPr/>
            <p:nvPr/>
          </p:nvSpPr>
          <p:spPr>
            <a:xfrm>
              <a:off x="1893960" y="693360"/>
              <a:ext cx="51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f2b20"/>
                  </a:solidFill>
                  <a:latin typeface="Times New Roman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5" name="TextovéPole 11"/>
            <p:cNvSpPr/>
            <p:nvPr/>
          </p:nvSpPr>
          <p:spPr>
            <a:xfrm>
              <a:off x="4659480" y="692280"/>
              <a:ext cx="34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f2b2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6" name="TextovéPole 12"/>
            <p:cNvSpPr/>
            <p:nvPr/>
          </p:nvSpPr>
          <p:spPr>
            <a:xfrm>
              <a:off x="3334320" y="693360"/>
              <a:ext cx="51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f2b2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Object 5"/>
                <p:cNvSpPr txBox="1"/>
                <p:nvPr/>
              </p:nvSpPr>
              <p:spPr>
                <a:xfrm>
                  <a:off x="4659480" y="1211040"/>
                  <a:ext cx="244800" cy="24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Object 6"/>
                <p:cNvSpPr txBox="1"/>
                <p:nvPr/>
              </p:nvSpPr>
              <p:spPr>
                <a:xfrm>
                  <a:off x="1951560" y="1268640"/>
                  <a:ext cx="222120" cy="13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Object 7"/>
                <p:cNvSpPr txBox="1"/>
                <p:nvPr/>
              </p:nvSpPr>
              <p:spPr>
                <a:xfrm>
                  <a:off x="1951560" y="1729800"/>
                  <a:ext cx="222120" cy="13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Object 8"/>
                <p:cNvSpPr txBox="1"/>
                <p:nvPr/>
              </p:nvSpPr>
              <p:spPr>
                <a:xfrm>
                  <a:off x="3322440" y="1212480"/>
                  <a:ext cx="244800" cy="24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1" name="Object 9"/>
                <p:cNvSpPr txBox="1"/>
                <p:nvPr/>
              </p:nvSpPr>
              <p:spPr>
                <a:xfrm>
                  <a:off x="4659480" y="1672200"/>
                  <a:ext cx="244800" cy="24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Object 10"/>
                <p:cNvSpPr txBox="1"/>
                <p:nvPr/>
              </p:nvSpPr>
              <p:spPr>
                <a:xfrm>
                  <a:off x="3345480" y="1728720"/>
                  <a:ext cx="222120" cy="13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3" name="Zaoblený obdélníkový popisek 25"/>
          <p:cNvSpPr/>
          <p:nvPr/>
        </p:nvSpPr>
        <p:spPr>
          <a:xfrm>
            <a:off x="5580000" y="620640"/>
            <a:ext cx="2879640" cy="1584360"/>
          </a:xfrm>
          <a:prstGeom prst="wedgeRoundRectCallout">
            <a:avLst>
              <a:gd name="adj1" fmla="val -71810"/>
              <a:gd name="adj2" fmla="val -27041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Z intervalů volíme celá čísla, která dosazujeme do výrazů a k číselné ose značíme pouze znaménka hodnoty výrazů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4" name="Zaoblený obdélníkový popisek 26"/>
          <p:cNvSpPr/>
          <p:nvPr/>
        </p:nvSpPr>
        <p:spPr>
          <a:xfrm>
            <a:off x="684360" y="3573360"/>
            <a:ext cx="2663640" cy="1368360"/>
          </a:xfrm>
          <a:prstGeom prst="wedgeRoundRectCallout">
            <a:avLst>
              <a:gd name="adj1" fmla="val 84074"/>
              <a:gd name="adj2" fmla="val -84231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Podle znamének v jednotlivých intervalech rovnici upravíme a v každém z nich ji vyřešíme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4"/>
              <p:cNvSpPr txBox="1"/>
              <p:nvPr/>
            </p:nvSpPr>
            <p:spPr>
              <a:xfrm>
                <a:off x="658800" y="2637000"/>
                <a:ext cx="11444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5"/>
              <p:cNvSpPr txBox="1"/>
              <p:nvPr/>
            </p:nvSpPr>
            <p:spPr>
              <a:xfrm>
                <a:off x="2484360" y="2637000"/>
                <a:ext cx="36608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3564000" y="3284640"/>
                <a:ext cx="2543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7"/>
              <p:cNvSpPr txBox="1"/>
              <p:nvPr/>
            </p:nvSpPr>
            <p:spPr>
              <a:xfrm>
                <a:off x="4970520" y="3789360"/>
                <a:ext cx="1341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8"/>
              <p:cNvSpPr txBox="1"/>
              <p:nvPr/>
            </p:nvSpPr>
            <p:spPr>
              <a:xfrm>
                <a:off x="5362560" y="4149720"/>
                <a:ext cx="811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9"/>
              <p:cNvSpPr txBox="1"/>
              <p:nvPr/>
            </p:nvSpPr>
            <p:spPr>
              <a:xfrm>
                <a:off x="1476360" y="5300640"/>
                <a:ext cx="12445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0"/>
              <p:cNvSpPr txBox="1"/>
              <p:nvPr/>
            </p:nvSpPr>
            <p:spPr>
              <a:xfrm>
                <a:off x="7667640" y="5373720"/>
                <a:ext cx="8222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Obdélník 54"/>
          <p:cNvSpPr/>
          <p:nvPr/>
        </p:nvSpPr>
        <p:spPr>
          <a:xfrm>
            <a:off x="539640" y="5229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otože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     , je toto číslo jediným řešením rovnice  v intervalu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53" name="Obrázek 40" descr="zatržítko.JPG"/>
          <p:cNvPicPr/>
          <p:nvPr/>
        </p:nvPicPr>
        <p:blipFill>
          <a:blip r:embed="rId1"/>
          <a:stretch/>
        </p:blipFill>
        <p:spPr>
          <a:xfrm>
            <a:off x="6300720" y="3933720"/>
            <a:ext cx="103356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826920" y="549360"/>
                <a:ext cx="865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2,4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411280" y="620640"/>
                <a:ext cx="3409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3492360" y="1197000"/>
                <a:ext cx="23194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4788000" y="1700280"/>
                <a:ext cx="1173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0"/>
              <p:cNvSpPr txBox="1"/>
              <p:nvPr/>
            </p:nvSpPr>
            <p:spPr>
              <a:xfrm>
                <a:off x="5003640" y="2205000"/>
                <a:ext cx="727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1"/>
              <p:cNvSpPr txBox="1"/>
              <p:nvPr/>
            </p:nvSpPr>
            <p:spPr>
              <a:xfrm>
                <a:off x="1619280" y="2817720"/>
                <a:ext cx="933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∉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2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Obdélník 54"/>
          <p:cNvSpPr/>
          <p:nvPr/>
        </p:nvSpPr>
        <p:spPr>
          <a:xfrm>
            <a:off x="611280" y="263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otože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, nemá rovnice v tomto intervalu žádné řešení.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3"/>
              <p:cNvSpPr txBox="1"/>
              <p:nvPr/>
            </p:nvSpPr>
            <p:spPr>
              <a:xfrm>
                <a:off x="1547640" y="5084640"/>
                <a:ext cx="1044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4"/>
              <p:cNvSpPr txBox="1"/>
              <p:nvPr/>
            </p:nvSpPr>
            <p:spPr>
              <a:xfrm>
                <a:off x="7524720" y="5084640"/>
                <a:ext cx="6667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Obdélník 54"/>
          <p:cNvSpPr/>
          <p:nvPr/>
        </p:nvSpPr>
        <p:spPr>
          <a:xfrm>
            <a:off x="611280" y="48690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Protože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 , je toto číslo jediným řešením rovnice  v intervalu </a:t>
            </a:r>
            <a:r>
              <a:rPr b="0" lang="cs-CZ" sz="18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0" lang="cs-CZ" sz="1800" spc="-1" strike="noStrike">
                <a:solidFill>
                  <a:srgbClr val="2f2b2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5"/>
              <p:cNvSpPr txBox="1"/>
              <p:nvPr/>
            </p:nvSpPr>
            <p:spPr>
              <a:xfrm>
                <a:off x="900000" y="3429000"/>
                <a:ext cx="9493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6"/>
              <p:cNvSpPr txBox="1"/>
              <p:nvPr/>
            </p:nvSpPr>
            <p:spPr>
              <a:xfrm>
                <a:off x="3132000" y="3429000"/>
                <a:ext cx="2711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7"/>
              <p:cNvSpPr txBox="1"/>
              <p:nvPr/>
            </p:nvSpPr>
            <p:spPr>
              <a:xfrm>
                <a:off x="4932360" y="3933720"/>
                <a:ext cx="1062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8"/>
              <p:cNvSpPr txBox="1"/>
              <p:nvPr/>
            </p:nvSpPr>
            <p:spPr>
              <a:xfrm>
                <a:off x="5076720" y="4292640"/>
                <a:ext cx="754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8" name="Obrázek 22" descr="zatržítko.JPG"/>
          <p:cNvPicPr/>
          <p:nvPr/>
        </p:nvPicPr>
        <p:blipFill>
          <a:blip r:embed="rId1"/>
          <a:stretch/>
        </p:blipFill>
        <p:spPr>
          <a:xfrm>
            <a:off x="6156360" y="3860640"/>
            <a:ext cx="1033560" cy="1084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9" name="Object 19"/>
              <p:cNvSpPr txBox="1"/>
              <p:nvPr/>
            </p:nvSpPr>
            <p:spPr>
              <a:xfrm>
                <a:off x="2843280" y="5732640"/>
                <a:ext cx="134136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řaďte správné řešení k jednotlivým rovnicím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1692360" y="2205000"/>
                <a:ext cx="1047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1692360" y="2744640"/>
                <a:ext cx="115884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1714680" y="3284640"/>
                <a:ext cx="11397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5289480" y="2205000"/>
                <a:ext cx="711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5508720" y="5084640"/>
                <a:ext cx="2887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5364000" y="3429000"/>
                <a:ext cx="5335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1692360" y="3824280"/>
                <a:ext cx="1539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5292720" y="3933720"/>
                <a:ext cx="711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1692360" y="4437000"/>
                <a:ext cx="1515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1"/>
              <p:cNvSpPr txBox="1"/>
              <p:nvPr/>
            </p:nvSpPr>
            <p:spPr>
              <a:xfrm>
                <a:off x="5219640" y="2637000"/>
                <a:ext cx="8222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2"/>
              <p:cNvSpPr txBox="1"/>
              <p:nvPr/>
            </p:nvSpPr>
            <p:spPr>
              <a:xfrm>
                <a:off x="1692360" y="5011560"/>
                <a:ext cx="169524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3"/>
              <p:cNvSpPr txBox="1"/>
              <p:nvPr/>
            </p:nvSpPr>
            <p:spPr>
              <a:xfrm>
                <a:off x="5292720" y="4365720"/>
                <a:ext cx="7333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Olda</cp:lastModifiedBy>
  <dcterms:modified xsi:type="dcterms:W3CDTF">2014-05-28T09:29:23Z</dcterms:modified>
  <cp:revision>101</cp:revision>
  <dc:subject/>
  <dc:title>Název</dc:title>
</cp:coreProperties>
</file>