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5653-5EAD-436A-B2D8-51680E70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D55C-90D0-41E5-901D-D09328B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6473-ED42-4956-9BB0-FBAB872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1E49-DA09-4606-95AA-0C5A517D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EDCA-258E-49F7-9AC6-19E3E20E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547-AEF3-4652-B558-80A920FF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3E91-8D5B-4BB8-816F-8D57D94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FDC-A262-4430-A1CB-7346332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FA9-76FC-466D-9C7B-743EC26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CF6-6F4D-4A51-81DB-88F01A7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41D6-D900-4486-98D3-3717A59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D557-A158-40DB-B76F-0ABE57F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98AC-7B71-4F6B-B097-35EACB4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FE2-615A-48DA-8FFC-E62611E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B36F-5754-4DFC-862A-B096505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88A-B296-4269-AD0C-00AC1340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8391-60F4-4692-B937-88950790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553A-61CE-4155-9AE0-03303A8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099B-2251-4B00-BC9E-6F4F8C4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C16D-11E9-4E2C-9727-FC98E6F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6839-A870-45F6-BD8C-300F8E3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CA00-FCF4-4C79-9919-B97A31B7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44F9-6795-4AD2-AC62-840F3D7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C0E0-1250-4A85-BCAB-473F82CD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B02E-4C19-49ED-9FCF-1BF5D90CC62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6AE-E091-493C-AF99-A47150AA0D0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0DC-8EE3-4B6A-B36E-E05255D43BE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285A-F238-47EF-8475-5C936E2F30DE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Kvadratická nerovni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336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00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á řešení k nerovnicím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1438200" y="2158920"/>
                <a:ext cx="1355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1438200" y="2878200"/>
                <a:ext cx="1600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1438200" y="3598920"/>
                <a:ext cx="1600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1438200" y="4317840"/>
                <a:ext cx="1179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5292720" y="5037120"/>
                <a:ext cx="2027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5940360" y="3598920"/>
                <a:ext cx="2667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5580000" y="2878200"/>
                <a:ext cx="892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1"/>
              <p:cNvSpPr txBox="1"/>
              <p:nvPr/>
            </p:nvSpPr>
            <p:spPr>
              <a:xfrm>
                <a:off x="5037120" y="2158920"/>
                <a:ext cx="21765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1438200" y="5037120"/>
                <a:ext cx="1355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5435640" y="4149720"/>
                <a:ext cx="1819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2" name="Zástupný symbol pro obsah 2"/>
          <p:cNvSpPr/>
          <p:nvPr/>
        </p:nvSpPr>
        <p:spPr>
          <a:xfrm>
            <a:off x="457200" y="148104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KVADRATICKÁ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grafy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vadratické nerovni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4149360"/>
            <a:ext cx="7620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zn.: V této kapitole využijeme znalosti grafu kvadratické funkc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468360" y="1413000"/>
            <a:ext cx="7632720" cy="2376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vadratickou nerovnicí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každou nerovnici, kterou lze převést ekvivalentními úpravami do tvar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+ bx +c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&gt; 0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, b, c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,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0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Znak nerovnosti může být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&gt;, ≥, &lt;, ≤,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Způsoby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četní metoda –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m. nulových bodů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pomocí číselné osy – viz. kapitola nerovnice v součinovém tvaru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Grafická metoda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šechny členy nerovnice převedeme na jednu stranu a </a:t>
            </a:r>
            <a:r>
              <a:rPr b="1" i="1" lang="cs-CZ" sz="2000" spc="-1" strike="noStrike">
                <a:solidFill>
                  <a:srgbClr val="2f2b20"/>
                </a:solidFill>
                <a:latin typeface="Cambria"/>
              </a:rPr>
              <a:t>načrtneme graf kvadratické funkce 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a posoudíme podle znaku nerovnosti jeho chování vzhledem k nule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ýraz rozdělíme na </a:t>
            </a:r>
            <a:r>
              <a:rPr b="1" i="1" lang="cs-CZ" sz="2000" spc="-1" strike="noStrike">
                <a:solidFill>
                  <a:srgbClr val="2f2b20"/>
                </a:solidFill>
                <a:latin typeface="Cambria"/>
              </a:rPr>
              <a:t>dvě funkce 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(</a:t>
            </a:r>
            <a:r>
              <a:rPr b="1" i="1" lang="cs-CZ" sz="2000" spc="-1" strike="noStrike">
                <a:solidFill>
                  <a:srgbClr val="2f2b20"/>
                </a:solidFill>
                <a:latin typeface="Cambria"/>
              </a:rPr>
              <a:t>lineární a kvadratickou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), obě načrtneme a posoudíme dle znaku nerovnosti jejich vzájemné chování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zn.: </a:t>
            </a:r>
            <a:r>
              <a:rPr b="0" lang="cs-CZ" sz="2000" spc="-1" strike="noStrike">
                <a:solidFill>
                  <a:srgbClr val="ff0000"/>
                </a:solidFill>
                <a:latin typeface="Cambria"/>
              </a:rPr>
              <a:t>Pokud nerovnici nejprve upravujeme a je nutné ji dělit záporným číslem, obrací se znak nerovnosti!!!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489480" cy="3086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Zástupný symbol pro obsah 3"/>
              <p:cNvSpPr txBox="1"/>
              <p:nvPr/>
            </p:nvSpPr>
            <p:spPr>
              <a:xfrm>
                <a:off x="3132000" y="549360"/>
                <a:ext cx="1255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Zaoblený obdélníkový popisek 12"/>
          <p:cNvSpPr/>
          <p:nvPr/>
        </p:nvSpPr>
        <p:spPr>
          <a:xfrm>
            <a:off x="5651640" y="907920"/>
            <a:ext cx="2665440" cy="720720"/>
          </a:xfrm>
          <a:prstGeom prst="wedgeRoundRectCallout">
            <a:avLst>
              <a:gd name="adj1" fmla="val -103856"/>
              <a:gd name="adj2" fmla="val 7714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estrojíme graf levé a pravé strany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TextovéPole 13"/>
          <p:cNvSpPr/>
          <p:nvPr/>
        </p:nvSpPr>
        <p:spPr>
          <a:xfrm>
            <a:off x="539640" y="126828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. způsob: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3564000" y="3141720"/>
                <a:ext cx="140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4643280" y="1844640"/>
                <a:ext cx="1282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Zaoblený obdélníkový popisek 16"/>
          <p:cNvSpPr/>
          <p:nvPr/>
        </p:nvSpPr>
        <p:spPr>
          <a:xfrm>
            <a:off x="5867280" y="2421000"/>
            <a:ext cx="2376720" cy="1079280"/>
          </a:xfrm>
          <a:prstGeom prst="wedgeRoundRectCallout">
            <a:avLst>
              <a:gd name="adj1" fmla="val -125615"/>
              <a:gd name="adj2" fmla="val -73750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konstantní funkc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f</a:t>
            </a:r>
            <a:r>
              <a:rPr b="1" lang="cs-CZ" sz="18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římka rovnoběžná s osou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7" name="Zaoblený obdélníkový popisek 17"/>
          <p:cNvSpPr/>
          <p:nvPr/>
        </p:nvSpPr>
        <p:spPr>
          <a:xfrm>
            <a:off x="5219640" y="3860640"/>
            <a:ext cx="3024360" cy="720720"/>
          </a:xfrm>
          <a:prstGeom prst="wedgeRoundRectCallout">
            <a:avLst>
              <a:gd name="adj1" fmla="val -110370"/>
              <a:gd name="adj2" fmla="val -7268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funkce f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Cambria"/>
              </a:rPr>
              <a:t>1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arabola s vrcholem V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8" name="TextovéPole 18"/>
          <p:cNvSpPr/>
          <p:nvPr/>
        </p:nvSpPr>
        <p:spPr>
          <a:xfrm>
            <a:off x="611280" y="566100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1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 menší než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9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v intervalu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2"/>
              <p:cNvSpPr txBox="1"/>
              <p:nvPr/>
            </p:nvSpPr>
            <p:spPr>
              <a:xfrm>
                <a:off x="4211640" y="5589720"/>
                <a:ext cx="1425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5651640" y="5373720"/>
            <a:ext cx="86364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14"/>
              <p:cNvSpPr txBox="1"/>
              <p:nvPr/>
            </p:nvSpPr>
            <p:spPr>
              <a:xfrm>
                <a:off x="826920" y="5157720"/>
                <a:ext cx="4141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Zaoblený obdélníkový popisek 23"/>
          <p:cNvSpPr/>
          <p:nvPr/>
        </p:nvSpPr>
        <p:spPr>
          <a:xfrm>
            <a:off x="5724360" y="4869000"/>
            <a:ext cx="2519640" cy="431640"/>
          </a:xfrm>
          <a:prstGeom prst="wedgeRoundRectCallout">
            <a:avLst>
              <a:gd name="adj1" fmla="val -80134"/>
              <a:gd name="adj2" fmla="val 49254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ůsečíky obou křivek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489120" cy="3086280"/>
          </a:xfrm>
          <a:prstGeom prst="rect">
            <a:avLst/>
          </a:prstGeom>
          <a:ln w="0">
            <a:noFill/>
          </a:ln>
        </p:spPr>
      </p:pic>
      <p:sp>
        <p:nvSpPr>
          <p:cNvPr id="114" name="TextovéPole 4"/>
          <p:cNvSpPr/>
          <p:nvPr/>
        </p:nvSpPr>
        <p:spPr>
          <a:xfrm>
            <a:off x="539640" y="62064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. způsob: 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Zaoblený obdélníkový popisek 5"/>
          <p:cNvSpPr/>
          <p:nvPr/>
        </p:nvSpPr>
        <p:spPr>
          <a:xfrm>
            <a:off x="5003640" y="1268280"/>
            <a:ext cx="3168720" cy="720720"/>
          </a:xfrm>
          <a:prstGeom prst="wedgeRoundRectCallout">
            <a:avLst>
              <a:gd name="adj1" fmla="val -53953"/>
              <a:gd name="adj2" fmla="val 138282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estrojíme graf  kvadratické funkce ve tvaru: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500720" y="2852640"/>
                <a:ext cx="1847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Zaoblený obdélníkový popisek 7"/>
          <p:cNvSpPr/>
          <p:nvPr/>
        </p:nvSpPr>
        <p:spPr>
          <a:xfrm>
            <a:off x="4284720" y="4221000"/>
            <a:ext cx="4103640" cy="792360"/>
          </a:xfrm>
          <a:prstGeom prst="wedgeRoundRectCallout">
            <a:avLst>
              <a:gd name="adj1" fmla="val -73662"/>
              <a:gd name="adj2" fmla="val -140250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je parabola s vrcholem V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0,-9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a průsečíky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3 na os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4284720" y="5589720"/>
                <a:ext cx="1425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TextovéPole 9"/>
          <p:cNvSpPr/>
          <p:nvPr/>
        </p:nvSpPr>
        <p:spPr>
          <a:xfrm>
            <a:off x="684360" y="5661000"/>
            <a:ext cx="43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 menší než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0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v intervalu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0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5724360" y="5300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Zástupný symbol pro obsah 3"/>
              <p:cNvSpPr txBox="1"/>
              <p:nvPr/>
            </p:nvSpPr>
            <p:spPr>
              <a:xfrm>
                <a:off x="2828880" y="549360"/>
                <a:ext cx="1863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Zástupný symbol pro obsah 3"/>
              <p:cNvSpPr txBox="1"/>
              <p:nvPr/>
            </p:nvSpPr>
            <p:spPr>
              <a:xfrm>
                <a:off x="2808360" y="549360"/>
                <a:ext cx="1903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89120" cy="3086280"/>
          </a:xfrm>
          <a:prstGeom prst="rect">
            <a:avLst/>
          </a:prstGeom>
          <a:ln w="0">
            <a:noFill/>
          </a:ln>
        </p:spPr>
      </p:pic>
      <p:sp>
        <p:nvSpPr>
          <p:cNvPr id="125" name="Zaoblený obdélníkový popisek 6"/>
          <p:cNvSpPr/>
          <p:nvPr/>
        </p:nvSpPr>
        <p:spPr>
          <a:xfrm>
            <a:off x="5148360" y="1268280"/>
            <a:ext cx="3024000" cy="1081080"/>
          </a:xfrm>
          <a:prstGeom prst="wedgeRoundRectCallout">
            <a:avLst>
              <a:gd name="adj1" fmla="val -82578"/>
              <a:gd name="adj2" fmla="val -6178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rovnici upravíme  do tvaru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a sestro-jíme graf levé a pravé strany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364000" y="2637000"/>
                <a:ext cx="1400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2457360" y="4724280"/>
                <a:ext cx="1479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ovéPole 11"/>
          <p:cNvSpPr/>
          <p:nvPr/>
        </p:nvSpPr>
        <p:spPr>
          <a:xfrm>
            <a:off x="684360" y="5661000"/>
            <a:ext cx="43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1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 vetší než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-4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 každé </a:t>
            </a:r>
            <a:r>
              <a:rPr b="0" i="1" lang="cs-CZ" sz="18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Zaoblený obdélníkový popisek 14"/>
          <p:cNvSpPr/>
          <p:nvPr/>
        </p:nvSpPr>
        <p:spPr>
          <a:xfrm>
            <a:off x="5219640" y="3645000"/>
            <a:ext cx="3024360" cy="720720"/>
          </a:xfrm>
          <a:prstGeom prst="wedgeRoundRectCallout">
            <a:avLst>
              <a:gd name="adj1" fmla="val -125976"/>
              <a:gd name="adj2" fmla="val -21195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funkc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Cambria"/>
              </a:rPr>
              <a:t>1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arabola s vrcholem V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0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4716360" y="5516640"/>
            <a:ext cx="86364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Zaoblený obdélníkový popisek 17"/>
          <p:cNvSpPr/>
          <p:nvPr/>
        </p:nvSpPr>
        <p:spPr>
          <a:xfrm>
            <a:off x="5867280" y="4653000"/>
            <a:ext cx="2376720" cy="936720"/>
          </a:xfrm>
          <a:prstGeom prst="wedgeRoundRectCallout">
            <a:avLst>
              <a:gd name="adj1" fmla="val -125046"/>
              <a:gd name="adj2" fmla="val -89787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konstantní funkc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římka rovnoběžná s osou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y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1"/>
              <p:cNvSpPr txBox="1"/>
              <p:nvPr/>
            </p:nvSpPr>
            <p:spPr>
              <a:xfrm>
                <a:off x="6012000" y="1484280"/>
                <a:ext cx="892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3321000" y="549360"/>
                <a:ext cx="2509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489120" cy="3085920"/>
          </a:xfrm>
          <a:prstGeom prst="rect">
            <a:avLst/>
          </a:prstGeom>
          <a:ln w="0">
            <a:noFill/>
          </a:ln>
        </p:spPr>
      </p:pic>
      <p:sp>
        <p:nvSpPr>
          <p:cNvPr id="136" name="Zaoblený obdélníkový popisek 5"/>
          <p:cNvSpPr/>
          <p:nvPr/>
        </p:nvSpPr>
        <p:spPr>
          <a:xfrm>
            <a:off x="5076720" y="1268280"/>
            <a:ext cx="3167280" cy="936720"/>
          </a:xfrm>
          <a:prstGeom prst="wedgeRoundRectCallout">
            <a:avLst>
              <a:gd name="adj1" fmla="val -83111"/>
              <a:gd name="adj2" fmla="val -548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rovnici upravíme do tvaru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a sestrojíme graf levé a pravé strany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3564000" y="2781360"/>
                <a:ext cx="140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2895480" y="4292640"/>
                <a:ext cx="1757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Zaoblený obdélníkový popisek 8"/>
          <p:cNvSpPr/>
          <p:nvPr/>
        </p:nvSpPr>
        <p:spPr>
          <a:xfrm>
            <a:off x="5651640" y="3573360"/>
            <a:ext cx="2592360" cy="719280"/>
          </a:xfrm>
          <a:prstGeom prst="wedgeRoundRectCallout">
            <a:avLst>
              <a:gd name="adj1" fmla="val -113504"/>
              <a:gd name="adj2" fmla="val 293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lineární funkc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římka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Zaoblený obdélníkový popisek 9"/>
          <p:cNvSpPr/>
          <p:nvPr/>
        </p:nvSpPr>
        <p:spPr>
          <a:xfrm>
            <a:off x="5219640" y="2421000"/>
            <a:ext cx="3024360" cy="720720"/>
          </a:xfrm>
          <a:prstGeom prst="wedgeRoundRectCallout">
            <a:avLst>
              <a:gd name="adj1" fmla="val -107930"/>
              <a:gd name="adj2" fmla="val -21476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Grafem funkce </a:t>
            </a:r>
            <a:r>
              <a:rPr b="1" i="1" lang="cs-CZ" sz="1800" spc="-1" strike="noStrike">
                <a:solidFill>
                  <a:srgbClr val="ffffff"/>
                </a:solidFill>
                <a:latin typeface="Cambria"/>
              </a:rPr>
              <a:t>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Cambria"/>
              </a:rPr>
              <a:t>1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je parabola s vrcholem V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0,0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7"/>
              <p:cNvSpPr txBox="1"/>
              <p:nvPr/>
            </p:nvSpPr>
            <p:spPr>
              <a:xfrm>
                <a:off x="4356000" y="5548320"/>
                <a:ext cx="142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2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5796000" y="5373720"/>
            <a:ext cx="86364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13"/>
          <p:cNvSpPr/>
          <p:nvPr/>
        </p:nvSpPr>
        <p:spPr>
          <a:xfrm>
            <a:off x="684360" y="5661000"/>
            <a:ext cx="43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1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 menší než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v intervalu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900000" y="4941720"/>
                <a:ext cx="3846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Zaoblený obdélníkový popisek 15"/>
          <p:cNvSpPr/>
          <p:nvPr/>
        </p:nvSpPr>
        <p:spPr>
          <a:xfrm>
            <a:off x="5724360" y="4724280"/>
            <a:ext cx="2519640" cy="433440"/>
          </a:xfrm>
          <a:prstGeom prst="wedgeRoundRectCallout">
            <a:avLst>
              <a:gd name="adj1" fmla="val -80134"/>
              <a:gd name="adj2" fmla="val 49254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ůsečíky obou křivek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5076720" y="1557360"/>
                <a:ext cx="1113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3059280" y="549360"/>
                <a:ext cx="2738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89120" cy="3056040"/>
          </a:xfrm>
          <a:prstGeom prst="rect">
            <a:avLst/>
          </a:prstGeom>
          <a:ln w="0">
            <a:noFill/>
          </a:ln>
        </p:spPr>
      </p:pic>
      <p:sp>
        <p:nvSpPr>
          <p:cNvPr id="150" name="Zaoblený obdélníkový popisek 17"/>
          <p:cNvSpPr/>
          <p:nvPr/>
        </p:nvSpPr>
        <p:spPr>
          <a:xfrm>
            <a:off x="5076720" y="1268280"/>
            <a:ext cx="3167280" cy="936720"/>
          </a:xfrm>
          <a:prstGeom prst="wedgeRoundRectCallout">
            <a:avLst>
              <a:gd name="adj1" fmla="val -83111"/>
              <a:gd name="adj2" fmla="val -5489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rovnici upravíme do tvaru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      a sestrojíme graf levé a pravé strany ne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348000" y="2276640"/>
                <a:ext cx="140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2"/>
              <p:cNvSpPr txBox="1"/>
              <p:nvPr/>
            </p:nvSpPr>
            <p:spPr>
              <a:xfrm>
                <a:off x="539640" y="4149720"/>
                <a:ext cx="1757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Zaoblený obdélníkový popisek 23"/>
          <p:cNvSpPr/>
          <p:nvPr/>
        </p:nvSpPr>
        <p:spPr>
          <a:xfrm>
            <a:off x="5724360" y="4653000"/>
            <a:ext cx="2519640" cy="431640"/>
          </a:xfrm>
          <a:prstGeom prst="wedgeRoundRectCallout">
            <a:avLst>
              <a:gd name="adj1" fmla="val 5425"/>
              <a:gd name="adj2" fmla="val -16870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růsečíky obou křivek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5219640" y="1557360"/>
                <a:ext cx="1249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572000" y="3645000"/>
                <a:ext cx="3722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TextovéPole 26"/>
          <p:cNvSpPr/>
          <p:nvPr/>
        </p:nvSpPr>
        <p:spPr>
          <a:xfrm>
            <a:off x="684360" y="5373720"/>
            <a:ext cx="43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Funkce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1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je menší než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f</a:t>
            </a:r>
            <a:r>
              <a:rPr b="0" lang="cs-CZ" sz="18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v intervalu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Obrázek 40" descr="zatržítko.JPG"/>
          <p:cNvPicPr/>
          <p:nvPr/>
        </p:nvPicPr>
        <p:blipFill>
          <a:blip r:embed="rId2"/>
          <a:srcRect l="0" t="13314" r="16463" b="13605"/>
          <a:stretch/>
        </p:blipFill>
        <p:spPr>
          <a:xfrm>
            <a:off x="5940360" y="530064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4356000" y="5084640"/>
                <a:ext cx="16765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3:38Z</dcterms:modified>
  <cp:revision>121</cp:revision>
  <dc:subject/>
  <dc:title>Název</dc:title>
</cp:coreProperties>
</file>