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5CE6-04EC-48B2-BE4F-5CBEE9EE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778E-FF54-47E9-A0C6-6FD5DBB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7C7B-F49F-4885-8F95-585E4B98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A165-E00A-4411-BB1A-79006DE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C784-2ECC-4C29-86D6-2DD91E6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FFB-6E86-4A52-B97B-953B766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468F-18E5-4DAB-B12E-7EA8495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C78E-29B7-48C3-BEBE-E041AAB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415-85EB-4517-95A8-C797104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F42-EBDF-4EF7-9FE6-C11EE08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AB0-2414-48B8-95A3-69BF7BB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823C-1D21-4770-9D7C-ADC7688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BE25-300C-4BDC-B7FC-3634B1E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E84-2616-4C83-8881-52B14B9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E2A-BF5E-4348-B897-71401DF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52AE-9459-431F-8EC8-B1B3EF1A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99B7-263D-4082-B94D-7DD22E86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2E4A-DFB0-4A11-A253-65A4F3C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352F-67C8-4BE7-ABB0-340BA30C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B702-AD11-4902-9E91-ECA568C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C556-9393-4C59-89DD-53212407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1D1C-A15B-4541-8641-37969BA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5F75-2516-460D-8960-B45D92C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FB3F-8318-4C55-9EE3-E17DFBB6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80B-6D4A-41A4-A5A5-075246A1C4A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F43A-9FE9-4747-8047-CF873FA675AB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17F-42CA-4C87-B609-A4AA7EC39E74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E019-BDB3-4CB7-8A4E-6707A3ECDF3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Iracionální rovni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4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IRACIONÁLNÍ 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 hodiny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Iracionální rovni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468360" y="1413000"/>
            <a:ext cx="7632720" cy="100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Iracionální rovnicí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každou rovnici, která má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pod odmocninou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TextovéPole 8"/>
          <p:cNvSpPr/>
          <p:nvPr/>
        </p:nvSpPr>
        <p:spPr>
          <a:xfrm>
            <a:off x="2268360" y="6093000"/>
            <a:ext cx="259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707920"/>
            <a:ext cx="76201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řešení takových rovnic používám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neekvivalentních úprav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např. umocnění obou stran rovnice stejným mocnitelem. Je to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důsledková úprav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ři níž se žádné řešení neztratí, ale některá mohou přibýt. Proto pak součástí řešení rovnice j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zkoušk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bo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stanovení podmínek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za kterých má rovnice smysl. Tím vyloučíme nevyhovující řešení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4643280" y="5805360"/>
            <a:ext cx="8636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3492360" y="5661000"/>
                <a:ext cx="12574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Zástupný symbol pro obsah 3"/>
              <p:cNvSpPr txBox="1"/>
              <p:nvPr/>
            </p:nvSpPr>
            <p:spPr>
              <a:xfrm>
                <a:off x="3132000" y="549360"/>
                <a:ext cx="2252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466560" y="1628640"/>
                <a:ext cx="1652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132000" y="1700280"/>
                <a:ext cx="335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611280" y="2205000"/>
                <a:ext cx="1400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611280" y="2637000"/>
                <a:ext cx="8380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5108400" y="1800360"/>
                <a:ext cx="1487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6589800" y="2203560"/>
                <a:ext cx="1576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1"/>
              <p:cNvSpPr txBox="1"/>
              <p:nvPr/>
            </p:nvSpPr>
            <p:spPr>
              <a:xfrm>
                <a:off x="684360" y="4149720"/>
                <a:ext cx="3157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ovéPole 11"/>
          <p:cNvSpPr/>
          <p:nvPr/>
        </p:nvSpPr>
        <p:spPr>
          <a:xfrm>
            <a:off x="53964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684360" y="5084640"/>
                <a:ext cx="809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684360" y="5516640"/>
                <a:ext cx="865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ovéPole 15"/>
          <p:cNvSpPr/>
          <p:nvPr/>
        </p:nvSpPr>
        <p:spPr>
          <a:xfrm>
            <a:off x="539640" y="59500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Zaoblený obdélníkový popisek 16"/>
          <p:cNvSpPr/>
          <p:nvPr/>
        </p:nvSpPr>
        <p:spPr>
          <a:xfrm>
            <a:off x="3924360" y="3357720"/>
            <a:ext cx="4392720" cy="1150920"/>
          </a:xfrm>
          <a:prstGeom prst="wedgeRoundRectCallout">
            <a:avLst>
              <a:gd name="adj1" fmla="val -89958"/>
              <a:gd name="adj2" fmla="val -15385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bě strany rovnice umocníme na druhou a pomocí ekvivalentních úprav  rovnici zjednodušíme a vyjádříme proměnnou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132000" y="476280"/>
                <a:ext cx="2673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539640" y="1628640"/>
                <a:ext cx="1962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132000" y="1700280"/>
                <a:ext cx="335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5181480" y="1800360"/>
                <a:ext cx="13557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588000" y="2205000"/>
                <a:ext cx="1576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826920" y="2205000"/>
                <a:ext cx="2019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826920" y="2781360"/>
                <a:ext cx="2789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9"/>
              <p:cNvSpPr txBox="1"/>
              <p:nvPr/>
            </p:nvSpPr>
            <p:spPr>
              <a:xfrm>
                <a:off x="1295280" y="3357720"/>
                <a:ext cx="2260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1295280" y="3933720"/>
                <a:ext cx="24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24" name="Přímá spojovací šipka 11"/>
          <p:cNvCxnSpPr/>
          <p:nvPr/>
        </p:nvCxnSpPr>
        <p:spPr>
          <a:xfrm>
            <a:off x="2231640" y="4365720"/>
            <a:ext cx="108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5" name="Přímá spojovací šipka 12"/>
          <p:cNvCxnSpPr/>
          <p:nvPr/>
        </p:nvCxnSpPr>
        <p:spPr>
          <a:xfrm>
            <a:off x="3095640" y="4365360"/>
            <a:ext cx="122472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2303640" y="5445000"/>
                <a:ext cx="866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4138560" y="5013360"/>
                <a:ext cx="1231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4451400" y="5445000"/>
                <a:ext cx="89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1965240" y="5013360"/>
                <a:ext cx="1233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Zaoblený obdélníkový popisek 17"/>
          <p:cNvSpPr/>
          <p:nvPr/>
        </p:nvSpPr>
        <p:spPr>
          <a:xfrm>
            <a:off x="4643280" y="3068640"/>
            <a:ext cx="3673800" cy="1081080"/>
          </a:xfrm>
          <a:prstGeom prst="wedgeRoundRectCallout">
            <a:avLst>
              <a:gd name="adj1" fmla="val -88907"/>
              <a:gd name="adj2" fmla="val -10300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bě strany rovnice umocníme na druhou -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OR!!!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- pravou stranu jako dvojčlen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odle vzorce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Zaoblený obdélníkový popisek 18"/>
          <p:cNvSpPr/>
          <p:nvPr/>
        </p:nvSpPr>
        <p:spPr>
          <a:xfrm>
            <a:off x="5580000" y="4581360"/>
            <a:ext cx="2737080" cy="792360"/>
          </a:xfrm>
          <a:prstGeom prst="wedgeRoundRectCallout">
            <a:avLst>
              <a:gd name="adj1" fmla="val -111800"/>
              <a:gd name="adj2" fmla="val -108240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ici zjednodušíme, vyjádříme proměnnou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11"/>
              <p:cNvSpPr txBox="1"/>
              <p:nvPr/>
            </p:nvSpPr>
            <p:spPr>
              <a:xfrm>
                <a:off x="542880" y="1254240"/>
                <a:ext cx="2906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ovéPole 11"/>
          <p:cNvSpPr/>
          <p:nvPr/>
        </p:nvSpPr>
        <p:spPr>
          <a:xfrm>
            <a:off x="539640" y="549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2"/>
              <p:cNvSpPr txBox="1"/>
              <p:nvPr/>
            </p:nvSpPr>
            <p:spPr>
              <a:xfrm>
                <a:off x="571680" y="1916280"/>
                <a:ext cx="122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3"/>
              <p:cNvSpPr txBox="1"/>
              <p:nvPr/>
            </p:nvSpPr>
            <p:spPr>
              <a:xfrm>
                <a:off x="628560" y="2365200"/>
                <a:ext cx="97632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TextovéPole 5"/>
          <p:cNvSpPr/>
          <p:nvPr/>
        </p:nvSpPr>
        <p:spPr>
          <a:xfrm>
            <a:off x="539640" y="4292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3443400" y="4241880"/>
                <a:ext cx="1062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8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4500720" y="4076640"/>
            <a:ext cx="86328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4397400" y="1233360"/>
                <a:ext cx="293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4397400" y="1844640"/>
                <a:ext cx="1255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4500720" y="2349360"/>
                <a:ext cx="10317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2" name="Zaoblený obdélníkový popisek 11"/>
          <p:cNvSpPr/>
          <p:nvPr/>
        </p:nvSpPr>
        <p:spPr>
          <a:xfrm>
            <a:off x="2195640" y="3213000"/>
            <a:ext cx="4176720" cy="432000"/>
          </a:xfrm>
          <a:prstGeom prst="wedgeRoundRectCallout">
            <a:avLst>
              <a:gd name="adj1" fmla="val -53509"/>
              <a:gd name="adj2" fmla="val -21231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kouškou vyloučíme nevhodné řešen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3132000" y="476280"/>
                <a:ext cx="2673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017880" y="549360"/>
                <a:ext cx="3664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3635280" y="1700280"/>
                <a:ext cx="335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5867280" y="1916280"/>
                <a:ext cx="235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∧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6804000" y="2781360"/>
                <a:ext cx="1378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466560" y="2276640"/>
                <a:ext cx="36925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574560" y="2781360"/>
                <a:ext cx="221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287280" y="1700280"/>
                <a:ext cx="2685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635280" y="2997360"/>
                <a:ext cx="5857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7"/>
              <p:cNvSpPr txBox="1"/>
              <p:nvPr/>
            </p:nvSpPr>
            <p:spPr>
              <a:xfrm>
                <a:off x="719280" y="3321000"/>
                <a:ext cx="173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938160" y="3951360"/>
                <a:ext cx="1231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934920" y="4437000"/>
                <a:ext cx="754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Zaoblený obdélníkový popisek 14"/>
          <p:cNvSpPr/>
          <p:nvPr/>
        </p:nvSpPr>
        <p:spPr>
          <a:xfrm>
            <a:off x="971640" y="5373720"/>
            <a:ext cx="3168720" cy="1079640"/>
          </a:xfrm>
          <a:prstGeom prst="wedgeRoundRectCallout">
            <a:avLst>
              <a:gd name="adj1" fmla="val 3722"/>
              <a:gd name="adj2" fmla="val -20916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ici zjednodušíme a znovu umocníme na druhou. Vyjádříme  proměnnou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Zaoblený obdélníkový popisek 15"/>
          <p:cNvSpPr/>
          <p:nvPr/>
        </p:nvSpPr>
        <p:spPr>
          <a:xfrm>
            <a:off x="4500720" y="3500280"/>
            <a:ext cx="3887640" cy="1800360"/>
          </a:xfrm>
          <a:prstGeom prst="wedgeRoundRectCallout">
            <a:avLst>
              <a:gd name="adj1" fmla="val -62356"/>
              <a:gd name="adj2" fmla="val -11689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jprve je vhodné jednu z odmocnin převést na druhou stranu rovnice, teprve pak až obě strany rovnice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umocnit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na druhou -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OZOR!!!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- pravou stranu jako dvojčlen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podle vzorce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3635280" y="3537000"/>
                <a:ext cx="335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3348000" y="3429000"/>
            <a:ext cx="8636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611280" y="1268280"/>
                <a:ext cx="56451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ovéPole 11"/>
          <p:cNvSpPr/>
          <p:nvPr/>
        </p:nvSpPr>
        <p:spPr>
          <a:xfrm>
            <a:off x="539640" y="549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611280" y="1916280"/>
                <a:ext cx="836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611280" y="2421000"/>
                <a:ext cx="865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ovéPole 5"/>
          <p:cNvSpPr/>
          <p:nvPr/>
        </p:nvSpPr>
        <p:spPr>
          <a:xfrm>
            <a:off x="539640" y="35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556000" y="3500280"/>
                <a:ext cx="977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aoblený obdélníkový popisek 8"/>
          <p:cNvSpPr/>
          <p:nvPr/>
        </p:nvSpPr>
        <p:spPr>
          <a:xfrm>
            <a:off x="3851280" y="2349360"/>
            <a:ext cx="4176720" cy="432000"/>
          </a:xfrm>
          <a:prstGeom prst="wedgeRoundRectCallout">
            <a:avLst>
              <a:gd name="adj1" fmla="val -88800"/>
              <a:gd name="adj2" fmla="val -1143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kouškou vyloučíme nevhodné řešení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155700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Z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N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množině R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lik řešení má rovnice v množině N?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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4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nemá řešení,  3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-3;4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4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;5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4500720" y="1628640"/>
                <a:ext cx="12952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4572000" y="2133720"/>
                <a:ext cx="1806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72000" y="2781360"/>
                <a:ext cx="2252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940360" y="3357720"/>
                <a:ext cx="2152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4:07Z</dcterms:modified>
  <cp:revision>106</cp:revision>
  <dc:subject/>
  <dc:title>Název</dc:title>
</cp:coreProperties>
</file>