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FDC20-F841-4B67-90D5-5627BE0E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88375-3317-44CC-AA28-C90B73CE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4C1A-48DC-41FE-9D88-BBDD967F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FA791-2C8F-4400-8403-6C61C946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B6DD-A221-4AC8-95B3-6D0935C7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F8A1-6CD0-4894-A672-7F48BEB3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26CE-D473-4106-B499-DF1D720E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ED15-FBF5-4642-8DE2-1044C210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824B-3341-4346-887C-116F14C0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E030-3952-41EB-A7B2-231AE3D2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DA80-0722-4CC6-804C-2833A4CC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AA3C0-D603-446A-99C2-65AAB66C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AE6C-D958-48CF-B999-08756953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7B7E-7B78-4DBA-9B94-CD031200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3D1E-EF09-4E98-BE24-C55C9885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006C-95D5-4B39-B4DB-AA2BA0A8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6ECC-3AF0-42BA-BD4F-B303B8DC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EAB84-518C-43FC-9FA7-4F017871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86F9C-DC65-4992-A8A1-023039AD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8E6E-D784-472F-B714-D9D0C5DB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9E568-18F0-4B45-8DAC-2F435F41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9A3A-68D3-4D3A-A736-204D7A61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52E4-6535-46EA-A81A-EC968DA6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66865-7991-4DDF-8EE2-E5579B24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6083-836D-4394-B12C-126330F555B8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7338-58C9-4932-8BE9-45EC6EABC9E1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9715-7294-411D-9458-155DBA06F45C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D1E8-02DC-4DDD-94A3-ABED821A865F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Lineární rovnice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59" name="Zástupný symbol pro obsah 2"/>
          <p:cNvSpPr/>
          <p:nvPr/>
        </p:nvSpPr>
        <p:spPr>
          <a:xfrm>
            <a:off x="457200" y="1481040"/>
            <a:ext cx="7715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Dytrych, M., Dobiasová, I., Livňansk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 matematiky pro nižší ročníky víceletých gymnázií a pro 2.stupeň základních škol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Fortuna, Praha 2001, 2. vydání: ISBN 80-7168-766-9     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Charvát, J., Zhouf, J., Boček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Matematika pro gymnázia – Rovnice a nerovni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2002, dotisk 3. vydání: ISBN 80-7196-154-X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3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Klodner, J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 matematiky pro obchodní akademi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Svitavská tiskárna, Svitavy 1998, 4. upravené vydání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4] Hudcová, M., Kubičíkov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 matematiky pro SOŠ, SOU a nástavbové studium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2002, dotisk 1. vydání: ISBN 80-7196-165-5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LINEÁRNÍ ROVNI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ovnice a nerovni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1_0906_D1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Lineární rovnice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3499920"/>
            <a:ext cx="76201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50000"/>
              </a:lnSpc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Je-li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 0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ak má rovnice jediné řešení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150000"/>
              </a:lnSpc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Je-li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 = 0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a současně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b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 = 0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ak má rovnice nekonečně mnoho řešení.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150000"/>
              </a:lnSpc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Je-li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 = 0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a současně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b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 0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ak nemá rovnice žádné řešení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6" name="Obdélník 3"/>
          <p:cNvSpPr/>
          <p:nvPr/>
        </p:nvSpPr>
        <p:spPr>
          <a:xfrm>
            <a:off x="468360" y="1413000"/>
            <a:ext cx="7632720" cy="17287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Cambria"/>
              </a:rPr>
              <a:t>Lineární rovnicí 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s neznámou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R 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nazýváme každou rovnici, kterou lze převést ekvivalentními úpravami do tvaru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x + b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= 0, 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kde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R \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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0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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b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R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5651640" y="3500280"/>
                <a:ext cx="863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Ekvivalentní úpravy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= pomocí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ekvivalentních úprav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řevádíme rovnici na jednodušší tvar, ze kterého můžeme vyjádřit výsledek. Přitom množina všech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řešení rovnice se nezmění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rovedeme-li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záměnu stran rovnice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řičteme-li (odečteme) stejné číslo nebo stejný výraz s neznámou k oběma stranám rovnice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rovnici vynásobíme (dělíme) stejným nenulovým číslem nebo výrazem (odstranění zlomku z rovnice)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Úpravy vždy aplikujeme na obě strany rovnice!!!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stup řešen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odstranění zlomků 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a závorek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z rovnice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zjednodušení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levé a pravé strany rovnice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úprava rovnice do tvaru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ax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b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a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následné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vyjádření neznámé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dělením rovnice číslem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a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kontrola správnosti výsledku dosazením vypočtené hodnoty do výrazů levé i pravé strany rovnice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1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Zástupný symbol pro obsah 3"/>
              <p:cNvSpPr txBox="1"/>
              <p:nvPr/>
            </p:nvSpPr>
            <p:spPr>
              <a:xfrm>
                <a:off x="2916360" y="476280"/>
                <a:ext cx="42940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7"/>
              <p:cNvSpPr txBox="1"/>
              <p:nvPr/>
            </p:nvSpPr>
            <p:spPr>
              <a:xfrm>
                <a:off x="466560" y="1844640"/>
                <a:ext cx="39942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8"/>
              <p:cNvSpPr txBox="1"/>
              <p:nvPr/>
            </p:nvSpPr>
            <p:spPr>
              <a:xfrm>
                <a:off x="1438200" y="2492280"/>
                <a:ext cx="2401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9"/>
              <p:cNvSpPr txBox="1"/>
              <p:nvPr/>
            </p:nvSpPr>
            <p:spPr>
              <a:xfrm>
                <a:off x="2301840" y="3068640"/>
                <a:ext cx="11178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0"/>
              <p:cNvSpPr txBox="1"/>
              <p:nvPr/>
            </p:nvSpPr>
            <p:spPr>
              <a:xfrm>
                <a:off x="2517840" y="3645000"/>
                <a:ext cx="780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1"/>
              <p:cNvSpPr txBox="1"/>
              <p:nvPr/>
            </p:nvSpPr>
            <p:spPr>
              <a:xfrm>
                <a:off x="466560" y="4724280"/>
                <a:ext cx="36594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TextovéPole 11"/>
          <p:cNvSpPr/>
          <p:nvPr/>
        </p:nvSpPr>
        <p:spPr>
          <a:xfrm>
            <a:off x="468360" y="4076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Zkouška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2"/>
              <p:cNvSpPr txBox="1"/>
              <p:nvPr/>
            </p:nvSpPr>
            <p:spPr>
              <a:xfrm>
                <a:off x="466560" y="5229360"/>
                <a:ext cx="273708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Zaoblený obdélníkový popisek 14"/>
          <p:cNvSpPr/>
          <p:nvPr/>
        </p:nvSpPr>
        <p:spPr>
          <a:xfrm>
            <a:off x="5364000" y="1341360"/>
            <a:ext cx="3024360" cy="1152720"/>
          </a:xfrm>
          <a:prstGeom prst="wedgeRoundRectCallout">
            <a:avLst>
              <a:gd name="adj1" fmla="val -78875"/>
              <a:gd name="adj2" fmla="val 4287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Roznásobení výrazů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na levé straně rovnice,  na pravé straně umocnění dvojčlenu podle vzorc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3"/>
              <p:cNvSpPr txBox="1"/>
              <p:nvPr/>
            </p:nvSpPr>
            <p:spPr>
              <a:xfrm>
                <a:off x="466560" y="5805360"/>
                <a:ext cx="86544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Zaoblený obdélníkový popisek 16"/>
          <p:cNvSpPr/>
          <p:nvPr/>
        </p:nvSpPr>
        <p:spPr>
          <a:xfrm>
            <a:off x="5796000" y="3213000"/>
            <a:ext cx="2592360" cy="576360"/>
          </a:xfrm>
          <a:prstGeom prst="wedgeRoundRectCallout">
            <a:avLst>
              <a:gd name="adj1" fmla="val -72662"/>
              <a:gd name="adj2" fmla="val -101185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řičtení výrazu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k oběma stranám rovnice.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4" name="Zaoblený obdélníkový popisek 18"/>
          <p:cNvSpPr/>
          <p:nvPr/>
        </p:nvSpPr>
        <p:spPr>
          <a:xfrm>
            <a:off x="5219640" y="4292640"/>
            <a:ext cx="2881440" cy="647640"/>
          </a:xfrm>
          <a:prstGeom prst="wedgeRoundRectCallout">
            <a:avLst>
              <a:gd name="adj1" fmla="val -81810"/>
              <a:gd name="adj2" fmla="val 78430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Dosazení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výsledku do výrazů obou stran rovnic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5" name="Zaoblený obdélníkový popisek 19"/>
          <p:cNvSpPr/>
          <p:nvPr/>
        </p:nvSpPr>
        <p:spPr>
          <a:xfrm>
            <a:off x="2340000" y="5950080"/>
            <a:ext cx="3095640" cy="503280"/>
          </a:xfrm>
          <a:prstGeom prst="wedgeRoundRectCallout">
            <a:avLst>
              <a:gd name="adj1" fmla="val -67189"/>
              <a:gd name="adj2" fmla="val -37129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L = P 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kořen rovnice je 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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6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7"/>
              <p:cNvSpPr txBox="1"/>
              <p:nvPr/>
            </p:nvSpPr>
            <p:spPr>
              <a:xfrm>
                <a:off x="6300720" y="5445000"/>
                <a:ext cx="10908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7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7524720" y="5300640"/>
            <a:ext cx="863640" cy="79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8" name="Object 20"/>
              <p:cNvSpPr txBox="1"/>
              <p:nvPr/>
            </p:nvSpPr>
            <p:spPr>
              <a:xfrm>
                <a:off x="4140360" y="2492280"/>
                <a:ext cx="1395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Přímá spojovací čára 23"/>
          <p:cNvSpPr/>
          <p:nvPr/>
        </p:nvSpPr>
        <p:spPr>
          <a:xfrm>
            <a:off x="2987640" y="1989000"/>
            <a:ext cx="21600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0" name="Přímá spojovací čára 25"/>
          <p:cNvSpPr/>
          <p:nvPr/>
        </p:nvSpPr>
        <p:spPr>
          <a:xfrm>
            <a:off x="468360" y="1989000"/>
            <a:ext cx="21600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21"/>
              <p:cNvSpPr txBox="1"/>
              <p:nvPr/>
            </p:nvSpPr>
            <p:spPr>
              <a:xfrm>
                <a:off x="4067280" y="3068640"/>
                <a:ext cx="590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2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Zástupný symbol pro obsah 3"/>
              <p:cNvSpPr txBox="1"/>
              <p:nvPr/>
            </p:nvSpPr>
            <p:spPr>
              <a:xfrm>
                <a:off x="2987640" y="333360"/>
                <a:ext cx="2741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5"/>
              <p:cNvSpPr txBox="1"/>
              <p:nvPr/>
            </p:nvSpPr>
            <p:spPr>
              <a:xfrm>
                <a:off x="466560" y="2060640"/>
                <a:ext cx="38545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6"/>
              <p:cNvSpPr txBox="1"/>
              <p:nvPr/>
            </p:nvSpPr>
            <p:spPr>
              <a:xfrm>
                <a:off x="1079640" y="2997360"/>
                <a:ext cx="23176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1042920" y="3573360"/>
                <a:ext cx="2514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8"/>
              <p:cNvSpPr txBox="1"/>
              <p:nvPr/>
            </p:nvSpPr>
            <p:spPr>
              <a:xfrm>
                <a:off x="1619280" y="4076640"/>
                <a:ext cx="12002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1870200" y="4581360"/>
                <a:ext cx="780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Zaoblený obdélníkový popisek 12"/>
          <p:cNvSpPr/>
          <p:nvPr/>
        </p:nvSpPr>
        <p:spPr>
          <a:xfrm>
            <a:off x="5508720" y="1773360"/>
            <a:ext cx="2808360" cy="934920"/>
          </a:xfrm>
          <a:prstGeom prst="wedgeRoundRectCallout">
            <a:avLst>
              <a:gd name="adj1" fmla="val -68574"/>
              <a:gd name="adj2" fmla="val 34138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Vynásobení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celé rovnice nejmenším společným jmenovatelem zlomků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0" name="Zaoblený obdélníkový popisek 17"/>
          <p:cNvSpPr/>
          <p:nvPr/>
        </p:nvSpPr>
        <p:spPr>
          <a:xfrm>
            <a:off x="4932360" y="3068640"/>
            <a:ext cx="2303640" cy="431640"/>
          </a:xfrm>
          <a:prstGeom prst="wedgeRoundRectCallout">
            <a:avLst>
              <a:gd name="adj1" fmla="val -94046"/>
              <a:gd name="adj2" fmla="val -91537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Zkrácení zlomků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1" name="Zaoblený obdélníkový popisek 19"/>
          <p:cNvSpPr/>
          <p:nvPr/>
        </p:nvSpPr>
        <p:spPr>
          <a:xfrm>
            <a:off x="5508720" y="3860640"/>
            <a:ext cx="2735280" cy="863640"/>
          </a:xfrm>
          <a:prstGeom prst="wedgeRoundRectCallout">
            <a:avLst>
              <a:gd name="adj1" fmla="val -65481"/>
              <a:gd name="adj2" fmla="val -37800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  <a:ea typeface="Times New Roman"/>
              </a:rPr>
              <a:t>Odečtení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  <a:ea typeface="Times New Roman"/>
              </a:rPr>
              <a:t> od obou stran rovnice výrazu 4</a:t>
            </a:r>
            <a:r>
              <a:rPr b="0" i="1" lang="cs-CZ" sz="1800" spc="-1" strike="noStrike">
                <a:solidFill>
                  <a:srgbClr val="ffffff"/>
                </a:solidFill>
                <a:latin typeface="Cambria"/>
                <a:ea typeface="Times New Roman"/>
              </a:rPr>
              <a:t>x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  <a:ea typeface="Times New Roman"/>
              </a:rPr>
              <a:t> a přičtení 18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2" name="Zaoblený obdélníkový popisek 20"/>
          <p:cNvSpPr/>
          <p:nvPr/>
        </p:nvSpPr>
        <p:spPr>
          <a:xfrm>
            <a:off x="3708360" y="5157720"/>
            <a:ext cx="3529080" cy="432000"/>
          </a:xfrm>
          <a:prstGeom prst="wedgeRoundRectCallout">
            <a:avLst>
              <a:gd name="adj1" fmla="val -40490"/>
              <a:gd name="adj2" fmla="val -189629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Vydělení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celé rovnice číslem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-1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3" name="Přímá spojovací čára 13"/>
          <p:cNvSpPr/>
          <p:nvPr/>
        </p:nvSpPr>
        <p:spPr>
          <a:xfrm>
            <a:off x="539640" y="2349360"/>
            <a:ext cx="21600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4" name="Přímá spojovací čára 14"/>
          <p:cNvSpPr/>
          <p:nvPr/>
        </p:nvSpPr>
        <p:spPr>
          <a:xfrm>
            <a:off x="971640" y="2637000"/>
            <a:ext cx="215640" cy="215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5" name="Přímá spojovací čára 15"/>
          <p:cNvSpPr/>
          <p:nvPr/>
        </p:nvSpPr>
        <p:spPr>
          <a:xfrm>
            <a:off x="2843280" y="2637000"/>
            <a:ext cx="216000" cy="215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6" name="Přímá spojovací čára 16"/>
          <p:cNvSpPr/>
          <p:nvPr/>
        </p:nvSpPr>
        <p:spPr>
          <a:xfrm>
            <a:off x="2411280" y="2349360"/>
            <a:ext cx="21600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7" name="Přímá spojovací čára 18"/>
          <p:cNvSpPr/>
          <p:nvPr/>
        </p:nvSpPr>
        <p:spPr>
          <a:xfrm>
            <a:off x="3635280" y="2349360"/>
            <a:ext cx="21600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8" name="Přímá spojovací čára 21"/>
          <p:cNvSpPr/>
          <p:nvPr/>
        </p:nvSpPr>
        <p:spPr>
          <a:xfrm>
            <a:off x="3995640" y="2637000"/>
            <a:ext cx="216000" cy="215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1"/>
              <p:cNvSpPr txBox="1"/>
              <p:nvPr/>
            </p:nvSpPr>
            <p:spPr>
              <a:xfrm>
                <a:off x="6161040" y="636480"/>
                <a:ext cx="9000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20"/>
              <p:cNvSpPr txBox="1"/>
              <p:nvPr/>
            </p:nvSpPr>
            <p:spPr>
              <a:xfrm>
                <a:off x="3780000" y="3573360"/>
                <a:ext cx="139536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21"/>
              <p:cNvSpPr txBox="1"/>
              <p:nvPr/>
            </p:nvSpPr>
            <p:spPr>
              <a:xfrm>
                <a:off x="3708360" y="4076640"/>
                <a:ext cx="9572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ovéPole 4"/>
          <p:cNvSpPr/>
          <p:nvPr/>
        </p:nvSpPr>
        <p:spPr>
          <a:xfrm>
            <a:off x="468360" y="549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Zkouška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466560" y="1125360"/>
                <a:ext cx="25974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466560" y="2205000"/>
                <a:ext cx="47199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466560" y="3284640"/>
                <a:ext cx="8654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Zaoblený obdélníkový popisek 8"/>
          <p:cNvSpPr/>
          <p:nvPr/>
        </p:nvSpPr>
        <p:spPr>
          <a:xfrm>
            <a:off x="5076720" y="907920"/>
            <a:ext cx="3167280" cy="649440"/>
          </a:xfrm>
          <a:prstGeom prst="wedgeRoundRectCallout">
            <a:avLst>
              <a:gd name="adj1" fmla="val -81810"/>
              <a:gd name="adj2" fmla="val 78430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Dosazení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výsledku do výrazů obou stran rovnic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7" name="Zaoblený obdélníkový popisek 9"/>
          <p:cNvSpPr/>
          <p:nvPr/>
        </p:nvSpPr>
        <p:spPr>
          <a:xfrm>
            <a:off x="2484360" y="4149720"/>
            <a:ext cx="3095640" cy="503280"/>
          </a:xfrm>
          <a:prstGeom prst="wedgeRoundRectCallout">
            <a:avLst>
              <a:gd name="adj1" fmla="val -73384"/>
              <a:gd name="adj2" fmla="val -168796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L = P 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kořen rovnice je 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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6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8"/>
              <p:cNvSpPr txBox="1"/>
              <p:nvPr/>
            </p:nvSpPr>
            <p:spPr>
              <a:xfrm>
                <a:off x="6227640" y="4508640"/>
                <a:ext cx="10908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49" name="Obrázek 40" descr="zatržítko.JPG"/>
          <p:cNvPicPr/>
          <p:nvPr/>
        </p:nvPicPr>
        <p:blipFill>
          <a:blip r:embed="rId1"/>
          <a:stretch/>
        </p:blipFill>
        <p:spPr>
          <a:xfrm>
            <a:off x="7308720" y="4365720"/>
            <a:ext cx="103356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Opakován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lnSpc>
                <a:spcPct val="150000"/>
              </a:lnSpc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Řešte rovnici v množině R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50000"/>
              </a:lnSpc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 množině Z určete všechna řešení rovnice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50000"/>
              </a:lnSpc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Rovnici řešte v N: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50000"/>
              </a:lnSpc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Řešte rovnici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a správnost výsledku ověřte zkouškou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50000"/>
              </a:lnSpc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Ověřte, zda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je kořenem rovnice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00000"/>
              </a:lnSpc>
              <a:spcBef>
                <a:spcPts val="799"/>
              </a:spcBef>
              <a:buClr>
                <a:srgbClr val="a9a57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ýsledky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1)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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-10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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 2) nemá řešení,  3) nemá řešení,  4)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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-1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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4427640" y="1700280"/>
                <a:ext cx="2509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5"/>
              <p:cNvSpPr txBox="1"/>
              <p:nvPr/>
            </p:nvSpPr>
            <p:spPr>
              <a:xfrm>
                <a:off x="6372360" y="2276640"/>
                <a:ext cx="17780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6"/>
              <p:cNvSpPr txBox="1"/>
              <p:nvPr/>
            </p:nvSpPr>
            <p:spPr>
              <a:xfrm>
                <a:off x="3348000" y="2708280"/>
                <a:ext cx="20890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2700360" y="3141720"/>
                <a:ext cx="15098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8"/>
              <p:cNvSpPr txBox="1"/>
              <p:nvPr/>
            </p:nvSpPr>
            <p:spPr>
              <a:xfrm>
                <a:off x="2484360" y="4149720"/>
                <a:ext cx="8445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9"/>
              <p:cNvSpPr txBox="1"/>
              <p:nvPr/>
            </p:nvSpPr>
            <p:spPr>
              <a:xfrm>
                <a:off x="5724360" y="4149720"/>
                <a:ext cx="23781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Admin</cp:lastModifiedBy>
  <dcterms:modified xsi:type="dcterms:W3CDTF">2014-04-13T15:22:37Z</dcterms:modified>
  <cp:revision>145</cp:revision>
  <dc:subject/>
  <dc:title>Název</dc:title>
</cp:coreProperties>
</file>