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5B69-6B03-4C17-B9DC-601162DB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E5294-54BA-4451-9ADC-E2F42C90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76FF-19D6-45AC-A6EA-D173A1CF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C3C3C-5972-4662-BAAE-4D54F61B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086C-6923-4A27-9713-FCD03DDF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650A-909F-42A7-B086-F654D870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1369-FCD3-4861-8408-F873C304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F081-B1A4-4635-92C3-719DC68C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8BEC-EA11-4015-82AA-3B3E3705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F6F8-3788-432A-8C37-F949D34E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9544-06FB-404E-A95A-955D463F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E8D33-0DB2-4BBB-A023-8FE6C252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0D18-0514-4569-8539-E4819AD3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C489-E0C2-4DD1-9208-1AF7F5CC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66AE-B413-4495-8D21-92369B52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6C6C-399B-4D0F-8AB8-C0EE74D3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D22D-00F6-43DC-9E24-39C23235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57F8-8C17-4CDB-A80F-AA9D963C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A6EE-5DB4-40FE-B2AF-788E2F54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C51B-5ADA-4D4B-9640-023E28C3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75CD-3998-406D-A5F1-249A5B59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2E36-E579-4AFD-9E61-F3C1FC3A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48BAF-F8F9-4DC2-A5ED-BD8AD4DA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12808-6259-435D-8720-85C4F48F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96AD-2F53-44F2-8E0C-7FC4DBD92D51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7837-94F9-4850-A560-D55D29C5B9DF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6BA3-9718-4FA1-AD5D-230E1AB69FD9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EFAF-0D23-45F1-95DC-AB7E0DCF674A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Soustavy lineárních a kvadratických rovnic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463680" y="620640"/>
                <a:ext cx="16462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1403280" y="1773360"/>
                <a:ext cx="21225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386000" y="2349360"/>
                <a:ext cx="2125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4765680" y="1773360"/>
                <a:ext cx="9493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6"/>
              <p:cNvSpPr txBox="1"/>
              <p:nvPr/>
            </p:nvSpPr>
            <p:spPr>
              <a:xfrm>
                <a:off x="4716360" y="2349360"/>
                <a:ext cx="9781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6" name="Obrázek 40" descr="zatržítko.JPG"/>
          <p:cNvPicPr/>
          <p:nvPr/>
        </p:nvPicPr>
        <p:blipFill>
          <a:blip r:embed="rId1"/>
          <a:srcRect l="6951" t="13314" r="16463" b="13605"/>
          <a:stretch/>
        </p:blipFill>
        <p:spPr>
          <a:xfrm>
            <a:off x="7596360" y="3500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57" name="TextovéPole 10"/>
          <p:cNvSpPr/>
          <p:nvPr/>
        </p:nvSpPr>
        <p:spPr>
          <a:xfrm>
            <a:off x="468360" y="3429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množina uspořádaných dvojic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5580000" y="3357720"/>
                <a:ext cx="22068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9" name="Zaoblený obdélníkový popisek 12"/>
          <p:cNvSpPr/>
          <p:nvPr/>
        </p:nvSpPr>
        <p:spPr>
          <a:xfrm>
            <a:off x="4788000" y="333360"/>
            <a:ext cx="2663640" cy="1008000"/>
          </a:xfrm>
          <a:prstGeom prst="wedgeRoundRectCallout">
            <a:avLst>
              <a:gd name="adj1" fmla="val -98800"/>
              <a:gd name="adj2" fmla="val 13824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Do vyjádřené závislosti dosadíme oba kořeny kvadratické 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láček 21"/>
          <p:cNvSpPr/>
          <p:nvPr/>
        </p:nvSpPr>
        <p:spPr>
          <a:xfrm>
            <a:off x="755640" y="3357720"/>
            <a:ext cx="2952720" cy="2303280"/>
          </a:xfrm>
          <a:prstGeom prst="cloudCallout">
            <a:avLst>
              <a:gd name="adj1" fmla="val 52476"/>
              <a:gd name="adj2" fmla="val -61578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1" name="Obláček 20"/>
          <p:cNvSpPr/>
          <p:nvPr/>
        </p:nvSpPr>
        <p:spPr>
          <a:xfrm>
            <a:off x="4859280" y="3500280"/>
            <a:ext cx="3025800" cy="1729080"/>
          </a:xfrm>
          <a:prstGeom prst="cloudCallout">
            <a:avLst>
              <a:gd name="adj1" fmla="val -66671"/>
              <a:gd name="adj2" fmla="val -71768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Opaková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2556000" y="2205000"/>
                <a:ext cx="11332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1403280" y="4292640"/>
                <a:ext cx="18003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;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7"/>
              <p:cNvSpPr txBox="1"/>
              <p:nvPr/>
            </p:nvSpPr>
            <p:spPr>
              <a:xfrm>
                <a:off x="3995640" y="2205000"/>
                <a:ext cx="13748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1692360" y="3789360"/>
                <a:ext cx="12445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0"/>
              <p:cNvSpPr txBox="1"/>
              <p:nvPr/>
            </p:nvSpPr>
            <p:spPr>
              <a:xfrm>
                <a:off x="1908000" y="4724280"/>
                <a:ext cx="8892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1"/>
              <p:cNvSpPr txBox="1"/>
              <p:nvPr/>
            </p:nvSpPr>
            <p:spPr>
              <a:xfrm>
                <a:off x="5724360" y="2205000"/>
                <a:ext cx="21304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0"/>
              <p:cNvSpPr txBox="1"/>
              <p:nvPr/>
            </p:nvSpPr>
            <p:spPr>
              <a:xfrm>
                <a:off x="2268360" y="5157720"/>
                <a:ext cx="2923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9"/>
              <p:cNvSpPr txBox="1"/>
              <p:nvPr/>
            </p:nvSpPr>
            <p:spPr>
              <a:xfrm>
                <a:off x="971640" y="2205000"/>
                <a:ext cx="1042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" name="TextovéPole 14"/>
          <p:cNvSpPr/>
          <p:nvPr/>
        </p:nvSpPr>
        <p:spPr>
          <a:xfrm>
            <a:off x="5867280" y="4437000"/>
            <a:ext cx="12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tečna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2" name="TextovéPole 16"/>
          <p:cNvSpPr/>
          <p:nvPr/>
        </p:nvSpPr>
        <p:spPr>
          <a:xfrm>
            <a:off x="5867280" y="3716280"/>
            <a:ext cx="8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sečna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3" name="TextovéPole 17"/>
          <p:cNvSpPr/>
          <p:nvPr/>
        </p:nvSpPr>
        <p:spPr>
          <a:xfrm>
            <a:off x="5508720" y="4076640"/>
            <a:ext cx="22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nější přímka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4" name="Zástupný symbol pro obsah 2"/>
          <p:cNvSpPr/>
          <p:nvPr/>
        </p:nvSpPr>
        <p:spPr>
          <a:xfrm>
            <a:off x="468360" y="155736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řiřaďte správná řešení k soustavám rovnic a polohu přímky: 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       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76" name="Zástupný symbol pro obsah 2"/>
          <p:cNvSpPr/>
          <p:nvPr/>
        </p:nvSpPr>
        <p:spPr>
          <a:xfrm>
            <a:off x="457200" y="148104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Dytrych, M., Dobiasová, I., Livňansk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 matematiky pro nižší ročníky víceletých gymnázií a pro 2.stupeň základních škol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Fortuna, Praha 2001, 2. vydání: ISBN 80-7168-766-9     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Charvát, J., Zhouf, J., Boček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Matematika pro gymnázia – Rovnice a nerovni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3. vydání: ISBN 80-7196-154-X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3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Klodner, J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 matematiky pro obchodní akadem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Svitavská tiskárna, Svitavy 1998, 4. upravené vydání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SOUSTAVY LINEÁRNÍCH A KVADRATICKÝCH ROVNIC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ovnice a ne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1_0906_D13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Soustava lineární a kvadratické rovni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611280" y="3860640"/>
            <a:ext cx="7632720" cy="208944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nazýváme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soustavou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lineární a kvadratické  rovnice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se dvěma neznámými </a:t>
            </a:r>
            <a:r>
              <a:rPr b="1" i="1" lang="cs-CZ" sz="2800" spc="-1" strike="noStrike">
                <a:solidFill>
                  <a:srgbClr val="ffffff"/>
                </a:solidFill>
                <a:latin typeface="Cambria"/>
              </a:rPr>
              <a:t>x, y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.  Řešením této soustavy je každá uspořádaná dvojice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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0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y</a:t>
            </a:r>
            <a:r>
              <a:rPr b="0" lang="cs-CZ" sz="2800" spc="-1" strike="noStrike" baseline="-25000">
                <a:solidFill>
                  <a:srgbClr val="2f2b20"/>
                </a:solidFill>
                <a:latin typeface="Cambria"/>
              </a:rPr>
              <a:t>0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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, která je řešením obou jejich rovnic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6" name="Obdélník 5"/>
          <p:cNvSpPr/>
          <p:nvPr/>
        </p:nvSpPr>
        <p:spPr>
          <a:xfrm>
            <a:off x="611280" y="1628640"/>
            <a:ext cx="7632720" cy="64800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Např.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soustavu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 takových rovnic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2700360" y="2349360"/>
                <a:ext cx="236052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čty řešení soustavy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Grafickým vyjádřením řešení jednotlivých rovnic soustavy j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soustava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přímky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a jiné křivky, např.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kružnice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či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paraboly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)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76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římka může mít ve vztahu k druhé křivce polohu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76040">
              <a:spcBef>
                <a:spcPts val="11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sečna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=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římka protíná křivku ve dvou bodech </a:t>
            </a:r>
            <a:r>
              <a:rPr b="1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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soustava má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dvě řešení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76040">
              <a:spcBef>
                <a:spcPts val="11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tečna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= přímka se dotýká v jednom bodě </a:t>
            </a:r>
            <a:r>
              <a:rPr b="1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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soustava má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právě jedno řešení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76040">
              <a:spcBef>
                <a:spcPts val="11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vnější přímka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=přímka nemá s křivkou žádný společný bod </a:t>
            </a:r>
            <a:r>
              <a:rPr b="1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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řešením soustavy je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prázdná množina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76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17604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Metody řešení soustavy rovnic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000" y="1557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ři řešení takové soustavy dáme přednos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10800">
              <a:spcBef>
                <a:spcPts val="11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1" lang="cs-CZ" sz="2200" spc="-1" strike="noStrike">
                <a:solidFill>
                  <a:srgbClr val="ff0000"/>
                </a:solidFill>
                <a:latin typeface="Cambria"/>
              </a:rPr>
              <a:t>metodě dosazovací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–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z lineární rovnice vyjádříme jednu neznámou a tuto závislost dosadíme do druhé rovnice.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ískáme tak rovnici o jedné neznámé, jejíž hodnotu dosadíme zpátky do vyjádřené závislosti a dopočítáme druhou hodnotu uspořádané dvojice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10800">
              <a:spcBef>
                <a:spcPts val="11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metoda porovnávací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–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z obou rovnic vyjádříme tutéž neznámou a porovnáme je.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Rovnají-li se levé strany, rovnají se i strany pravé.)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10800">
              <a:spcBef>
                <a:spcPts val="11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1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3203640" y="404640"/>
                <a:ext cx="236052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5"/>
              <p:cNvSpPr txBox="1"/>
              <p:nvPr/>
            </p:nvSpPr>
            <p:spPr>
              <a:xfrm>
                <a:off x="611280" y="2205000"/>
                <a:ext cx="17841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1798560" y="2781360"/>
                <a:ext cx="252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1006560" y="3357720"/>
                <a:ext cx="32925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2122560" y="3860640"/>
                <a:ext cx="200808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9"/>
              <p:cNvSpPr txBox="1"/>
              <p:nvPr/>
            </p:nvSpPr>
            <p:spPr>
              <a:xfrm>
                <a:off x="2590920" y="4365720"/>
                <a:ext cx="15332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0"/>
              <p:cNvSpPr txBox="1"/>
              <p:nvPr/>
            </p:nvSpPr>
            <p:spPr>
              <a:xfrm>
                <a:off x="2374920" y="4869000"/>
                <a:ext cx="17604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10" name="Přímá spojovací šipka 11"/>
          <p:cNvCxnSpPr/>
          <p:nvPr/>
        </p:nvCxnSpPr>
        <p:spPr>
          <a:xfrm flipH="1">
            <a:off x="2050560" y="5300280"/>
            <a:ext cx="43416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1" name="Přímá spojovací šipka 12"/>
          <p:cNvCxnSpPr/>
          <p:nvPr/>
        </p:nvCxnSpPr>
        <p:spPr>
          <a:xfrm>
            <a:off x="3131640" y="5300280"/>
            <a:ext cx="57708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12" name="Object 11"/>
              <p:cNvSpPr txBox="1"/>
              <p:nvPr/>
            </p:nvSpPr>
            <p:spPr>
              <a:xfrm>
                <a:off x="1403280" y="5732640"/>
                <a:ext cx="865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2"/>
              <p:cNvSpPr txBox="1"/>
              <p:nvPr/>
            </p:nvSpPr>
            <p:spPr>
              <a:xfrm>
                <a:off x="3492360" y="5732640"/>
                <a:ext cx="8938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Zaoblený obdélníkový popisek 16"/>
          <p:cNvSpPr/>
          <p:nvPr/>
        </p:nvSpPr>
        <p:spPr>
          <a:xfrm>
            <a:off x="4859280" y="2060640"/>
            <a:ext cx="3529080" cy="1008000"/>
          </a:xfrm>
          <a:prstGeom prst="wedgeRoundRectCallout">
            <a:avLst>
              <a:gd name="adj1" fmla="val -111810"/>
              <a:gd name="adj2" fmla="val 231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Z lineární rovnice vyjádříme jednu neznámou a tuto závislost dosadíme do druhé 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5" name="Zaoblený obdélníkový popisek 17"/>
          <p:cNvSpPr/>
          <p:nvPr/>
        </p:nvSpPr>
        <p:spPr>
          <a:xfrm>
            <a:off x="5076720" y="3284640"/>
            <a:ext cx="3240360" cy="1224000"/>
          </a:xfrm>
          <a:prstGeom prst="wedgeRoundRectCallout">
            <a:avLst>
              <a:gd name="adj1" fmla="val -76046"/>
              <a:gd name="adj2" fmla="val 40157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omocí ekvivalentních úprav rovnici o jedné neznámé převedeme do součinového tvaru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6" name="Zaoblený obdélníkový popisek 19"/>
          <p:cNvSpPr/>
          <p:nvPr/>
        </p:nvSpPr>
        <p:spPr>
          <a:xfrm>
            <a:off x="5003640" y="4941720"/>
            <a:ext cx="1873440" cy="648000"/>
          </a:xfrm>
          <a:prstGeom prst="wedgeRoundRectCallout">
            <a:avLst>
              <a:gd name="adj1" fmla="val -106768"/>
              <a:gd name="adj2" fmla="val 51541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římka je sečna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7" name="TextovéPole 20"/>
          <p:cNvSpPr/>
          <p:nvPr/>
        </p:nvSpPr>
        <p:spPr>
          <a:xfrm>
            <a:off x="395280" y="1700280"/>
            <a:ext cx="30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METODA DOSAZOVACÍ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539640" y="620640"/>
                <a:ext cx="17845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1471680" y="1771560"/>
                <a:ext cx="25988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1476360" y="2349360"/>
                <a:ext cx="23781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7"/>
              <p:cNvSpPr txBox="1"/>
              <p:nvPr/>
            </p:nvSpPr>
            <p:spPr>
              <a:xfrm>
                <a:off x="4681440" y="1773360"/>
                <a:ext cx="11178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4675320" y="2349360"/>
                <a:ext cx="9777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23" name="Obrázek 40" descr="zatržítko.JPG"/>
          <p:cNvPicPr/>
          <p:nvPr/>
        </p:nvPicPr>
        <p:blipFill>
          <a:blip r:embed="rId1"/>
          <a:srcRect l="6951" t="13314" r="16463" b="13605"/>
          <a:stretch/>
        </p:blipFill>
        <p:spPr>
          <a:xfrm>
            <a:off x="7596360" y="3500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24" name="TextovéPole 10"/>
          <p:cNvSpPr/>
          <p:nvPr/>
        </p:nvSpPr>
        <p:spPr>
          <a:xfrm>
            <a:off x="468360" y="3429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množina uspořádaných dvojic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9"/>
              <p:cNvSpPr txBox="1"/>
              <p:nvPr/>
            </p:nvSpPr>
            <p:spPr>
              <a:xfrm>
                <a:off x="5651640" y="3357720"/>
                <a:ext cx="23461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6" name="Zaoblený obdélníkový popisek 12"/>
          <p:cNvSpPr/>
          <p:nvPr/>
        </p:nvSpPr>
        <p:spPr>
          <a:xfrm>
            <a:off x="4788000" y="333360"/>
            <a:ext cx="2663640" cy="1008000"/>
          </a:xfrm>
          <a:prstGeom prst="wedgeRoundRectCallout">
            <a:avLst>
              <a:gd name="adj1" fmla="val -98800"/>
              <a:gd name="adj2" fmla="val 13824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Do vyjádřené závislosti dosadíme oba kořeny kvadratické 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Obrázek 40" descr="zatržítko.JPG"/>
          <p:cNvPicPr/>
          <p:nvPr/>
        </p:nvPicPr>
        <p:blipFill>
          <a:blip r:embed="rId1"/>
          <a:srcRect l="6951" t="13314" r="16463" b="13605"/>
          <a:stretch/>
        </p:blipFill>
        <p:spPr>
          <a:xfrm>
            <a:off x="6588000" y="4724280"/>
            <a:ext cx="792360" cy="792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2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2"/>
              <p:cNvSpPr txBox="1"/>
              <p:nvPr/>
            </p:nvSpPr>
            <p:spPr>
              <a:xfrm>
                <a:off x="3132000" y="549360"/>
                <a:ext cx="29340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TextovéPole 3"/>
          <p:cNvSpPr/>
          <p:nvPr/>
        </p:nvSpPr>
        <p:spPr>
          <a:xfrm>
            <a:off x="468360" y="1989000"/>
            <a:ext cx="33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METODA POROVNÁVACÍ: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3"/>
              <p:cNvSpPr txBox="1"/>
              <p:nvPr/>
            </p:nvSpPr>
            <p:spPr>
              <a:xfrm>
                <a:off x="539640" y="2565360"/>
                <a:ext cx="25956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1006560" y="3068640"/>
                <a:ext cx="21477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539640" y="3645000"/>
                <a:ext cx="4297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Zaoblený obdélníkový popisek 7"/>
          <p:cNvSpPr/>
          <p:nvPr/>
        </p:nvSpPr>
        <p:spPr>
          <a:xfrm>
            <a:off x="5076720" y="2276640"/>
            <a:ext cx="3240360" cy="1223640"/>
          </a:xfrm>
          <a:prstGeom prst="wedgeRoundRectCallout">
            <a:avLst>
              <a:gd name="adj1" fmla="val -99259"/>
              <a:gd name="adj2" fmla="val 41365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omocí ekvivalentních úprav rovnici o jedné neznámé převedeme do součinového tvaru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5" name="TextovéPole 8"/>
          <p:cNvSpPr/>
          <p:nvPr/>
        </p:nvSpPr>
        <p:spPr>
          <a:xfrm>
            <a:off x="468360" y="458136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rotože kvadratická rovnice nemá v množině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R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kořeny, řešením soustavy  je prázdná množina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5796000" y="4724280"/>
                <a:ext cx="977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3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"/>
              <p:cNvSpPr txBox="1"/>
              <p:nvPr/>
            </p:nvSpPr>
            <p:spPr>
              <a:xfrm>
                <a:off x="3132000" y="476280"/>
                <a:ext cx="17161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466560" y="2205000"/>
                <a:ext cx="16448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2124000" y="2708280"/>
                <a:ext cx="17607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5"/>
              <p:cNvSpPr txBox="1"/>
              <p:nvPr/>
            </p:nvSpPr>
            <p:spPr>
              <a:xfrm>
                <a:off x="1908000" y="3284640"/>
                <a:ext cx="19796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6"/>
              <p:cNvSpPr txBox="1"/>
              <p:nvPr/>
            </p:nvSpPr>
            <p:spPr>
              <a:xfrm>
                <a:off x="1474920" y="3897360"/>
                <a:ext cx="2408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1222200" y="4437000"/>
                <a:ext cx="26560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4" name="Přímá spojovací šipka 8"/>
          <p:cNvCxnSpPr/>
          <p:nvPr/>
        </p:nvCxnSpPr>
        <p:spPr>
          <a:xfrm flipH="1">
            <a:off x="1691640" y="5013000"/>
            <a:ext cx="43236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5" name="Přímá spojovací šipka 9"/>
          <p:cNvCxnSpPr/>
          <p:nvPr/>
        </p:nvCxnSpPr>
        <p:spPr>
          <a:xfrm>
            <a:off x="2771280" y="5013000"/>
            <a:ext cx="57708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46" name="Object 8"/>
              <p:cNvSpPr txBox="1"/>
              <p:nvPr/>
            </p:nvSpPr>
            <p:spPr>
              <a:xfrm>
                <a:off x="1042920" y="5445000"/>
                <a:ext cx="8650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9"/>
              <p:cNvSpPr txBox="1"/>
              <p:nvPr/>
            </p:nvSpPr>
            <p:spPr>
              <a:xfrm>
                <a:off x="3119400" y="5445000"/>
                <a:ext cx="920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Zaoblený obdélníkový popisek 12"/>
          <p:cNvSpPr/>
          <p:nvPr/>
        </p:nvSpPr>
        <p:spPr>
          <a:xfrm>
            <a:off x="4859280" y="1916280"/>
            <a:ext cx="3529080" cy="1008000"/>
          </a:xfrm>
          <a:prstGeom prst="wedgeRoundRectCallout">
            <a:avLst>
              <a:gd name="adj1" fmla="val -111810"/>
              <a:gd name="adj2" fmla="val 231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Z lineární rovnice vyjádříme jednu neznámou a tuto závislost dosadíme do druhé 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9" name="Zaoblený obdélníkový popisek 13"/>
          <p:cNvSpPr/>
          <p:nvPr/>
        </p:nvSpPr>
        <p:spPr>
          <a:xfrm>
            <a:off x="5148360" y="3141720"/>
            <a:ext cx="3168720" cy="1224000"/>
          </a:xfrm>
          <a:prstGeom prst="wedgeRoundRectCallout">
            <a:avLst>
              <a:gd name="adj1" fmla="val -76046"/>
              <a:gd name="adj2" fmla="val 40157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omocí ekvivalentních úprav rovnici o jedné neznámé převedeme do součinového tvaru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0" name="Zaoblený obdélníkový popisek 14"/>
          <p:cNvSpPr/>
          <p:nvPr/>
        </p:nvSpPr>
        <p:spPr>
          <a:xfrm>
            <a:off x="5003640" y="4797360"/>
            <a:ext cx="1873440" cy="647640"/>
          </a:xfrm>
          <a:prstGeom prst="wedgeRoundRectCallout">
            <a:avLst>
              <a:gd name="adj1" fmla="val -106768"/>
              <a:gd name="adj2" fmla="val 51541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římka je sečna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3-12-17T21:03:55Z</dcterms:modified>
  <cp:revision>93</cp:revision>
  <dc:subject/>
  <dc:title>Název</dc:title>
</cp:coreProperties>
</file>