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97F0-BD45-4F14-8814-14786E74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3157-519E-41DF-8E51-A312ADAF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95BC-AFF3-46C8-BCB2-783A37FC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2A15-42FC-4DD0-A599-6A73757F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D27A-52C8-4259-8459-2FCD48AF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9985-44E8-4652-9CB0-03DE8B62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BDC0-5787-4DB7-B74B-85A46483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4724-631F-48A2-B5FF-A5D7340D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A231-07D5-41FB-9A05-186C183F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479F-40E5-47B9-9592-71672DB3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8A4A-221E-4552-B671-2A17574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F16D-13A0-4445-8E11-1EE471B4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167E-01D6-4804-8579-CB4BB05D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B9E1-1B1D-49F9-B2DB-D030403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E836-F088-4469-B2F4-1C664F8A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76DA-150A-48C9-9D9C-A1B8D9DA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1A86-5CA5-4A26-80B0-7E609C4D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C8C8-4885-42D1-B06C-CC1E7757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3EB1-0DAB-446E-9D8E-FBCE0F3C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BE33-270B-4BA1-BC1E-4BA96248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B978-D146-4FCD-984D-AA8E5A0E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6424-426A-4EE6-9DF1-91B18270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A684-5D2D-4341-BD10-ACCEC710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0CD1-7586-4C6C-B6B5-E2BB01D9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9ABB-F92F-47E5-AAB7-498AD041F6CD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FA9E-3CF5-4EC6-9F6F-109DF6F3001F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B2A0-CA29-40C9-A795-D479B567D577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5EC3-2C48-408A-AA62-7C7E0FE1F91E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Kvadratické rovnice I.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000" y="475920"/>
            <a:ext cx="762012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Má-li kvadratická rovnic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de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a, b, c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R,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0, kořeny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i="1" lang="cs-CZ" sz="2200" spc="-1" strike="noStrike" baseline="-25000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i="1" lang="cs-CZ" sz="2200" spc="-1" strike="noStrike" baseline="-25000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potom pro každé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R platí: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zn.: Proto tuto kvadratickou rovnici platí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Vi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è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tovy vzorc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2484360" y="981000"/>
                <a:ext cx="22035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1908000" y="2565360"/>
                <a:ext cx="4365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1692360" y="4076640"/>
                <a:ext cx="14000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4140360" y="4149720"/>
                <a:ext cx="17636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4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3227400" y="549360"/>
                <a:ext cx="2735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3263760" y="1484280"/>
                <a:ext cx="2678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68160" y="2205000"/>
                <a:ext cx="518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514440" y="3357720"/>
                <a:ext cx="3825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6" name="Přímá spojovací šipka 7"/>
          <p:cNvCxnSpPr/>
          <p:nvPr/>
        </p:nvCxnSpPr>
        <p:spPr>
          <a:xfrm flipV="1">
            <a:off x="4571640" y="3428640"/>
            <a:ext cx="864360" cy="216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7" name="Přímá spojovací šipka 8"/>
          <p:cNvCxnSpPr/>
          <p:nvPr/>
        </p:nvCxnSpPr>
        <p:spPr>
          <a:xfrm>
            <a:off x="4571640" y="4076640"/>
            <a:ext cx="864360" cy="216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8" name="Object 6"/>
              <p:cNvSpPr txBox="1"/>
              <p:nvPr/>
            </p:nvSpPr>
            <p:spPr>
              <a:xfrm>
                <a:off x="5580000" y="2852640"/>
                <a:ext cx="24066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5545080" y="3968640"/>
                <a:ext cx="2941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4356000" y="5084640"/>
                <a:ext cx="17589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TextovéPole 13"/>
          <p:cNvSpPr/>
          <p:nvPr/>
        </p:nvSpPr>
        <p:spPr>
          <a:xfrm>
            <a:off x="611280" y="5373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82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6084720" y="5084640"/>
            <a:ext cx="8654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4354560" y="551808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84" name="Obrázek 40" descr="zatržítko.JPG"/>
          <p:cNvPicPr/>
          <p:nvPr/>
        </p:nvPicPr>
        <p:blipFill>
          <a:blip r:embed="rId2"/>
          <a:srcRect l="6951" t="6628" r="9451" b="13547"/>
          <a:stretch/>
        </p:blipFill>
        <p:spPr>
          <a:xfrm>
            <a:off x="7020000" y="292428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4060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5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3132000" y="3716280"/>
                <a:ext cx="2735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611280" y="4653000"/>
                <a:ext cx="4925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5796000" y="2349360"/>
                <a:ext cx="1508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ovéPole 6"/>
          <p:cNvSpPr/>
          <p:nvPr/>
        </p:nvSpPr>
        <p:spPr>
          <a:xfrm>
            <a:off x="539640" y="26384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dvojnásobných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3562200" y="5589720"/>
                <a:ext cx="9781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TextovéPole 9"/>
          <p:cNvSpPr/>
          <p:nvPr/>
        </p:nvSpPr>
        <p:spPr>
          <a:xfrm>
            <a:off x="538200" y="5589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2" name="Nadpis 1"/>
          <p:cNvSpPr/>
          <p:nvPr/>
        </p:nvSpPr>
        <p:spPr>
          <a:xfrm>
            <a:off x="539640" y="34290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6: 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3166920" y="693720"/>
                <a:ext cx="31546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612720" y="1630440"/>
                <a:ext cx="27720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3708360" y="1341360"/>
                <a:ext cx="38815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rovnici v množině Z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 množině R určete všechna řešení rovnice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jděte kořeny součinu: 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001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řešte v N: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Má rovnice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   řešení?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a9a57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a9a57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sledky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)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 2)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,  3) nemá řešení,  4)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5) n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6516720" y="2097000"/>
                <a:ext cx="733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3492360" y="2997360"/>
                <a:ext cx="16002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0"/>
              <p:cNvSpPr txBox="1"/>
              <p:nvPr/>
            </p:nvSpPr>
            <p:spPr>
              <a:xfrm>
                <a:off x="4545000" y="1628640"/>
                <a:ext cx="10238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1835280" y="5156280"/>
                <a:ext cx="7524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3"/>
              <p:cNvSpPr txBox="1"/>
              <p:nvPr/>
            </p:nvSpPr>
            <p:spPr>
              <a:xfrm>
                <a:off x="4284720" y="2565360"/>
                <a:ext cx="1068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4"/>
              <p:cNvSpPr txBox="1"/>
              <p:nvPr/>
            </p:nvSpPr>
            <p:spPr>
              <a:xfrm>
                <a:off x="5076720" y="5229360"/>
                <a:ext cx="7556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5"/>
              <p:cNvSpPr txBox="1"/>
              <p:nvPr/>
            </p:nvSpPr>
            <p:spPr>
              <a:xfrm>
                <a:off x="2556000" y="3429000"/>
                <a:ext cx="1090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06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f2b2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KVADRATICKÁ ROVNICE I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 hodiny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1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Kvadratická rovnice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468360" y="1413000"/>
            <a:ext cx="7632720" cy="194472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Kvadratickou rovnicí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s neznámo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nazýváme každou rovnici, kterou lze převést ekvivalentními úpravami do tvaru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x</a:t>
            </a:r>
            <a:r>
              <a:rPr b="0" i="1" lang="cs-CZ" sz="2800" spc="-1" strike="noStrike" baseline="30000">
                <a:solidFill>
                  <a:srgbClr val="2f2b20"/>
                </a:solidFill>
                <a:latin typeface="Cambria"/>
              </a:rPr>
              <a:t>2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 + xb +c 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= 0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, 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, b, c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, a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0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Zástupný symbol pro obsah 6"/>
              <p:cNvSpPr txBox="1"/>
              <p:nvPr/>
            </p:nvSpPr>
            <p:spPr>
              <a:xfrm>
                <a:off x="2449440" y="3645000"/>
                <a:ext cx="40258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Pravá složená závorka 7"/>
          <p:cNvSpPr/>
          <p:nvPr/>
        </p:nvSpPr>
        <p:spPr>
          <a:xfrm rot="5400000">
            <a:off x="3284280" y="4284360"/>
            <a:ext cx="474840" cy="2795760"/>
          </a:xfrm>
          <a:custGeom>
            <a:avLst/>
            <a:gdLst>
              <a:gd name="textAreaLeft" fmla="*/ 0 w 474840"/>
              <a:gd name="textAreaRight" fmla="*/ 171360 w 474840"/>
              <a:gd name="textAreaTop" fmla="*/ 12240 h 2795760"/>
              <a:gd name="textAreaBottom" fmla="*/ 2783520 h 279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8" name="TextovéPole 8"/>
          <p:cNvSpPr/>
          <p:nvPr/>
        </p:nvSpPr>
        <p:spPr>
          <a:xfrm>
            <a:off x="2268360" y="609300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vadratický trojčlen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99" name="Přímá spojovací šipka 11"/>
          <p:cNvCxnSpPr/>
          <p:nvPr/>
        </p:nvCxnSpPr>
        <p:spPr>
          <a:xfrm flipH="1">
            <a:off x="2123280" y="4437000"/>
            <a:ext cx="648360" cy="43272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100" name="Přímá spojovací šipka 12"/>
          <p:cNvCxnSpPr/>
          <p:nvPr/>
        </p:nvCxnSpPr>
        <p:spPr>
          <a:xfrm flipH="1">
            <a:off x="3492360" y="4437000"/>
            <a:ext cx="648360" cy="43272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101" name="Přímá spojovací šipka 13"/>
          <p:cNvCxnSpPr/>
          <p:nvPr/>
        </p:nvCxnSpPr>
        <p:spPr>
          <a:xfrm>
            <a:off x="5292720" y="4437000"/>
            <a:ext cx="575280" cy="43272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sp>
        <p:nvSpPr>
          <p:cNvPr id="102" name="TextovéPole 14"/>
          <p:cNvSpPr/>
          <p:nvPr/>
        </p:nvSpPr>
        <p:spPr>
          <a:xfrm>
            <a:off x="468360" y="49672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kvadratický člen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3" name="TextovéPole 17"/>
          <p:cNvSpPr/>
          <p:nvPr/>
        </p:nvSpPr>
        <p:spPr>
          <a:xfrm>
            <a:off x="2700360" y="49672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lineární člen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4" name="TextovéPole 18"/>
          <p:cNvSpPr/>
          <p:nvPr/>
        </p:nvSpPr>
        <p:spPr>
          <a:xfrm>
            <a:off x="4788000" y="4967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absolutní člen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Neúplné kvadratické rovni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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den z koeficientů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c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je nulový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vadratická rovnice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bez absolutního členu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řešíme převedením na součinový tvaru 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VYTÝKÁNÍM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mbr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ryze kvadratická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rovnic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mbr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i rozložíme na součin pomocí 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VZORCE .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2843280" y="2421000"/>
                <a:ext cx="1673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2843280" y="4076640"/>
                <a:ext cx="1533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2843280" y="4976640"/>
                <a:ext cx="3186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Zástupný symbol pro obsah 3"/>
              <p:cNvSpPr txBox="1"/>
              <p:nvPr/>
            </p:nvSpPr>
            <p:spPr>
              <a:xfrm>
                <a:off x="3203640" y="549360"/>
                <a:ext cx="170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971640" y="1628640"/>
                <a:ext cx="170172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Zaoblený obdélníkový popisek 5"/>
          <p:cNvSpPr/>
          <p:nvPr/>
        </p:nvSpPr>
        <p:spPr>
          <a:xfrm>
            <a:off x="5292720" y="1557360"/>
            <a:ext cx="2879640" cy="647640"/>
          </a:xfrm>
          <a:prstGeom prst="wedgeRoundRectCallout">
            <a:avLst>
              <a:gd name="adj1" fmla="val -92518"/>
              <a:gd name="adj2" fmla="val 10157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Členy rovnice převedeme na jednu stran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971640" y="2133720"/>
                <a:ext cx="19288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5" name="Přímá spojovací šipka 8"/>
          <p:cNvCxnSpPr/>
          <p:nvPr/>
        </p:nvCxnSpPr>
        <p:spPr>
          <a:xfrm>
            <a:off x="1115640" y="2708280"/>
            <a:ext cx="1080" cy="50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6" name="Přímá spojovací šipka 9"/>
          <p:cNvCxnSpPr/>
          <p:nvPr/>
        </p:nvCxnSpPr>
        <p:spPr>
          <a:xfrm>
            <a:off x="2050560" y="2637000"/>
            <a:ext cx="108180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971640" y="3141720"/>
                <a:ext cx="866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2843280" y="3213000"/>
                <a:ext cx="14000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3419640" y="3573360"/>
                <a:ext cx="979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Zaoblený obdélníkový popisek 15"/>
          <p:cNvSpPr/>
          <p:nvPr/>
        </p:nvSpPr>
        <p:spPr>
          <a:xfrm>
            <a:off x="5292720" y="2565360"/>
            <a:ext cx="2879640" cy="792360"/>
          </a:xfrm>
          <a:prstGeom prst="wedgeRoundRectCallout">
            <a:avLst>
              <a:gd name="adj1" fmla="val -113513"/>
              <a:gd name="adj2" fmla="val -74046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Součin je roven nule, je-li alespoň jeden z činitelů roven nul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1" name="TextovéPole 17"/>
          <p:cNvSpPr/>
          <p:nvPr/>
        </p:nvSpPr>
        <p:spPr>
          <a:xfrm>
            <a:off x="971640" y="4941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4716360" y="4653000"/>
                <a:ext cx="1565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3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6227640" y="4724280"/>
            <a:ext cx="8654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3132000" y="549360"/>
                <a:ext cx="1673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3"/>
              <p:cNvSpPr txBox="1"/>
              <p:nvPr/>
            </p:nvSpPr>
            <p:spPr>
              <a:xfrm>
                <a:off x="971640" y="1484280"/>
                <a:ext cx="1226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3132000" y="1557360"/>
                <a:ext cx="590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971640" y="1989000"/>
                <a:ext cx="136692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900000" y="2565360"/>
                <a:ext cx="2374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0" name="Přímá spojovací šipka 7"/>
          <p:cNvCxnSpPr/>
          <p:nvPr/>
        </p:nvCxnSpPr>
        <p:spPr>
          <a:xfrm>
            <a:off x="1331640" y="3068640"/>
            <a:ext cx="108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Přímá spojovací šipka 8"/>
          <p:cNvCxnSpPr/>
          <p:nvPr/>
        </p:nvCxnSpPr>
        <p:spPr>
          <a:xfrm>
            <a:off x="2195640" y="3068280"/>
            <a:ext cx="1224720" cy="43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1415880" y="4148280"/>
                <a:ext cx="839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3238560" y="3716280"/>
                <a:ext cx="1231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3564000" y="4148280"/>
                <a:ext cx="1090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1079640" y="3716280"/>
                <a:ext cx="1204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Zaoblený obdélníkový popisek 13"/>
          <p:cNvSpPr/>
          <p:nvPr/>
        </p:nvSpPr>
        <p:spPr>
          <a:xfrm>
            <a:off x="5292720" y="2205000"/>
            <a:ext cx="2879640" cy="647640"/>
          </a:xfrm>
          <a:prstGeom prst="wedgeRoundRectCallout">
            <a:avLst>
              <a:gd name="adj1" fmla="val -125291"/>
              <a:gd name="adj2" fmla="val -44458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Členy rovnice převedeme na jednu stran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7" name="Zaoblený obdélníkový popisek 14"/>
          <p:cNvSpPr/>
          <p:nvPr/>
        </p:nvSpPr>
        <p:spPr>
          <a:xfrm>
            <a:off x="5292720" y="3068640"/>
            <a:ext cx="2879640" cy="792000"/>
          </a:xfrm>
          <a:prstGeom prst="wedgeRoundRectCallout">
            <a:avLst>
              <a:gd name="adj1" fmla="val -118120"/>
              <a:gd name="adj2" fmla="val -74046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Součin je roven nule, je-li alespoň jeden z činitelů roven nul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8" name="TextovéPole 15"/>
          <p:cNvSpPr/>
          <p:nvPr/>
        </p:nvSpPr>
        <p:spPr>
          <a:xfrm>
            <a:off x="611280" y="4941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4284720" y="4869000"/>
                <a:ext cx="131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40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5580000" y="4797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1" name="Zaoblený obdélníkový popisek 18"/>
          <p:cNvSpPr/>
          <p:nvPr/>
        </p:nvSpPr>
        <p:spPr>
          <a:xfrm>
            <a:off x="5651640" y="1557360"/>
            <a:ext cx="2520720" cy="431640"/>
          </a:xfrm>
          <a:prstGeom prst="wedgeRoundRectCallout">
            <a:avLst>
              <a:gd name="adj1" fmla="val -119537"/>
              <a:gd name="adj2" fmla="val 12435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Rovnici zjednoduším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Úplné kvadratické rovni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vadratická rovnice v </a:t>
            </a: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normovaném tvaru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(= koeficient kvadratického členu je roven jedné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(rovnici do tohoto tvaru převedeme vydělením koeficientem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ak rovnici rozložíme na součin pomocí 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VIÈTOVÝCH VZORCŮ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zn.: součin kořenů rovnice se rovná absolutnímu členu a jejich součet opačnému číslu ke koeficientu lineárního členu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tom platí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843280" y="2349360"/>
                <a:ext cx="20732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908000" y="3789360"/>
                <a:ext cx="134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4284720" y="3789360"/>
                <a:ext cx="17301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7"/>
              <p:cNvSpPr txBox="1"/>
              <p:nvPr/>
            </p:nvSpPr>
            <p:spPr>
              <a:xfrm>
                <a:off x="2411280" y="5300640"/>
                <a:ext cx="3973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Zástupný symbol pro obsah 3"/>
              <p:cNvSpPr txBox="1"/>
              <p:nvPr/>
            </p:nvSpPr>
            <p:spPr>
              <a:xfrm>
                <a:off x="3132000" y="549360"/>
                <a:ext cx="29260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2411280" y="2349360"/>
                <a:ext cx="2403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TextovéPole 6"/>
          <p:cNvSpPr/>
          <p:nvPr/>
        </p:nvSpPr>
        <p:spPr>
          <a:xfrm>
            <a:off x="900000" y="155736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Nejprve hledáme taková čísla, jejichž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součin je roven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12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a součet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7.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Jsou to čísla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a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2" name="TextovéPole 7"/>
          <p:cNvSpPr/>
          <p:nvPr/>
        </p:nvSpPr>
        <p:spPr>
          <a:xfrm>
            <a:off x="971640" y="4941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m rovnice je množina kořenů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53" name="Přímá spojovací šipka 8"/>
          <p:cNvCxnSpPr/>
          <p:nvPr/>
        </p:nvCxnSpPr>
        <p:spPr>
          <a:xfrm>
            <a:off x="2881080" y="2854440"/>
            <a:ext cx="1080" cy="50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4" name="Přímá spojovací šipka 9"/>
          <p:cNvCxnSpPr/>
          <p:nvPr/>
        </p:nvCxnSpPr>
        <p:spPr>
          <a:xfrm>
            <a:off x="3744720" y="2854080"/>
            <a:ext cx="1224360" cy="43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2965320" y="3932280"/>
                <a:ext cx="839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4788000" y="3500280"/>
                <a:ext cx="12319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195880" y="3932280"/>
                <a:ext cx="923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2629080" y="3500280"/>
                <a:ext cx="12045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4716360" y="4869000"/>
                <a:ext cx="131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0" name="Obrázek 40" descr="zatržítko.JPG"/>
          <p:cNvPicPr/>
          <p:nvPr/>
        </p:nvPicPr>
        <p:blipFill>
          <a:blip r:embed="rId1"/>
          <a:srcRect l="6951" t="6628" r="9451" b="13547"/>
          <a:stretch/>
        </p:blipFill>
        <p:spPr>
          <a:xfrm>
            <a:off x="6012000" y="4724280"/>
            <a:ext cx="8636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404640"/>
            <a:ext cx="762012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300"/>
              </a:spcBef>
              <a:buClr>
                <a:srgbClr val="a9a57c"/>
              </a:buClr>
              <a:buFont typeface="Cambr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2f2b20"/>
                </a:solidFill>
                <a:latin typeface="Cambria"/>
              </a:rPr>
              <a:t>úplná kvadratická rovnic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ve tvaru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ořeny rovnice hledáme pomocí 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DISKRIMINANTU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-li D &gt; 0, kvadratická rovnice má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dva různé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eálné kořeny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-li D = 0, kvadratická rovnice má jeden tzv.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dvojnásobný kořen: 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e-li D &lt; 0, kvadratická rovnice v oboru R </a:t>
            </a:r>
            <a:r>
              <a:rPr b="0" i="1" lang="cs-CZ" sz="2200" spc="-1" strike="noStrike">
                <a:solidFill>
                  <a:srgbClr val="2f2b20"/>
                </a:solidFill>
                <a:latin typeface="Cambria"/>
              </a:rPr>
              <a:t>nemá řešení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2700360" y="907920"/>
                <a:ext cx="2147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2771640" y="2060640"/>
                <a:ext cx="2119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2268360" y="2997360"/>
                <a:ext cx="21528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"/>
              <p:cNvSpPr txBox="1"/>
              <p:nvPr/>
            </p:nvSpPr>
            <p:spPr>
              <a:xfrm>
                <a:off x="2268360" y="4508640"/>
                <a:ext cx="1511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02:58Z</dcterms:modified>
  <cp:revision>175</cp:revision>
  <dc:subject/>
  <dc:title>Název</dc:title>
</cp:coreProperties>
</file>