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3452-FF16-4080-8159-5B6718CE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8E57-15C0-4222-BC6A-E06F259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6EB7-5D29-4445-8D98-DAFCE24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285D-E1C5-475F-88E8-9D166CDB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A8CC-0397-4931-9D92-92A75D89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949D-843A-4E78-8163-B7839E4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E29-3A2B-4F2F-ADD2-AC21F1B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8AB-5F64-401D-946B-BACFF2F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D700-0148-4659-BF4D-DD0423E5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3D7-114C-4BEA-9F7F-1DBD5E4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14FB-DE55-4066-B337-2C55BFF6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09F2-0C06-47AB-8408-C459110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F44A-B2FD-4E1B-BBB0-C7782108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0099-E82F-4E26-94F5-65990DA4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4F38-6BB1-4213-9943-B1C6C109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92B-7677-41F9-AE04-577F2BA8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02FB-C6BD-49E8-8AB0-A9527E52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A31B-AE3B-448C-BEAB-834B3F93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F97C-99D7-45D3-A7C4-9A59EC7D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C9EA-3B65-46DD-AFC6-DA565B2B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EA9E-555D-43CB-9DBF-0E6203F6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9E56-7E5D-4AA8-9CF3-3D042E7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F7D8-D55C-4AD7-B335-6600808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2F31-5C15-456E-BAF0-66BC02E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24D9-A045-4487-8A19-C41F79DDD02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EFC-75C2-46CB-85ED-B0A378F80E7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7773-4E73-458B-A295-BBC482EBAB25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E7D-5B6F-4A40-9428-39134EC54D8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Logaritmická rovnice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916360" y="476280"/>
                <a:ext cx="5056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289160" y="2428920"/>
                <a:ext cx="2176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1116000" y="2997360"/>
                <a:ext cx="2459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1" name="Přímá spojovací šipka 9"/>
          <p:cNvCxnSpPr/>
          <p:nvPr/>
        </p:nvCxnSpPr>
        <p:spPr>
          <a:xfrm flipH="1">
            <a:off x="1331280" y="3428640"/>
            <a:ext cx="37044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Přímá spojovací šipka 10"/>
          <p:cNvCxnSpPr/>
          <p:nvPr/>
        </p:nvCxnSpPr>
        <p:spPr>
          <a:xfrm>
            <a:off x="2638080" y="342864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3" name="Object 20"/>
              <p:cNvSpPr txBox="1"/>
              <p:nvPr/>
            </p:nvSpPr>
            <p:spPr>
              <a:xfrm>
                <a:off x="755640" y="3860640"/>
                <a:ext cx="1084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0"/>
              <p:cNvSpPr txBox="1"/>
              <p:nvPr/>
            </p:nvSpPr>
            <p:spPr>
              <a:xfrm>
                <a:off x="2771640" y="3860640"/>
                <a:ext cx="925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5940360" y="1557360"/>
                <a:ext cx="731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4"/>
              <p:cNvSpPr txBox="1"/>
              <p:nvPr/>
            </p:nvSpPr>
            <p:spPr>
              <a:xfrm>
                <a:off x="6732720" y="1557360"/>
                <a:ext cx="1357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TextovéPole 25"/>
          <p:cNvSpPr/>
          <p:nvPr/>
        </p:nvSpPr>
        <p:spPr>
          <a:xfrm>
            <a:off x="826920" y="1773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SUBSTITUC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2556000" y="1700280"/>
                <a:ext cx="1419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559560" y="3705120"/>
                <a:ext cx="1558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6680160" y="4925880"/>
                <a:ext cx="1368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6804000" y="4149720"/>
                <a:ext cx="1058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6875640" y="5373720"/>
                <a:ext cx="100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TextovéPole 37"/>
          <p:cNvSpPr/>
          <p:nvPr/>
        </p:nvSpPr>
        <p:spPr>
          <a:xfrm>
            <a:off x="611280" y="587700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Obě řešení splňují podmínku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94" name="Přímá spojovací šipka 38"/>
          <p:cNvCxnSpPr/>
          <p:nvPr/>
        </p:nvCxnSpPr>
        <p:spPr>
          <a:xfrm>
            <a:off x="5435640" y="4941720"/>
            <a:ext cx="792720" cy="50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Přímá spojovací šipka 41"/>
          <p:cNvCxnSpPr/>
          <p:nvPr/>
        </p:nvCxnSpPr>
        <p:spPr>
          <a:xfrm flipV="1">
            <a:off x="5435280" y="4149360"/>
            <a:ext cx="649800" cy="50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3851280" y="4581360"/>
                <a:ext cx="14191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Zaoblený obdélníkový popisek 55"/>
          <p:cNvSpPr/>
          <p:nvPr/>
        </p:nvSpPr>
        <p:spPr>
          <a:xfrm>
            <a:off x="4356000" y="2205000"/>
            <a:ext cx="3384720" cy="1152720"/>
          </a:xfrm>
          <a:prstGeom prst="wedgeRoundRectCallout">
            <a:avLst>
              <a:gd name="adj1" fmla="val -67055"/>
              <a:gd name="adj2" fmla="val -4970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avedeme substituci za logaritmus a nejdříve vyřešíme kvadratickou rovnic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8" name="Zaoblený obdélníkový popisek 58"/>
          <p:cNvSpPr/>
          <p:nvPr/>
        </p:nvSpPr>
        <p:spPr>
          <a:xfrm>
            <a:off x="826920" y="4581360"/>
            <a:ext cx="2376720" cy="1151280"/>
          </a:xfrm>
          <a:prstGeom prst="wedgeRoundRectCallout">
            <a:avLst>
              <a:gd name="adj1" fmla="val 71652"/>
              <a:gd name="adj2" fmla="val -1686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Kořeny kvadratické rovnice dosadíme zpátky do substitu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611280" y="1125360"/>
                <a:ext cx="50623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611280" y="3645000"/>
                <a:ext cx="839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TextovéPole 11"/>
          <p:cNvSpPr/>
          <p:nvPr/>
        </p:nvSpPr>
        <p:spPr>
          <a:xfrm>
            <a:off x="539640" y="47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3"/>
              <p:cNvSpPr txBox="1"/>
              <p:nvPr/>
            </p:nvSpPr>
            <p:spPr>
              <a:xfrm>
                <a:off x="611280" y="4149720"/>
                <a:ext cx="86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5724360" y="494172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15"/>
              <p:cNvSpPr txBox="1"/>
              <p:nvPr/>
            </p:nvSpPr>
            <p:spPr>
              <a:xfrm>
                <a:off x="4356000" y="4797360"/>
                <a:ext cx="1644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TextovéPole 7"/>
          <p:cNvSpPr/>
          <p:nvPr/>
        </p:nvSpPr>
        <p:spPr>
          <a:xfrm>
            <a:off x="684360" y="486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611280" y="2349360"/>
                <a:ext cx="46702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5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3132000" y="549360"/>
                <a:ext cx="2281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5940360" y="1557360"/>
                <a:ext cx="731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6732720" y="1557360"/>
                <a:ext cx="1357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790560" y="1844640"/>
                <a:ext cx="2911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539640" y="2492280"/>
                <a:ext cx="376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966960" y="2925720"/>
                <a:ext cx="25365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1295280" y="4581360"/>
                <a:ext cx="2016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900000" y="5084640"/>
                <a:ext cx="24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ovéPole 10"/>
          <p:cNvSpPr/>
          <p:nvPr/>
        </p:nvSpPr>
        <p:spPr>
          <a:xfrm>
            <a:off x="789120" y="3935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SUBSTITUC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2627280" y="3933720"/>
                <a:ext cx="14191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5511960" y="3529080"/>
                <a:ext cx="1252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1"/>
              <p:cNvSpPr txBox="1"/>
              <p:nvPr/>
            </p:nvSpPr>
            <p:spPr>
              <a:xfrm>
                <a:off x="5867280" y="3860640"/>
                <a:ext cx="1114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20" name="Přímá spojovací šipka 14"/>
          <p:cNvCxnSpPr/>
          <p:nvPr/>
        </p:nvCxnSpPr>
        <p:spPr>
          <a:xfrm flipH="1">
            <a:off x="1104480" y="5589360"/>
            <a:ext cx="37080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Přímá spojovací šipka 15"/>
          <p:cNvCxnSpPr/>
          <p:nvPr/>
        </p:nvCxnSpPr>
        <p:spPr>
          <a:xfrm>
            <a:off x="2411280" y="5589360"/>
            <a:ext cx="43272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625320" y="6021360"/>
                <a:ext cx="890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0"/>
              <p:cNvSpPr txBox="1"/>
              <p:nvPr/>
            </p:nvSpPr>
            <p:spPr>
              <a:xfrm>
                <a:off x="2460600" y="6021360"/>
                <a:ext cx="1093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4" name="Přímá spojovací šipka 18"/>
          <p:cNvCxnSpPr/>
          <p:nvPr/>
        </p:nvCxnSpPr>
        <p:spPr>
          <a:xfrm>
            <a:off x="4284360" y="4365360"/>
            <a:ext cx="71964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5" name="Přímá spojovací šipka 19"/>
          <p:cNvCxnSpPr/>
          <p:nvPr/>
        </p:nvCxnSpPr>
        <p:spPr>
          <a:xfrm flipV="1">
            <a:off x="4284360" y="3644640"/>
            <a:ext cx="64836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5505480" y="4535640"/>
                <a:ext cx="1390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5840280" y="4869000"/>
                <a:ext cx="1252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Zaoblený obdélníkový popisek 28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-94583"/>
              <a:gd name="adj2" fmla="val -4405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ici zlogaritmujeme dekadickým logaritmem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ovéPole 2"/>
          <p:cNvSpPr/>
          <p:nvPr/>
        </p:nvSpPr>
        <p:spPr>
          <a:xfrm>
            <a:off x="755640" y="54936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Obě řešení splňují podmínku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755640" y="1700280"/>
                <a:ext cx="4081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TextovéPole 11"/>
          <p:cNvSpPr/>
          <p:nvPr/>
        </p:nvSpPr>
        <p:spPr>
          <a:xfrm>
            <a:off x="684360" y="105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2"/>
              <p:cNvSpPr txBox="1"/>
              <p:nvPr/>
            </p:nvSpPr>
            <p:spPr>
              <a:xfrm>
                <a:off x="755640" y="2276640"/>
                <a:ext cx="3191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2"/>
              <p:cNvSpPr txBox="1"/>
              <p:nvPr/>
            </p:nvSpPr>
            <p:spPr>
              <a:xfrm>
                <a:off x="790560" y="3645000"/>
                <a:ext cx="3998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0,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2"/>
              <p:cNvSpPr txBox="1"/>
              <p:nvPr/>
            </p:nvSpPr>
            <p:spPr>
              <a:xfrm>
                <a:off x="790560" y="4365720"/>
                <a:ext cx="2827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755640" y="2852640"/>
                <a:ext cx="866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790560" y="4869000"/>
                <a:ext cx="8668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6227640" y="5300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4427640" y="5516640"/>
                <a:ext cx="1811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;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TextovéPole 15"/>
          <p:cNvSpPr/>
          <p:nvPr/>
        </p:nvSpPr>
        <p:spPr>
          <a:xfrm>
            <a:off x="755640" y="5516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28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Z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N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Z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lik řešení má rovnice v množině R?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6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nemá řešení,  3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3</a:t>
            </a:r>
            <a:r>
              <a:rPr b="0" lang="cs-CZ" sz="2200" spc="-1" strike="noStrike" baseline="30000">
                <a:solidFill>
                  <a:srgbClr val="2f2b20"/>
                </a:solidFill>
                <a:latin typeface="Cambria"/>
              </a:rPr>
              <a:t>5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4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;4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630680" y="1722600"/>
                <a:ext cx="26877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4667400" y="2284560"/>
                <a:ext cx="3008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012000" y="3357720"/>
                <a:ext cx="17841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4641840" y="2781360"/>
                <a:ext cx="3706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7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	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1997, 1. vydání: ISBN 80-7196-050-0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LOGARITMICKÁ 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6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ogaritmická 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3499920"/>
            <a:ext cx="76201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lnSpc>
                <a:spcPts val="33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řešení logaritmických rovnic převedeme levou a pravou stranu rovnice pomocí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vět o počítání s logaritm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 logaritmy výrazů,  rovnici tzv.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odlogaritmujeme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výrazy porovnáme. Protože jsme použili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neekvivalentní úpravu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, je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oučástí řešení rovnice  zkouška nebo stanovení podmínek, za kterých má rovnice smysl. Tím vyloučíme nevyhovující řešení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12120" indent="-20772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194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Logaritmická rovnice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je každá rovnice, která má neznámou </a:t>
            </a:r>
            <a:r>
              <a:rPr b="0" i="1" lang="cs-CZ" sz="2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ve výrazu s logaritmem a lze ji převést na tva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  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, 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&gt; 0,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1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&gt;0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2916360" y="2421000"/>
                <a:ext cx="1400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ěty o počítání s logaritm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Zástupný symbol pro obsah 3"/>
              <p:cNvSpPr txBox="1"/>
              <p:nvPr/>
            </p:nvSpPr>
            <p:spPr>
              <a:xfrm>
                <a:off x="971640" y="3473280"/>
                <a:ext cx="21780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971640" y="3932280"/>
                <a:ext cx="17319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1"/>
              <p:cNvSpPr txBox="1"/>
              <p:nvPr/>
            </p:nvSpPr>
            <p:spPr>
              <a:xfrm>
                <a:off x="971640" y="2637000"/>
                <a:ext cx="37972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  <m:e/>
                    </m:d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3851280" y="3500280"/>
                <a:ext cx="3182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851280" y="3932280"/>
                <a:ext cx="3129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3851280" y="4724280"/>
                <a:ext cx="2486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2556000" y="1628640"/>
                <a:ext cx="276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3132000" y="549360"/>
                <a:ext cx="4757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724360" y="1557360"/>
                <a:ext cx="2463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376720" cy="226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6084720" y="1916280"/>
                <a:ext cx="1644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762200" y="1628640"/>
                <a:ext cx="19796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258920" y="2060640"/>
                <a:ext cx="2008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847800" y="2624040"/>
                <a:ext cx="23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4" name="Přímá spojovací šipka 10"/>
          <p:cNvCxnSpPr/>
          <p:nvPr/>
        </p:nvCxnSpPr>
        <p:spPr>
          <a:xfrm flipH="1">
            <a:off x="966240" y="309996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Přímá spojovací šipka 11"/>
          <p:cNvCxnSpPr/>
          <p:nvPr/>
        </p:nvCxnSpPr>
        <p:spPr>
          <a:xfrm>
            <a:off x="2339640" y="306828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6" name="Object 20"/>
              <p:cNvSpPr txBox="1"/>
              <p:nvPr/>
            </p:nvSpPr>
            <p:spPr>
              <a:xfrm>
                <a:off x="582480" y="3460680"/>
                <a:ext cx="1059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2494080" y="3460680"/>
                <a:ext cx="89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7451640" y="5229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647640" y="5661000"/>
                <a:ext cx="3502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657360" y="6110280"/>
                <a:ext cx="15652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6372360" y="5229360"/>
                <a:ext cx="106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ovéPole 19"/>
          <p:cNvSpPr/>
          <p:nvPr/>
        </p:nvSpPr>
        <p:spPr>
          <a:xfrm>
            <a:off x="5219640" y="4869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3" name="TextovéPole 11"/>
          <p:cNvSpPr/>
          <p:nvPr/>
        </p:nvSpPr>
        <p:spPr>
          <a:xfrm>
            <a:off x="539640" y="4149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4"/>
              <p:cNvSpPr txBox="1"/>
              <p:nvPr/>
            </p:nvSpPr>
            <p:spPr>
              <a:xfrm>
                <a:off x="642960" y="4726080"/>
                <a:ext cx="35146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4"/>
              <p:cNvSpPr txBox="1"/>
              <p:nvPr/>
            </p:nvSpPr>
            <p:spPr>
              <a:xfrm>
                <a:off x="647640" y="5157720"/>
                <a:ext cx="3794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Zaoblený obdélníkový popisek 23"/>
          <p:cNvSpPr/>
          <p:nvPr/>
        </p:nvSpPr>
        <p:spPr>
          <a:xfrm>
            <a:off x="4067280" y="2060640"/>
            <a:ext cx="1512720" cy="792000"/>
          </a:xfrm>
          <a:prstGeom prst="wedgeRoundRectCallout">
            <a:avLst>
              <a:gd name="adj1" fmla="val -85472"/>
              <a:gd name="adj2" fmla="val -4697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rovnáme výraz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3203640" y="582480"/>
                <a:ext cx="2814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aoblený obdélníkový popisek 21"/>
          <p:cNvSpPr/>
          <p:nvPr/>
        </p:nvSpPr>
        <p:spPr>
          <a:xfrm>
            <a:off x="5148360" y="3068640"/>
            <a:ext cx="3240000" cy="1008000"/>
          </a:xfrm>
          <a:prstGeom prst="wedgeRoundRectCallout">
            <a:avLst>
              <a:gd name="adj1" fmla="val -62615"/>
              <a:gd name="adj2" fmla="val -4864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áklad logaritmu umocníme na       a to se musí rovnat výrazu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           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Nadpis 1"/>
          <p:cNvSpPr/>
          <p:nvPr/>
        </p:nvSpPr>
        <p:spPr>
          <a:xfrm>
            <a:off x="4508640" y="425520"/>
            <a:ext cx="230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541440" y="274788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1. způsob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79640" y="2708280"/>
                <a:ext cx="2765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5"/>
              <p:cNvSpPr txBox="1"/>
              <p:nvPr/>
            </p:nvSpPr>
            <p:spPr>
              <a:xfrm>
                <a:off x="3098880" y="3213000"/>
                <a:ext cx="1450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6"/>
              <p:cNvSpPr txBox="1"/>
              <p:nvPr/>
            </p:nvSpPr>
            <p:spPr>
              <a:xfrm>
                <a:off x="3203640" y="3716280"/>
                <a:ext cx="954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2"/>
              <p:cNvSpPr txBox="1"/>
              <p:nvPr/>
            </p:nvSpPr>
            <p:spPr>
              <a:xfrm>
                <a:off x="5580000" y="3357720"/>
                <a:ext cx="579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3"/>
              <p:cNvSpPr txBox="1"/>
              <p:nvPr/>
            </p:nvSpPr>
            <p:spPr>
              <a:xfrm>
                <a:off x="6013440" y="3679920"/>
                <a:ext cx="673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076720" y="1628640"/>
                <a:ext cx="1354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6581880" y="2060640"/>
                <a:ext cx="16891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TextovéPole 38"/>
          <p:cNvSpPr/>
          <p:nvPr/>
        </p:nvSpPr>
        <p:spPr>
          <a:xfrm>
            <a:off x="539640" y="4508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2. způsob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Zaoblený obdélníkový popisek 39"/>
          <p:cNvSpPr/>
          <p:nvPr/>
        </p:nvSpPr>
        <p:spPr>
          <a:xfrm>
            <a:off x="5364000" y="4508640"/>
            <a:ext cx="3024360" cy="1224000"/>
          </a:xfrm>
          <a:prstGeom prst="wedgeRoundRectCallout">
            <a:avLst>
              <a:gd name="adj1" fmla="val -63458"/>
              <a:gd name="adj2" fmla="val -2968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avou stranu rovnice nahradíme logaritmem o stejném základu, tj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2050920" y="4508640"/>
                <a:ext cx="27180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7"/>
              <p:cNvSpPr txBox="1"/>
              <p:nvPr/>
            </p:nvSpPr>
            <p:spPr>
              <a:xfrm>
                <a:off x="2843280" y="4941720"/>
                <a:ext cx="1346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8"/>
              <p:cNvSpPr txBox="1"/>
              <p:nvPr/>
            </p:nvSpPr>
            <p:spPr>
              <a:xfrm>
                <a:off x="3132000" y="5373720"/>
                <a:ext cx="954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9"/>
              <p:cNvSpPr txBox="1"/>
              <p:nvPr/>
            </p:nvSpPr>
            <p:spPr>
              <a:xfrm>
                <a:off x="7380360" y="5229360"/>
                <a:ext cx="1022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500720" y="3860640"/>
            <a:ext cx="86328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11280" y="2708280"/>
                <a:ext cx="784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611280" y="3068640"/>
                <a:ext cx="866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3419640" y="3716280"/>
                <a:ext cx="1255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TextovéPole 5"/>
          <p:cNvSpPr/>
          <p:nvPr/>
        </p:nvSpPr>
        <p:spPr>
          <a:xfrm>
            <a:off x="539640" y="378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TextovéPole 11"/>
          <p:cNvSpPr/>
          <p:nvPr/>
        </p:nvSpPr>
        <p:spPr>
          <a:xfrm>
            <a:off x="539640" y="162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4"/>
              <p:cNvSpPr txBox="1"/>
              <p:nvPr/>
            </p:nvSpPr>
            <p:spPr>
              <a:xfrm>
                <a:off x="611280" y="2205000"/>
                <a:ext cx="41576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ovéPole 14"/>
          <p:cNvSpPr/>
          <p:nvPr/>
        </p:nvSpPr>
        <p:spPr>
          <a:xfrm>
            <a:off x="539640" y="404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V obou postupech se řešení shodují a podle podmínek by (-1) mohla být hledaným kořenem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987640" y="549360"/>
                <a:ext cx="525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719280" y="1773360"/>
                <a:ext cx="3941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5651640" y="1773360"/>
                <a:ext cx="2530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∧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6588000" y="2708280"/>
                <a:ext cx="1555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1332000" y="2386080"/>
                <a:ext cx="27399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24000" y="2889360"/>
                <a:ext cx="3606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1619280" y="3392640"/>
                <a:ext cx="2320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3"/>
              <p:cNvSpPr txBox="1"/>
              <p:nvPr/>
            </p:nvSpPr>
            <p:spPr>
              <a:xfrm>
                <a:off x="1403280" y="3932280"/>
                <a:ext cx="2544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2" name="Přímá spojovací šipka 23"/>
          <p:cNvCxnSpPr/>
          <p:nvPr/>
        </p:nvCxnSpPr>
        <p:spPr>
          <a:xfrm flipH="1">
            <a:off x="1613880" y="446364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3" name="Přímá spojovací šipka 24"/>
          <p:cNvCxnSpPr/>
          <p:nvPr/>
        </p:nvCxnSpPr>
        <p:spPr>
          <a:xfrm>
            <a:off x="2987640" y="4427280"/>
            <a:ext cx="43272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4" name="Object 20"/>
              <p:cNvSpPr txBox="1"/>
              <p:nvPr/>
            </p:nvSpPr>
            <p:spPr>
              <a:xfrm>
                <a:off x="1255680" y="4829040"/>
                <a:ext cx="86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2959200" y="4829040"/>
                <a:ext cx="1260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aoblený obdélníkový popisek 31"/>
          <p:cNvSpPr/>
          <p:nvPr/>
        </p:nvSpPr>
        <p:spPr>
          <a:xfrm>
            <a:off x="4932360" y="3645000"/>
            <a:ext cx="3456000" cy="1800000"/>
          </a:xfrm>
          <a:prstGeom prst="wedgeRoundRectCallout">
            <a:avLst>
              <a:gd name="adj1" fmla="val -74370"/>
              <a:gd name="adj2" fmla="val -11642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avou stranu rovnice nahradíme logaritmem o stejném základu, tj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a  levou stranu zapíšeme jako logaritmus součinu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6"/>
              <p:cNvSpPr txBox="1"/>
              <p:nvPr/>
            </p:nvSpPr>
            <p:spPr>
              <a:xfrm>
                <a:off x="7093080" y="4508640"/>
                <a:ext cx="12445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611280" y="2997360"/>
                <a:ext cx="76359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684360" y="3573360"/>
                <a:ext cx="839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ovéPole 11"/>
          <p:cNvSpPr/>
          <p:nvPr/>
        </p:nvSpPr>
        <p:spPr>
          <a:xfrm>
            <a:off x="539640" y="134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1" name="TextovéPole 4"/>
          <p:cNvSpPr/>
          <p:nvPr/>
        </p:nvSpPr>
        <p:spPr>
          <a:xfrm>
            <a:off x="684360" y="479736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72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4572000" y="479736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682560" y="4076640"/>
                <a:ext cx="866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3675240" y="4724280"/>
                <a:ext cx="1087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TextovéPole 8"/>
          <p:cNvSpPr/>
          <p:nvPr/>
        </p:nvSpPr>
        <p:spPr>
          <a:xfrm>
            <a:off x="539640" y="620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n.: Už z podmínek je zřejmé, že (-18) nebude vhodným řešením rovnice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611280" y="1916280"/>
                <a:ext cx="56498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4:41Z</dcterms:modified>
  <cp:revision>186</cp:revision>
  <dc:subject/>
  <dc:title>Název</dc:title>
</cp:coreProperties>
</file>