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4B4F-01A7-4C8A-9388-36D56002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95B1-8F29-46BE-A4D6-DEBCC477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C90B-AB4D-403C-BA4E-77980D29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8D1A-6513-4B74-AB7D-B9ABBA66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216E-D735-44DC-8882-C6A2C556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6E5F-EB55-4324-85B3-F8BFF822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7B0C-9304-4FF2-B854-0B20C973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74E4-8CF1-4510-B478-055C0FE4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9E84-FE7C-4D79-B604-34AEC5DC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9882-2C2C-4AB5-BC5C-AB81F287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E0BE-0DBA-4AC7-A1E7-E839500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7D0C-9CCE-4A87-9F72-9DA99139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700C-572B-48E5-8F68-B4E556DC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F0D0-7D17-43CF-A74B-47A8C5DF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9C5-F250-404D-9175-B604F1CB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6FFE-4CAC-40C2-B5E9-B3580E0A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73E8-3E4D-44FA-8866-341F1469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CF30-012A-4336-B88C-06B44A2E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68E4-B3F9-4CC4-907F-005EEADD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E318-DA4C-4013-A52E-314837DF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99EA-2446-4DCA-93F1-513FDD0A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E906-2C78-4582-8AC8-7652205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78A8-38A1-4CAF-B8AD-FA58EAD1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229A-6DB3-4461-8982-51A237B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76A0-B160-4791-984F-FB4C54A1F2F2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29AD-3E37-4092-8257-EA1665FF75C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86A-51C6-4595-9242-620DB7D75475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1E14-9F56-4129-9DA1-9878066DA699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675e47"/>
                </a:solidFill>
                <a:latin typeface="Calibri"/>
              </a:rPr>
              <a:t>Nerovnice v součinovém  tvaru</a:t>
            </a:r>
            <a:endParaRPr b="0" lang="en-US" sz="6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000" y="162828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řaďte správná řešení nerovnicím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 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1187280" y="2205000"/>
                <a:ext cx="20005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1187280" y="2997360"/>
                <a:ext cx="20005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5"/>
              <p:cNvSpPr txBox="1"/>
              <p:nvPr/>
            </p:nvSpPr>
            <p:spPr>
              <a:xfrm>
                <a:off x="1187280" y="3645000"/>
                <a:ext cx="1533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187280" y="4292640"/>
                <a:ext cx="21132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5292720" y="3500280"/>
                <a:ext cx="1982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5292720" y="4797360"/>
                <a:ext cx="9111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9"/>
              <p:cNvSpPr txBox="1"/>
              <p:nvPr/>
            </p:nvSpPr>
            <p:spPr>
              <a:xfrm>
                <a:off x="5292720" y="4292640"/>
                <a:ext cx="601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1"/>
              <p:cNvSpPr txBox="1"/>
              <p:nvPr/>
            </p:nvSpPr>
            <p:spPr>
              <a:xfrm>
                <a:off x="5292720" y="1989000"/>
                <a:ext cx="21985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1187280" y="5013360"/>
                <a:ext cx="2022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3"/>
              <p:cNvSpPr txBox="1"/>
              <p:nvPr/>
            </p:nvSpPr>
            <p:spPr>
              <a:xfrm>
                <a:off x="5292720" y="2781360"/>
                <a:ext cx="9320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5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3]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NEROVNICE V SOUČINOVÉM TVARU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4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ineární nerovnice – </a:t>
            </a:r>
            <a:r>
              <a:rPr b="0" lang="cs-CZ" sz="3600" spc="-1" strike="noStrike">
                <a:solidFill>
                  <a:srgbClr val="675e47"/>
                </a:solidFill>
                <a:latin typeface="Calibri"/>
              </a:rPr>
              <a:t>součinový tvar 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4149720"/>
            <a:ext cx="762012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 hledání řešení nerovnice v tomto tvaru můžeme řešit soustavy lineárních nerovnic nebo použít více přehlednou grafickou metodu –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metody nulových bodů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468360" y="1413000"/>
            <a:ext cx="7632720" cy="2376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Nerovnice v součinovém tvaru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 je nerovnice, která obsahuje na jedné straně součin libovolného počtu lineárních členů nebo dvojčlenů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apř.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ebo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5076720" y="3284640"/>
                <a:ext cx="1954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Zástupný symbol pro obsah 3"/>
              <p:cNvSpPr txBox="1"/>
              <p:nvPr/>
            </p:nvSpPr>
            <p:spPr>
              <a:xfrm>
                <a:off x="1547640" y="3213000"/>
                <a:ext cx="25704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stup řeše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rčíme tzv.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nulové bod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šech výrazů v závorkách (tj. čísla, pro která se výrazy v závorkách rovnají nule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ulovými bod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rozdělím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množinu reálných čísel (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číselnou osu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na intervaly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 jednotlivých intervalů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volím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vhodná celá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čísl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která dosazujeme do každého výraz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 číselné ose pak značíme pouze znaménka hodnot výrazů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výsledné řešení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nerovnice získáme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součinem znamének v daném interval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Zástupný symbol pro obsah 3"/>
              <p:cNvSpPr txBox="1"/>
              <p:nvPr/>
            </p:nvSpPr>
            <p:spPr>
              <a:xfrm>
                <a:off x="3349800" y="581040"/>
                <a:ext cx="350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8"/>
              <p:cNvSpPr txBox="1"/>
              <p:nvPr/>
            </p:nvSpPr>
            <p:spPr>
              <a:xfrm>
                <a:off x="1116000" y="2170080"/>
                <a:ext cx="12304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9"/>
              <p:cNvSpPr txBox="1"/>
              <p:nvPr/>
            </p:nvSpPr>
            <p:spPr>
              <a:xfrm>
                <a:off x="6227640" y="2170080"/>
                <a:ext cx="16779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Obdélník 54"/>
          <p:cNvSpPr/>
          <p:nvPr/>
        </p:nvSpPr>
        <p:spPr>
          <a:xfrm>
            <a:off x="539640" y="393372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Nulové body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  rozdělí číselnou osu do tří otevřených intervalů a to i v případě, že znak nerovnosti bude obráceně, tj. větš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2"/>
              <p:cNvSpPr txBox="1"/>
              <p:nvPr/>
            </p:nvSpPr>
            <p:spPr>
              <a:xfrm>
                <a:off x="1979640" y="3860640"/>
                <a:ext cx="1471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−</m:t>
                        </m:r>
                      </m:e>
                    </m:d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d>
                      <m:dPr>
                        <m:begChr m:val="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07" name="Přímá spojovací šipka 9"/>
          <p:cNvCxnSpPr/>
          <p:nvPr/>
        </p:nvCxnSpPr>
        <p:spPr>
          <a:xfrm flipH="1">
            <a:off x="1763280" y="1125360"/>
            <a:ext cx="2232720" cy="93600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08" name="Přímá spojovací šipka 11"/>
          <p:cNvCxnSpPr/>
          <p:nvPr/>
        </p:nvCxnSpPr>
        <p:spPr>
          <a:xfrm>
            <a:off x="5508720" y="1196640"/>
            <a:ext cx="1008720" cy="86436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sp>
        <p:nvSpPr>
          <p:cNvPr id="109" name="Obousměrná vodorovná šipka 18"/>
          <p:cNvSpPr/>
          <p:nvPr/>
        </p:nvSpPr>
        <p:spPr>
          <a:xfrm>
            <a:off x="2700360" y="2133720"/>
            <a:ext cx="3384360" cy="108108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Určení nulových bob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Skupina 1"/>
          <p:cNvGrpSpPr/>
          <p:nvPr/>
        </p:nvGrpSpPr>
        <p:grpSpPr>
          <a:xfrm>
            <a:off x="826920" y="1989000"/>
            <a:ext cx="5977080" cy="2303640"/>
            <a:chOff x="826920" y="1989000"/>
            <a:chExt cx="5977080" cy="2303640"/>
          </a:xfrm>
        </p:grpSpPr>
        <p:sp>
          <p:nvSpPr>
            <p:cNvPr id="111" name="Vývojový diagram: spojka 2"/>
            <p:cNvSpPr/>
            <p:nvPr/>
          </p:nvSpPr>
          <p:spPr>
            <a:xfrm>
              <a:off x="5724720" y="3861000"/>
              <a:ext cx="431640" cy="431640"/>
            </a:xfrm>
            <a:prstGeom prst="flowChartConnector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ffff"/>
                  </a:solidFill>
                  <a:latin typeface="Cambria"/>
                </a:rPr>
                <a:t>+</a:t>
              </a:r>
              <a:endParaRPr b="0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2" name="Přímá spojovací čára 3"/>
            <p:cNvSpPr/>
            <p:nvPr/>
          </p:nvSpPr>
          <p:spPr>
            <a:xfrm>
              <a:off x="826920" y="3068640"/>
              <a:ext cx="597708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3" name="Přímá spojovací čára 4"/>
            <p:cNvSpPr/>
            <p:nvPr/>
          </p:nvSpPr>
          <p:spPr>
            <a:xfrm>
              <a:off x="3419280" y="2925720"/>
              <a:ext cx="0" cy="2887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4" name="TextovéPole 29"/>
            <p:cNvSpPr/>
            <p:nvPr/>
          </p:nvSpPr>
          <p:spPr>
            <a:xfrm>
              <a:off x="5075640" y="3284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5" name="Přímá spojovací čára 6"/>
            <p:cNvSpPr/>
            <p:nvPr/>
          </p:nvSpPr>
          <p:spPr>
            <a:xfrm>
              <a:off x="5219640" y="2923920"/>
              <a:ext cx="0" cy="2887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2"/>
                <p:cNvSpPr txBox="1"/>
                <p:nvPr/>
              </p:nvSpPr>
              <p:spPr>
                <a:xfrm>
                  <a:off x="2987280" y="3284640"/>
                  <a:ext cx="561960" cy="87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3"/>
                <p:cNvSpPr txBox="1"/>
                <p:nvPr/>
              </p:nvSpPr>
              <p:spPr>
                <a:xfrm>
                  <a:off x="826920" y="2566440"/>
                  <a:ext cx="72684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Object 4"/>
                <p:cNvSpPr txBox="1"/>
                <p:nvPr/>
              </p:nvSpPr>
              <p:spPr>
                <a:xfrm>
                  <a:off x="826920" y="3214440"/>
                  <a:ext cx="8953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TextovéPole 10"/>
            <p:cNvSpPr/>
            <p:nvPr/>
          </p:nvSpPr>
          <p:spPr>
            <a:xfrm>
              <a:off x="2339280" y="199044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-2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0" name="TextovéPole 11"/>
            <p:cNvSpPr/>
            <p:nvPr/>
          </p:nvSpPr>
          <p:spPr>
            <a:xfrm>
              <a:off x="5796000" y="198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1" name="TextovéPole 12"/>
            <p:cNvSpPr/>
            <p:nvPr/>
          </p:nvSpPr>
          <p:spPr>
            <a:xfrm>
              <a:off x="4139640" y="199044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Object 5"/>
                <p:cNvSpPr txBox="1"/>
                <p:nvPr/>
              </p:nvSpPr>
              <p:spPr>
                <a:xfrm>
                  <a:off x="5796000" y="2637000"/>
                  <a:ext cx="3063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Object 6"/>
                <p:cNvSpPr txBox="1"/>
                <p:nvPr/>
              </p:nvSpPr>
              <p:spPr>
                <a:xfrm>
                  <a:off x="2411280" y="2708640"/>
                  <a:ext cx="277560" cy="1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7"/>
                <p:cNvSpPr txBox="1"/>
                <p:nvPr/>
              </p:nvSpPr>
              <p:spPr>
                <a:xfrm>
                  <a:off x="2411280" y="3284640"/>
                  <a:ext cx="277560" cy="1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Object 8"/>
                <p:cNvSpPr txBox="1"/>
                <p:nvPr/>
              </p:nvSpPr>
              <p:spPr>
                <a:xfrm>
                  <a:off x="4139640" y="2708640"/>
                  <a:ext cx="277560" cy="1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Object 9"/>
                <p:cNvSpPr txBox="1"/>
                <p:nvPr/>
              </p:nvSpPr>
              <p:spPr>
                <a:xfrm>
                  <a:off x="5796000" y="3212640"/>
                  <a:ext cx="3063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Object 10"/>
                <p:cNvSpPr txBox="1"/>
                <p:nvPr/>
              </p:nvSpPr>
              <p:spPr>
                <a:xfrm>
                  <a:off x="4139640" y="3212640"/>
                  <a:ext cx="3063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Vývojový diagram: spojka 19"/>
            <p:cNvSpPr/>
            <p:nvPr/>
          </p:nvSpPr>
          <p:spPr>
            <a:xfrm>
              <a:off x="4066920" y="3861000"/>
              <a:ext cx="431640" cy="431640"/>
            </a:xfrm>
            <a:prstGeom prst="flowChartConnector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ffff"/>
                  </a:solidFill>
                  <a:latin typeface="Cambria"/>
                </a:rPr>
                <a:t>-</a:t>
              </a:r>
              <a:endParaRPr b="0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9" name="Vývojový diagram: spojka 20"/>
            <p:cNvSpPr/>
            <p:nvPr/>
          </p:nvSpPr>
          <p:spPr>
            <a:xfrm>
              <a:off x="2339640" y="3861000"/>
              <a:ext cx="431640" cy="431640"/>
            </a:xfrm>
            <a:prstGeom prst="flowChartConnector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ffff"/>
                  </a:solidFill>
                  <a:latin typeface="Cambria"/>
                </a:rPr>
                <a:t>+</a:t>
              </a:r>
              <a:endParaRPr b="0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30" name="Šipka dolů 21"/>
          <p:cNvSpPr/>
          <p:nvPr/>
        </p:nvSpPr>
        <p:spPr>
          <a:xfrm>
            <a:off x="4067280" y="4508640"/>
            <a:ext cx="433440" cy="8650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7"/>
              <p:cNvSpPr txBox="1"/>
              <p:nvPr/>
            </p:nvSpPr>
            <p:spPr>
              <a:xfrm>
                <a:off x="3348000" y="5516640"/>
                <a:ext cx="1674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Zaoblený obdélníkový popisek 23"/>
          <p:cNvSpPr/>
          <p:nvPr/>
        </p:nvSpPr>
        <p:spPr>
          <a:xfrm>
            <a:off x="826920" y="620640"/>
            <a:ext cx="6985080" cy="792360"/>
          </a:xfrm>
          <a:prstGeom prst="wedgeRoundRectCallout">
            <a:avLst>
              <a:gd name="adj1" fmla="val 3819"/>
              <a:gd name="adj2" fmla="val 12479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 intervalů volíme celá čísla, která dosazujeme do výrazů a k číselné ose značíme pouze znaménka hodnoty výraz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Zaoblený obdélníkový popisek 24"/>
          <p:cNvSpPr/>
          <p:nvPr/>
        </p:nvSpPr>
        <p:spPr>
          <a:xfrm>
            <a:off x="5940360" y="4653000"/>
            <a:ext cx="2232000" cy="720720"/>
          </a:xfrm>
          <a:prstGeom prst="wedgeRoundRectCallout">
            <a:avLst>
              <a:gd name="adj1" fmla="val -42439"/>
              <a:gd name="adj2" fmla="val -9688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ná znaménka součin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4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5003640" y="5229360"/>
            <a:ext cx="863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000" y="691920"/>
            <a:ext cx="76201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  <a:ea typeface="Times New Roman"/>
              </a:rPr>
              <a:t>Výslednou množinu řešen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určíme podle znaku nerovnosti výsledného znaménka součinu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 algn="just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má-li být součin výrazů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menší než 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, pak řešení hledáme u výsledného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znaménka mínus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,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 algn="just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má-li být součin výrazů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větší než 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, pak řešení hledáme u výsledného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znaménka plus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  <a:ea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  <a:ea typeface="Times New Roman"/>
              </a:rPr>
              <a:t>Pozn.: Součin několika nenulových čísel je záporný právě tehdy, když lichý počet činitelů je záporný – jinak je součin kladný 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 algn="just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7840" y="19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Zástupný symbol pro obsah 3"/>
              <p:cNvSpPr txBox="1"/>
              <p:nvPr/>
            </p:nvSpPr>
            <p:spPr>
              <a:xfrm>
                <a:off x="3059280" y="2276640"/>
                <a:ext cx="350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Zaoblený obdélníkový popisek 4"/>
          <p:cNvSpPr/>
          <p:nvPr/>
        </p:nvSpPr>
        <p:spPr>
          <a:xfrm>
            <a:off x="684360" y="549360"/>
            <a:ext cx="6480000" cy="576000"/>
          </a:xfrm>
          <a:prstGeom prst="wedgeRoundRectCallout">
            <a:avLst>
              <a:gd name="adj1" fmla="val 10912"/>
              <a:gd name="adj2" fmla="val 14432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Schéma řešení následujících nerovnic je shodné s příkladem 1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9" name="Obdélník 5"/>
          <p:cNvSpPr/>
          <p:nvPr/>
        </p:nvSpPr>
        <p:spPr>
          <a:xfrm>
            <a:off x="611280" y="321300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Součin výrazů má být větší než 0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řešení hledáme u výsledného znaménka plus, tzn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2843280" y="3573360"/>
                <a:ext cx="24400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41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5435640" y="3860640"/>
            <a:ext cx="863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3357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 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43" name="Nadpis 1"/>
          <p:cNvSpPr/>
          <p:nvPr/>
        </p:nvSpPr>
        <p:spPr>
          <a:xfrm>
            <a:off x="539640" y="476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  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Zástupný symbol pro obsah 3"/>
              <p:cNvSpPr txBox="1"/>
              <p:nvPr/>
            </p:nvSpPr>
            <p:spPr>
              <a:xfrm>
                <a:off x="2987640" y="765000"/>
                <a:ext cx="3505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Obdélník 5"/>
          <p:cNvSpPr/>
          <p:nvPr/>
        </p:nvSpPr>
        <p:spPr>
          <a:xfrm>
            <a:off x="684360" y="16286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Součin výrazů má být menší nebo roven 0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řešení nerovnice hledáme u výsledného znaménka mínus a  interval bude uzavřený, tzn.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6732720" y="1989000"/>
                <a:ext cx="13125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3059280" y="3645000"/>
                <a:ext cx="350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Obdélník 5"/>
          <p:cNvSpPr/>
          <p:nvPr/>
        </p:nvSpPr>
        <p:spPr>
          <a:xfrm>
            <a:off x="684360" y="45086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Součin výrazů má být větší nebo roven 0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řešení nerovnice hledáme u výsledného znaménka mínus , tzn.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        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4211640" y="4869000"/>
                <a:ext cx="24400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451640" y="270828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151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7524720" y="5084640"/>
            <a:ext cx="863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4-04-27T19:19:27Z</dcterms:modified>
  <cp:revision>206</cp:revision>
  <dc:subject/>
  <dc:title>Název</dc:title>
</cp:coreProperties>
</file>