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5D96-95B2-466C-A8CA-5757E803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1AF2-569C-470C-BFDC-DB011C70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6E74-A418-405E-9ABB-3D8D34AD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8181-5A2E-477A-AB1F-3B06458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385-E63E-4F43-AED9-7DC01BCF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F5AC-CB9F-4241-B339-100AE194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BB1-A0F8-458A-95E3-69BF920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598-D346-472B-986A-51A6BAB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5C73-90C8-407A-9894-7D33FB3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E692-8FAF-4ED3-9241-AB3897B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2EB6-F4E4-4D82-A880-5B52FAC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979E-4D48-4B5B-81D5-09875ED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7FCE-C04C-471D-90C4-44E7767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39A-F210-40CA-99AD-F270CDB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F6B-06CF-4029-BFEE-0896F94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A82-3F42-4866-9AC8-5D2895A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9A5-8F15-4B91-9B6D-0002689F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3979-2E17-4D21-B924-8A9978B2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7B75-8711-434F-A8A3-91C6D706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3EB0-E548-4153-B8E8-1985598A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E9E5-51D7-4575-86FF-E37B8EA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970A-5673-4891-8353-14A4FC5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DC35-18C0-47C8-A3F3-14122D5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CB1-625D-46CE-870A-AF69E20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52B-483D-48E3-B92E-76DEA77E7FB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7BF4-3193-4482-B7F3-F5043F115D85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26E-AA8A-4B1E-863C-7E4523153DCD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F11-38EA-4C41-89EF-B848CF9E0BB5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Soustavy lineárních nerovnic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červenec,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aoblený obdélníkový popisek 1"/>
          <p:cNvSpPr/>
          <p:nvPr/>
        </p:nvSpPr>
        <p:spPr>
          <a:xfrm>
            <a:off x="4572000" y="765000"/>
            <a:ext cx="3384720" cy="648000"/>
          </a:xfrm>
          <a:prstGeom prst="wedgeRoundRectCallout">
            <a:avLst>
              <a:gd name="adj1" fmla="val -82199"/>
              <a:gd name="adj2" fmla="val -380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čítání a přičítání výrazů na obou stranách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971640" y="620640"/>
                <a:ext cx="2209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971640" y="1125360"/>
                <a:ext cx="2500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Přímá spojovací čára 4"/>
          <p:cNvSpPr/>
          <p:nvPr/>
        </p:nvSpPr>
        <p:spPr>
          <a:xfrm>
            <a:off x="900000" y="1628640"/>
            <a:ext cx="2519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643040" y="1700280"/>
                <a:ext cx="1008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619280" y="2205000"/>
                <a:ext cx="1193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Přímá spojovací čára 8"/>
          <p:cNvSpPr/>
          <p:nvPr/>
        </p:nvSpPr>
        <p:spPr>
          <a:xfrm>
            <a:off x="971640" y="2708280"/>
            <a:ext cx="2448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1908000" y="2781360"/>
                <a:ext cx="95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1908000" y="3213000"/>
                <a:ext cx="777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kt 2"/>
              <p:cNvSpPr txBox="1"/>
              <p:nvPr/>
            </p:nvSpPr>
            <p:spPr>
              <a:xfrm>
                <a:off x="3697200" y="1700280"/>
                <a:ext cx="951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664080" y="2205000"/>
                <a:ext cx="952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Zaoblený obdélníkový popisek 18"/>
          <p:cNvSpPr/>
          <p:nvPr/>
        </p:nvSpPr>
        <p:spPr>
          <a:xfrm>
            <a:off x="5580000" y="1700280"/>
            <a:ext cx="2376720" cy="1008000"/>
          </a:xfrm>
          <a:prstGeom prst="wedgeRoundRectCallout">
            <a:avLst>
              <a:gd name="adj1" fmla="val -84449"/>
              <a:gd name="adj2" fmla="val -1712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ělení obou nerovnic (-1), obrácení znaku nerovnost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7" name="Skupina 36"/>
          <p:cNvGrpSpPr/>
          <p:nvPr/>
        </p:nvGrpSpPr>
        <p:grpSpPr>
          <a:xfrm>
            <a:off x="3850560" y="3573360"/>
            <a:ext cx="3853800" cy="1482840"/>
            <a:chOff x="3850560" y="3573360"/>
            <a:chExt cx="3853800" cy="1482840"/>
          </a:xfrm>
        </p:grpSpPr>
        <p:sp>
          <p:nvSpPr>
            <p:cNvPr id="208" name="Přímá spojovací čára 20"/>
            <p:cNvSpPr/>
            <p:nvPr/>
          </p:nvSpPr>
          <p:spPr>
            <a:xfrm flipH="1">
              <a:off x="3922200" y="4375080"/>
              <a:ext cx="370836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9" name="Přímá spojovací čára 21"/>
            <p:cNvSpPr/>
            <p:nvPr/>
          </p:nvSpPr>
          <p:spPr>
            <a:xfrm>
              <a:off x="6083280" y="3644640"/>
              <a:ext cx="0" cy="936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210" name="Přímá spojovací šipka 22"/>
            <p:cNvCxnSpPr/>
            <p:nvPr/>
          </p:nvCxnSpPr>
          <p:spPr>
            <a:xfrm>
              <a:off x="6083280" y="3653640"/>
              <a:ext cx="162144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211" name="Object 10"/>
                <p:cNvSpPr txBox="1"/>
                <p:nvPr/>
              </p:nvSpPr>
              <p:spPr>
                <a:xfrm>
                  <a:off x="5939640" y="4662720"/>
                  <a:ext cx="28260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Vývojový diagram: spojka 24"/>
            <p:cNvSpPr/>
            <p:nvPr/>
          </p:nvSpPr>
          <p:spPr>
            <a:xfrm>
              <a:off x="6011640" y="3573360"/>
              <a:ext cx="179280" cy="17928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3" name="Přímá spojovací čára 25"/>
            <p:cNvSpPr/>
            <p:nvPr/>
          </p:nvSpPr>
          <p:spPr>
            <a:xfrm>
              <a:off x="5290920" y="3654000"/>
              <a:ext cx="0" cy="9367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214" name="Přímá spojovací šipka 26"/>
            <p:cNvCxnSpPr/>
            <p:nvPr/>
          </p:nvCxnSpPr>
          <p:spPr>
            <a:xfrm flipH="1">
              <a:off x="3850560" y="3653640"/>
              <a:ext cx="14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215" name="Object 11"/>
                <p:cNvSpPr txBox="1"/>
                <p:nvPr/>
              </p:nvSpPr>
              <p:spPr>
                <a:xfrm>
                  <a:off x="4931280" y="4662720"/>
                  <a:ext cx="50652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443640" y="5157720"/>
                <a:ext cx="865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Zaoblený obdélníkový popisek 34"/>
          <p:cNvSpPr/>
          <p:nvPr/>
        </p:nvSpPr>
        <p:spPr>
          <a:xfrm>
            <a:off x="755640" y="5373720"/>
            <a:ext cx="3384720" cy="1006560"/>
          </a:xfrm>
          <a:prstGeom prst="wedgeRoundRectCallout">
            <a:avLst>
              <a:gd name="adj1" fmla="val 97814"/>
              <a:gd name="adj2" fmla="val -18964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em soustavy nerovnic je průnik množin všech řešení obou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18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308720" y="479736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4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2050920" y="1268280"/>
                <a:ext cx="40388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"/>
              <p:cNvSpPr txBox="1"/>
              <p:nvPr/>
            </p:nvSpPr>
            <p:spPr>
              <a:xfrm>
                <a:off x="971640" y="3502080"/>
                <a:ext cx="1849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5508720" y="3286080"/>
                <a:ext cx="20113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539640" y="4138560"/>
                <a:ext cx="2094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5508720" y="4138560"/>
                <a:ext cx="1982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042920" y="4678200"/>
                <a:ext cx="1339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5364000" y="4678200"/>
                <a:ext cx="1954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9"/>
              <p:cNvSpPr txBox="1"/>
              <p:nvPr/>
            </p:nvSpPr>
            <p:spPr>
              <a:xfrm>
                <a:off x="6156360" y="5229360"/>
                <a:ext cx="9493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1438200" y="5229360"/>
                <a:ext cx="696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9" name="Přímá spojovací šipka 12"/>
          <p:cNvCxnSpPr/>
          <p:nvPr/>
        </p:nvCxnSpPr>
        <p:spPr>
          <a:xfrm flipH="1">
            <a:off x="1834560" y="2133360"/>
            <a:ext cx="2161080" cy="9356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230" name="Přímá spojovací šipka 13"/>
          <p:cNvCxnSpPr/>
          <p:nvPr/>
        </p:nvCxnSpPr>
        <p:spPr>
          <a:xfrm>
            <a:off x="4067280" y="2133720"/>
            <a:ext cx="2342160" cy="10087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231" name="Zaoblený obdélníkový popisek 14"/>
          <p:cNvSpPr/>
          <p:nvPr/>
        </p:nvSpPr>
        <p:spPr>
          <a:xfrm>
            <a:off x="3635280" y="5445000"/>
            <a:ext cx="1728720" cy="1079640"/>
          </a:xfrm>
          <a:prstGeom prst="wedgeRoundRectCallout">
            <a:avLst>
              <a:gd name="adj1" fmla="val 56560"/>
              <a:gd name="adj2" fmla="val -156273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Ekvivalentní úpravy v nerovnicích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kt 2"/>
              <p:cNvSpPr txBox="1"/>
              <p:nvPr/>
            </p:nvSpPr>
            <p:spPr>
              <a:xfrm>
                <a:off x="2529000" y="4941720"/>
                <a:ext cx="1006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2"/>
              <p:cNvSpPr txBox="1"/>
              <p:nvPr/>
            </p:nvSpPr>
            <p:spPr>
              <a:xfrm>
                <a:off x="7812000" y="3500280"/>
                <a:ext cx="503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Zaoblený obdélníkový popisek 21"/>
          <p:cNvSpPr/>
          <p:nvPr/>
        </p:nvSpPr>
        <p:spPr>
          <a:xfrm>
            <a:off x="3203640" y="2708280"/>
            <a:ext cx="1800000" cy="1008000"/>
          </a:xfrm>
          <a:prstGeom prst="wedgeRoundRectCallout">
            <a:avLst>
              <a:gd name="adj1" fmla="val -22726"/>
              <a:gd name="adj2" fmla="val 90199"/>
              <a:gd name="adj3" fmla="val 16667"/>
            </a:avLst>
          </a:prstGeom>
          <a:solidFill>
            <a:srgbClr val="a47b38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Rozdělení nerovností po dvojicích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římá spojovací čára 2"/>
          <p:cNvSpPr/>
          <p:nvPr/>
        </p:nvSpPr>
        <p:spPr>
          <a:xfrm flipH="1">
            <a:off x="2627280" y="1916280"/>
            <a:ext cx="3384720" cy="0"/>
          </a:xfrm>
          <a:prstGeom prst="line">
            <a:avLst/>
          </a:prstGeom>
          <a:ln w="381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6" name="Přímá spojovací čára 3"/>
          <p:cNvSpPr/>
          <p:nvPr/>
        </p:nvSpPr>
        <p:spPr>
          <a:xfrm>
            <a:off x="5256360" y="1133640"/>
            <a:ext cx="0" cy="1009440"/>
          </a:xfrm>
          <a:prstGeom prst="line">
            <a:avLst/>
          </a:prstGeom>
          <a:ln w="381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37" name="Přímá spojovací šipka 4"/>
          <p:cNvCxnSpPr/>
          <p:nvPr/>
        </p:nvCxnSpPr>
        <p:spPr>
          <a:xfrm flipH="1">
            <a:off x="2916360" y="1133280"/>
            <a:ext cx="23403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headEnd len="lg" type="oval" w="lg"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2349360"/>
                <a:ext cx="1983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Vývojový diagram: spojka 6"/>
          <p:cNvSpPr/>
          <p:nvPr/>
        </p:nvSpPr>
        <p:spPr>
          <a:xfrm>
            <a:off x="3384720" y="1197000"/>
            <a:ext cx="179280" cy="179280"/>
          </a:xfrm>
          <a:prstGeom prst="flowChartConnector">
            <a:avLst/>
          </a:prstGeom>
          <a:noFill/>
          <a:ln w="381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0" name="Přímá spojovací čára 7"/>
          <p:cNvSpPr/>
          <p:nvPr/>
        </p:nvSpPr>
        <p:spPr>
          <a:xfrm>
            <a:off x="3456000" y="1278000"/>
            <a:ext cx="0" cy="863640"/>
          </a:xfrm>
          <a:prstGeom prst="line">
            <a:avLst/>
          </a:prstGeom>
          <a:ln w="381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241" name="Přímá spojovací šipka 8"/>
          <p:cNvCxnSpPr/>
          <p:nvPr/>
        </p:nvCxnSpPr>
        <p:spPr>
          <a:xfrm>
            <a:off x="3456000" y="1277640"/>
            <a:ext cx="23403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242" name="Přímá spojovací čára 9"/>
          <p:cNvSpPr/>
          <p:nvPr/>
        </p:nvSpPr>
        <p:spPr>
          <a:xfrm flipH="1">
            <a:off x="3455640" y="1133640"/>
            <a:ext cx="647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3" name="Přímá spojovací čára 10"/>
          <p:cNvSpPr/>
          <p:nvPr/>
        </p:nvSpPr>
        <p:spPr>
          <a:xfrm flipH="1">
            <a:off x="3743280" y="1133640"/>
            <a:ext cx="6494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4" name="Přímá spojovací čára 11"/>
          <p:cNvSpPr/>
          <p:nvPr/>
        </p:nvSpPr>
        <p:spPr>
          <a:xfrm flipH="1">
            <a:off x="4032000" y="1133640"/>
            <a:ext cx="647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5" name="Přímá spojovací čára 12"/>
          <p:cNvSpPr/>
          <p:nvPr/>
        </p:nvSpPr>
        <p:spPr>
          <a:xfrm flipH="1">
            <a:off x="4319280" y="1133640"/>
            <a:ext cx="647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6" name="Přímá spojovací čára 13"/>
          <p:cNvSpPr/>
          <p:nvPr/>
        </p:nvSpPr>
        <p:spPr>
          <a:xfrm flipH="1">
            <a:off x="4608360" y="1133640"/>
            <a:ext cx="648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3132000" y="2349360"/>
                <a:ext cx="507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6156360" y="2852640"/>
                <a:ext cx="142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Zaoblený obdélníkový popisek 16"/>
          <p:cNvSpPr/>
          <p:nvPr/>
        </p:nvSpPr>
        <p:spPr>
          <a:xfrm>
            <a:off x="792000" y="3870360"/>
            <a:ext cx="3383280" cy="1008000"/>
          </a:xfrm>
          <a:prstGeom prst="wedgeRoundRectCallout">
            <a:avLst>
              <a:gd name="adj1" fmla="val 71601"/>
              <a:gd name="adj2" fmla="val -261421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em soustavy nerovnic je průnik množin všech řešení obou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0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164360" y="3357720"/>
            <a:ext cx="863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Opakování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soustavu nerovnic v N, Z, R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Řešte v R soustavu nerovnic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ýsledky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)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1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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2</a:t>
            </a:r>
            <a:r>
              <a:rPr b="0" lang="cs-CZ" sz="22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         2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1893960" y="2060640"/>
                <a:ext cx="2824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1692360" y="2781360"/>
                <a:ext cx="29113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2627280" y="5084640"/>
                <a:ext cx="1065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4643280" y="4005360"/>
                <a:ext cx="32720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4140360" y="5084640"/>
                <a:ext cx="10681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59" name="Zástupný symbol pro obsah 2"/>
          <p:cNvSpPr/>
          <p:nvPr/>
        </p:nvSpPr>
        <p:spPr>
          <a:xfrm>
            <a:off x="457200" y="148104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Dytrych, M., Dobiasová, I., Livňanská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Sbírka úloh z matematiky pro nižší ročníky víceletých gymnázií a pro 2.stupeň základních škol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Fortuna, Praha 2001, 2. vydání: ISBN 80-7168-766-9    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[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]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 Charvát, J., Zhouf, J., Boček, L.: </a:t>
            </a:r>
            <a:r>
              <a:rPr b="0" i="1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Matematika pro gymnázia – Rovnice a nerovnice</a:t>
            </a:r>
            <a:r>
              <a:rPr b="0" lang="cs-CZ" sz="1400" spc="-1" strike="noStrike">
                <a:solidFill>
                  <a:srgbClr val="2f2b20"/>
                </a:solidFill>
                <a:latin typeface="Cambria"/>
                <a:ea typeface="Times New Roman"/>
              </a:rPr>
              <a:t>. Prometheus, spol. s.r.o, Praha 2002, dotisk 3. vydání: ISBN 80-7196-154-X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f2b20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75460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Lucie Pátková     SOUSTAVY LINEÁRNÍCH NEROVNIC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, schémata. 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V/2 Inovace a zkvalitnění výuky směřující k rozvoji matematické gramotnosti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ovnice a nerovni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2_1_S1_0906_D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Soustavy lineárních nerovnic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Obdélník 5"/>
          <p:cNvSpPr/>
          <p:nvPr/>
        </p:nvSpPr>
        <p:spPr>
          <a:xfrm>
            <a:off x="611280" y="1341360"/>
            <a:ext cx="7632720" cy="3024360"/>
          </a:xfrm>
          <a:prstGeom prst="rect">
            <a:avLst/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Soustavu lineárních nerovnic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mohou tvořit nerovnice tvaru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kde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a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\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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0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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, </a:t>
            </a:r>
            <a:r>
              <a:rPr b="0" i="1" lang="cs-CZ" sz="2800" spc="-1" strike="noStrike">
                <a:solidFill>
                  <a:srgbClr val="2f2b20"/>
                </a:solidFill>
                <a:latin typeface="Cambria"/>
              </a:rPr>
              <a:t>b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f2b2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2f2b20"/>
                </a:solidFill>
                <a:latin typeface="Cambria"/>
              </a:rPr>
              <a:t> R </a:t>
            </a:r>
            <a:r>
              <a:rPr b="0" lang="cs-CZ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Zástupný symbol pro obsah 7"/>
              <p:cNvSpPr txBox="1"/>
              <p:nvPr/>
            </p:nvSpPr>
            <p:spPr>
              <a:xfrm>
                <a:off x="2411280" y="2565360"/>
                <a:ext cx="1360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4500720" y="2565360"/>
                <a:ext cx="1387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2411280" y="2997360"/>
                <a:ext cx="1360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4500720" y="2997360"/>
                <a:ext cx="1360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Řešení soustav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řešení soustavy lineárních  nerovnic vyřešíme nejprve každou nerovnici zvlášť (tzn.: každou z nich buď upravujeme samostatně nebo obě současně pomocí ekvivalentních úprav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výsledkem soustavy je pak průnik množin všech řešení jednotlivých nerovnic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ři násobení nebo dělení nerovnice záporným číslem nezapomeneme obrátit znak nerovnosti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zn.: Pro jednodušší představu při zápisu výsledného intervalu využíváme grafického znázornění na číselné ose. </a:t>
            </a:r>
            <a:r>
              <a:rPr b="0" lang="cs-CZ" sz="2200" spc="-1" strike="noStrike">
                <a:solidFill>
                  <a:srgbClr val="ff0000"/>
                </a:solidFill>
                <a:latin typeface="Cambria"/>
              </a:rPr>
              <a:t>(Řekni si: „Kam jde znak nerovnosti, tam jde šipka na číselné ose!“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11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1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684360" y="1341360"/>
                <a:ext cx="24368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611280" y="2349360"/>
                <a:ext cx="25113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Přímá spojovací čára 4"/>
          <p:cNvSpPr/>
          <p:nvPr/>
        </p:nvSpPr>
        <p:spPr>
          <a:xfrm>
            <a:off x="539640" y="357336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kt 2"/>
              <p:cNvSpPr txBox="1"/>
              <p:nvPr/>
            </p:nvSpPr>
            <p:spPr>
              <a:xfrm>
                <a:off x="3629160" y="1741320"/>
                <a:ext cx="50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3635280" y="2781360"/>
                <a:ext cx="505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826920" y="3716280"/>
                <a:ext cx="2159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971640" y="4292640"/>
                <a:ext cx="1392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Přímá spojovací čára 10"/>
          <p:cNvSpPr/>
          <p:nvPr/>
        </p:nvSpPr>
        <p:spPr>
          <a:xfrm>
            <a:off x="539640" y="472428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539640" y="4869000"/>
                <a:ext cx="2576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1403280" y="5373720"/>
                <a:ext cx="1392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Přímá spojovací čára 13"/>
          <p:cNvSpPr/>
          <p:nvPr/>
        </p:nvSpPr>
        <p:spPr>
          <a:xfrm>
            <a:off x="539640" y="5877000"/>
            <a:ext cx="266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Zaoblený obdélníkový popisek 14"/>
          <p:cNvSpPr/>
          <p:nvPr/>
        </p:nvSpPr>
        <p:spPr>
          <a:xfrm>
            <a:off x="5292720" y="1773360"/>
            <a:ext cx="2735280" cy="1008000"/>
          </a:xfrm>
          <a:prstGeom prst="wedgeRoundRectCallout">
            <a:avLst>
              <a:gd name="adj1" fmla="val -107634"/>
              <a:gd name="adj2" fmla="val 11643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ásobení nerovnice nejmenším společným jmenovatelem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Zaoblený obdélníkový popisek 16"/>
          <p:cNvSpPr/>
          <p:nvPr/>
        </p:nvSpPr>
        <p:spPr>
          <a:xfrm>
            <a:off x="4788000" y="4869000"/>
            <a:ext cx="3384360" cy="647640"/>
          </a:xfrm>
          <a:prstGeom prst="wedgeRoundRectCallout">
            <a:avLst>
              <a:gd name="adj1" fmla="val -82199"/>
              <a:gd name="adj2" fmla="val -3805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čítání a přičítání výrazů na obou stranách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524720" y="4797360"/>
            <a:ext cx="863640" cy="7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847800" y="620640"/>
                <a:ext cx="1484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1116000" y="1125360"/>
                <a:ext cx="1058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Přímá spojovací čára 4"/>
          <p:cNvSpPr/>
          <p:nvPr/>
        </p:nvSpPr>
        <p:spPr>
          <a:xfrm>
            <a:off x="900000" y="1628640"/>
            <a:ext cx="1656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kt 2"/>
              <p:cNvSpPr txBox="1"/>
              <p:nvPr/>
            </p:nvSpPr>
            <p:spPr>
              <a:xfrm>
                <a:off x="3090960" y="620640"/>
                <a:ext cx="1009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090960" y="1268280"/>
                <a:ext cx="588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1187280" y="1700280"/>
                <a:ext cx="979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1187280" y="2492280"/>
                <a:ext cx="947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" name="Skupina 30"/>
          <p:cNvGrpSpPr/>
          <p:nvPr/>
        </p:nvGrpSpPr>
        <p:grpSpPr>
          <a:xfrm>
            <a:off x="3634920" y="2205000"/>
            <a:ext cx="3348360" cy="2024280"/>
            <a:chOff x="3634920" y="2205000"/>
            <a:chExt cx="3348360" cy="2024280"/>
          </a:xfrm>
        </p:grpSpPr>
        <p:sp>
          <p:nvSpPr>
            <p:cNvPr id="125" name="Přímá spojovací čára 13"/>
            <p:cNvSpPr/>
            <p:nvPr/>
          </p:nvSpPr>
          <p:spPr>
            <a:xfrm flipH="1">
              <a:off x="3634920" y="3068640"/>
              <a:ext cx="331164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6" name="Přímá spojovací čára 14"/>
            <p:cNvSpPr/>
            <p:nvPr/>
          </p:nvSpPr>
          <p:spPr>
            <a:xfrm>
              <a:off x="4643280" y="2276280"/>
              <a:ext cx="0" cy="10098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27" name="Přímá spojovací šipka 15"/>
            <p:cNvCxnSpPr/>
            <p:nvPr/>
          </p:nvCxnSpPr>
          <p:spPr>
            <a:xfrm>
              <a:off x="4643280" y="2275920"/>
              <a:ext cx="23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128" name="Object 8"/>
                <p:cNvSpPr txBox="1"/>
                <p:nvPr/>
              </p:nvSpPr>
              <p:spPr>
                <a:xfrm>
                  <a:off x="4427280" y="3357000"/>
                  <a:ext cx="42228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Vývojový diagram: spojka 17"/>
            <p:cNvSpPr/>
            <p:nvPr/>
          </p:nvSpPr>
          <p:spPr>
            <a:xfrm>
              <a:off x="4571640" y="2205000"/>
              <a:ext cx="179280" cy="17928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0" name="Přímá spojovací čára 18"/>
            <p:cNvSpPr/>
            <p:nvPr/>
          </p:nvSpPr>
          <p:spPr>
            <a:xfrm>
              <a:off x="3922560" y="2420640"/>
              <a:ext cx="0" cy="86364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31" name="Přímá spojovací šipka 19"/>
            <p:cNvCxnSpPr/>
            <p:nvPr/>
          </p:nvCxnSpPr>
          <p:spPr>
            <a:xfrm>
              <a:off x="3922560" y="2420280"/>
              <a:ext cx="23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  <p:sp>
          <p:nvSpPr>
            <p:cNvPr id="132" name="Přímá spojovací čára 24"/>
            <p:cNvSpPr/>
            <p:nvPr/>
          </p:nvSpPr>
          <p:spPr>
            <a:xfrm flipH="1">
              <a:off x="4642920" y="2276280"/>
              <a:ext cx="64764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3" name="Přímá spojovací čára 25"/>
            <p:cNvSpPr/>
            <p:nvPr/>
          </p:nvSpPr>
          <p:spPr>
            <a:xfrm flipH="1">
              <a:off x="4930200" y="2276280"/>
              <a:ext cx="64908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4" name="Přímá spojovací čára 26"/>
            <p:cNvSpPr/>
            <p:nvPr/>
          </p:nvSpPr>
          <p:spPr>
            <a:xfrm flipH="1">
              <a:off x="5219280" y="2276280"/>
              <a:ext cx="64764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5" name="Přímá spojovací čára 27"/>
            <p:cNvSpPr/>
            <p:nvPr/>
          </p:nvSpPr>
          <p:spPr>
            <a:xfrm flipH="1">
              <a:off x="5506560" y="2276280"/>
              <a:ext cx="64908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6" name="Přímá spojovací čára 28"/>
            <p:cNvSpPr/>
            <p:nvPr/>
          </p:nvSpPr>
          <p:spPr>
            <a:xfrm flipH="1">
              <a:off x="5795640" y="2276280"/>
              <a:ext cx="64764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7" name="Přímá spojovací čára 29"/>
            <p:cNvSpPr/>
            <p:nvPr/>
          </p:nvSpPr>
          <p:spPr>
            <a:xfrm flipH="1">
              <a:off x="6082920" y="2276280"/>
              <a:ext cx="64764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11"/>
                <p:cNvSpPr txBox="1"/>
                <p:nvPr/>
              </p:nvSpPr>
              <p:spPr>
                <a:xfrm>
                  <a:off x="3679200" y="3357720"/>
                  <a:ext cx="479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6443640" y="4149720"/>
                <a:ext cx="1647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Zaoblený obdélníkový popisek 33"/>
          <p:cNvSpPr/>
          <p:nvPr/>
        </p:nvSpPr>
        <p:spPr>
          <a:xfrm>
            <a:off x="5435640" y="549360"/>
            <a:ext cx="2521080" cy="1006560"/>
          </a:xfrm>
          <a:prstGeom prst="wedgeRoundRectCallout">
            <a:avLst>
              <a:gd name="adj1" fmla="val -100078"/>
              <a:gd name="adj2" fmla="val -1735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ělení nerovnice (-8), obrácení znaku nerovnost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Zaoblený obdélníkový popisek 34"/>
          <p:cNvSpPr/>
          <p:nvPr/>
        </p:nvSpPr>
        <p:spPr>
          <a:xfrm>
            <a:off x="2340000" y="4869000"/>
            <a:ext cx="3384360" cy="1008000"/>
          </a:xfrm>
          <a:prstGeom prst="wedgeRoundRectCallout">
            <a:avLst>
              <a:gd name="adj1" fmla="val 71601"/>
              <a:gd name="adj2" fmla="val -26142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em soustavy nerovnic je průnik množin všech řešení obou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2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395280" y="1628640"/>
                <a:ext cx="3576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324000" y="2276640"/>
                <a:ext cx="36525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Přímá spojovací čára 4"/>
          <p:cNvSpPr/>
          <p:nvPr/>
        </p:nvSpPr>
        <p:spPr>
          <a:xfrm>
            <a:off x="539640" y="3500280"/>
            <a:ext cx="3311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4226040" y="2781360"/>
                <a:ext cx="476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1547640" y="3716280"/>
                <a:ext cx="2214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971640" y="4292640"/>
                <a:ext cx="2755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1692360" y="4869000"/>
                <a:ext cx="2212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692360" y="5300640"/>
                <a:ext cx="2228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Zaoblený obdélníkový popisek 13"/>
          <p:cNvSpPr/>
          <p:nvPr/>
        </p:nvSpPr>
        <p:spPr>
          <a:xfrm>
            <a:off x="5651640" y="2060640"/>
            <a:ext cx="2520720" cy="792000"/>
          </a:xfrm>
          <a:prstGeom prst="wedgeRoundRectCallout">
            <a:avLst>
              <a:gd name="adj1" fmla="val -86287"/>
              <a:gd name="adj2" fmla="val 52236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ásobení nerovnice jmenovatelem zlomku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Zaoblený obdélníkový popisek 14"/>
          <p:cNvSpPr/>
          <p:nvPr/>
        </p:nvSpPr>
        <p:spPr>
          <a:xfrm>
            <a:off x="5364000" y="4724280"/>
            <a:ext cx="2880000" cy="649440"/>
          </a:xfrm>
          <a:prstGeom prst="wedgeRoundRectCallout">
            <a:avLst>
              <a:gd name="adj1" fmla="val -99712"/>
              <a:gd name="adj2" fmla="val 52148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čítání a přičítání výrazů na obou stranách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3" name="Přímá spojovací čára 18"/>
          <p:cNvSpPr/>
          <p:nvPr/>
        </p:nvSpPr>
        <p:spPr>
          <a:xfrm>
            <a:off x="539640" y="4797360"/>
            <a:ext cx="3311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4" name="Přímá spojovací čára 19"/>
          <p:cNvSpPr/>
          <p:nvPr/>
        </p:nvSpPr>
        <p:spPr>
          <a:xfrm>
            <a:off x="539640" y="5877000"/>
            <a:ext cx="331164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755640" y="549360"/>
                <a:ext cx="1120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755640" y="1052640"/>
                <a:ext cx="1531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římá spojovací čára 3"/>
          <p:cNvSpPr/>
          <p:nvPr/>
        </p:nvSpPr>
        <p:spPr>
          <a:xfrm>
            <a:off x="684360" y="1557360"/>
            <a:ext cx="172692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kt 2"/>
              <p:cNvSpPr txBox="1"/>
              <p:nvPr/>
            </p:nvSpPr>
            <p:spPr>
              <a:xfrm>
                <a:off x="3092400" y="620640"/>
                <a:ext cx="1008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3059280" y="1125360"/>
                <a:ext cx="10094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116000" y="1557360"/>
                <a:ext cx="1036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1187280" y="2349360"/>
                <a:ext cx="75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Zaoblený obdélníkový popisek 11"/>
          <p:cNvSpPr/>
          <p:nvPr/>
        </p:nvSpPr>
        <p:spPr>
          <a:xfrm>
            <a:off x="5148360" y="549360"/>
            <a:ext cx="3024000" cy="1006560"/>
          </a:xfrm>
          <a:prstGeom prst="wedgeRoundRectCallout">
            <a:avLst>
              <a:gd name="adj1" fmla="val -82152"/>
              <a:gd name="adj2" fmla="val -7129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Dělení nerovnic záporným číslem, obrácení znaku nerovnosti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63" name="Skupina 33"/>
          <p:cNvGrpSpPr/>
          <p:nvPr/>
        </p:nvGrpSpPr>
        <p:grpSpPr>
          <a:xfrm>
            <a:off x="3347640" y="2195640"/>
            <a:ext cx="3598920" cy="2033640"/>
            <a:chOff x="3347640" y="2195640"/>
            <a:chExt cx="3598920" cy="2033640"/>
          </a:xfrm>
        </p:grpSpPr>
        <p:sp>
          <p:nvSpPr>
            <p:cNvPr id="164" name="Přímá spojovací čára 13"/>
            <p:cNvSpPr/>
            <p:nvPr/>
          </p:nvSpPr>
          <p:spPr>
            <a:xfrm flipH="1">
              <a:off x="3347640" y="3068640"/>
              <a:ext cx="35989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5" name="Přímá spojovací čára 14"/>
            <p:cNvSpPr/>
            <p:nvPr/>
          </p:nvSpPr>
          <p:spPr>
            <a:xfrm>
              <a:off x="5940360" y="2276280"/>
              <a:ext cx="0" cy="10098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66" name="Přímá spojovací šipka 15"/>
            <p:cNvCxnSpPr/>
            <p:nvPr/>
          </p:nvCxnSpPr>
          <p:spPr>
            <a:xfrm flipH="1">
              <a:off x="3600360" y="2275920"/>
              <a:ext cx="23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167" name="Object 8"/>
                <p:cNvSpPr txBox="1"/>
                <p:nvPr/>
              </p:nvSpPr>
              <p:spPr>
                <a:xfrm>
                  <a:off x="5796000" y="3501000"/>
                  <a:ext cx="2538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Vývojový diagram: spojka 17"/>
            <p:cNvSpPr/>
            <p:nvPr/>
          </p:nvSpPr>
          <p:spPr>
            <a:xfrm>
              <a:off x="5867640" y="2195640"/>
              <a:ext cx="180720" cy="179280"/>
            </a:xfrm>
            <a:prstGeom prst="flowChartConnector">
              <a:avLst/>
            </a:pr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9" name="Přímá spojovací čára 18"/>
            <p:cNvSpPr/>
            <p:nvPr/>
          </p:nvSpPr>
          <p:spPr>
            <a:xfrm>
              <a:off x="4140000" y="2421000"/>
              <a:ext cx="0" cy="86364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cxnSp>
          <p:nvCxnSpPr>
            <p:cNvPr id="170" name="Přímá spojovací šipka 19"/>
            <p:cNvCxnSpPr/>
            <p:nvPr/>
          </p:nvCxnSpPr>
          <p:spPr>
            <a:xfrm>
              <a:off x="4140000" y="2420640"/>
              <a:ext cx="2340360" cy="1080"/>
            </a:xfrm>
            <a:prstGeom prst="straightConnector1">
              <a:avLst/>
            </a:prstGeom>
            <a:ln w="38160">
              <a:solidFill>
                <a:srgbClr val="2f2b20"/>
              </a:solidFill>
              <a:miter/>
              <a:headEnd len="lg" type="oval" w="lg"/>
              <a:tailEnd len="med" type="arrow" w="med"/>
            </a:ln>
          </p:spPr>
        </p:cxnSp>
        <p:sp>
          <p:nvSpPr>
            <p:cNvPr id="171" name="Přímá spojovací čára 20"/>
            <p:cNvSpPr/>
            <p:nvPr/>
          </p:nvSpPr>
          <p:spPr>
            <a:xfrm flipH="1">
              <a:off x="4139640" y="22762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2" name="Přímá spojovací čára 21"/>
            <p:cNvSpPr/>
            <p:nvPr/>
          </p:nvSpPr>
          <p:spPr>
            <a:xfrm flipH="1">
              <a:off x="4426920" y="22762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3" name="Přímá spojovací čára 22"/>
            <p:cNvSpPr/>
            <p:nvPr/>
          </p:nvSpPr>
          <p:spPr>
            <a:xfrm flipH="1">
              <a:off x="4716000" y="22762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4" name="Přímá spojovací čára 23"/>
            <p:cNvSpPr/>
            <p:nvPr/>
          </p:nvSpPr>
          <p:spPr>
            <a:xfrm flipH="1">
              <a:off x="5003280" y="22762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5" name="Přímá spojovací čára 24"/>
            <p:cNvSpPr/>
            <p:nvPr/>
          </p:nvSpPr>
          <p:spPr>
            <a:xfrm flipH="1">
              <a:off x="5290920" y="2276280"/>
              <a:ext cx="64908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9"/>
                <p:cNvSpPr txBox="1"/>
                <p:nvPr/>
              </p:nvSpPr>
              <p:spPr>
                <a:xfrm>
                  <a:off x="3778200" y="3357360"/>
                  <a:ext cx="56340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6012000" y="4221000"/>
                <a:ext cx="153504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Zaoblený obdélníkový popisek 28"/>
          <p:cNvSpPr/>
          <p:nvPr/>
        </p:nvSpPr>
        <p:spPr>
          <a:xfrm>
            <a:off x="1476360" y="5013360"/>
            <a:ext cx="3382920" cy="1008000"/>
          </a:xfrm>
          <a:prstGeom prst="wedgeRoundRectCallout">
            <a:avLst>
              <a:gd name="adj1" fmla="val 71601"/>
              <a:gd name="adj2" fmla="val -26142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Výsledkem soustavy nerovnic je průnik množin všech řešení obou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79" name="Obrázek 40" descr="zatržítko.JPG"/>
          <p:cNvPicPr/>
          <p:nvPr/>
        </p:nvPicPr>
        <p:blipFill>
          <a:blip r:embed="rId1"/>
          <a:srcRect l="0" t="13314" r="16463" b="13605"/>
          <a:stretch/>
        </p:blipFill>
        <p:spPr>
          <a:xfrm>
            <a:off x="7596360" y="4365720"/>
            <a:ext cx="86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říklad 3: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684360" y="1413000"/>
                <a:ext cx="266688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684360" y="2492280"/>
                <a:ext cx="2703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Přímá spojovací čára 4"/>
          <p:cNvSpPr/>
          <p:nvPr/>
        </p:nvSpPr>
        <p:spPr>
          <a:xfrm>
            <a:off x="468360" y="3645000"/>
            <a:ext cx="302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781440" y="2852640"/>
                <a:ext cx="615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838680" y="1773360"/>
                <a:ext cx="503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826920" y="3789360"/>
                <a:ext cx="2544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755640" y="4365720"/>
                <a:ext cx="2556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Přímá spojovací čára 10"/>
          <p:cNvSpPr/>
          <p:nvPr/>
        </p:nvSpPr>
        <p:spPr>
          <a:xfrm>
            <a:off x="468360" y="4869000"/>
            <a:ext cx="302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9" name="Zaoblený obdélníkový popisek 11"/>
          <p:cNvSpPr/>
          <p:nvPr/>
        </p:nvSpPr>
        <p:spPr>
          <a:xfrm>
            <a:off x="5580000" y="1773360"/>
            <a:ext cx="2592360" cy="1008000"/>
          </a:xfrm>
          <a:prstGeom prst="wedgeRoundRectCallout">
            <a:avLst>
              <a:gd name="adj1" fmla="val -112453"/>
              <a:gd name="adj2" fmla="val 26541"/>
              <a:gd name="adj3" fmla="val 16667"/>
            </a:avLst>
          </a:prstGeom>
          <a:solidFill>
            <a:srgbClr val="dec59e"/>
          </a:solidFill>
          <a:ln w="25560">
            <a:solidFill>
              <a:srgbClr val="a47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Násobení nerovnice nejmenším společným jmenovatelem zlomků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0" name="Zaoblený obdélníkový popisek 12"/>
          <p:cNvSpPr/>
          <p:nvPr/>
        </p:nvSpPr>
        <p:spPr>
          <a:xfrm>
            <a:off x="4572000" y="765000"/>
            <a:ext cx="3384720" cy="648000"/>
          </a:xfrm>
          <a:prstGeom prst="wedgeRoundRectCallout">
            <a:avLst>
              <a:gd name="adj1" fmla="val -82199"/>
              <a:gd name="adj2" fmla="val -380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čítání a přičítání výrazů na obou stranách nerovnic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Zaoblený obdélníkový popisek 13"/>
          <p:cNvSpPr/>
          <p:nvPr/>
        </p:nvSpPr>
        <p:spPr>
          <a:xfrm>
            <a:off x="4859280" y="4941720"/>
            <a:ext cx="3384720" cy="503280"/>
          </a:xfrm>
          <a:prstGeom prst="wedgeRoundRectCallout">
            <a:avLst>
              <a:gd name="adj1" fmla="val -83407"/>
              <a:gd name="adj2" fmla="val 44935"/>
              <a:gd name="adj3" fmla="val 16667"/>
            </a:avLst>
          </a:prstGeom>
          <a:solidFill>
            <a:srgbClr val="a47b38"/>
          </a:solidFill>
          <a:ln w="25560">
            <a:solidFill>
              <a:srgbClr val="6d5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mbria"/>
              </a:rPr>
              <a:t>Odstranění závorek násobením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1042920" y="5013360"/>
                <a:ext cx="201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900000" y="5516640"/>
                <a:ext cx="227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Přímá spojovací čára 16"/>
          <p:cNvSpPr/>
          <p:nvPr/>
        </p:nvSpPr>
        <p:spPr>
          <a:xfrm>
            <a:off x="468360" y="6021360"/>
            <a:ext cx="3024000" cy="0"/>
          </a:xfrm>
          <a:prstGeom prst="line">
            <a:avLst/>
          </a:prstGeom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Admin</cp:lastModifiedBy>
  <dcterms:modified xsi:type="dcterms:W3CDTF">2013-12-17T21:27:33Z</dcterms:modified>
  <cp:revision>169</cp:revision>
  <dc:subject/>
  <dc:title>Název</dc:title>
</cp:coreProperties>
</file>