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2BFC4-A236-40A6-B697-1251B9A3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761F3-F6C9-4FCD-8B61-DE05D72E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D63CA-5E94-4592-B576-73A5E369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C761F-6237-40B3-949D-119FC80E8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9308-0414-46B5-B175-058366FE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CFF5-6225-4C9F-BBF3-AA182248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AE2D-B279-4B66-B91A-74385A99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A060-E3C4-48A3-8DE4-A8EE22AB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EB65-BA4B-4C86-AB2E-6738001F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D531-D9E8-44C9-92C1-2D286930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80B7-6722-4FC8-9763-030F034E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83F83-D7C8-4BA4-9B40-D38C7474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4CF2-E118-4B3F-80DC-96596D62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7B93-FE98-4425-9DC5-F2239C92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ADC5-3405-4F37-BF04-3EF265F8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3033-A23C-4432-B86B-D4C205CA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8689-B58D-46D3-9141-005AF0C0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4B09-FE48-47F2-8E55-D68DE755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BEB9D-0216-42E7-AF84-6DAF5C0A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89217-96D6-4983-B4D8-00938DF2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53868-3C6F-4775-BAF2-0AA83CFD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C08FD-EA98-45C2-8AFC-79A49048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C6BF9-854B-4C91-A348-825240EC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F44FF-B54F-4876-A24F-A55B0F05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C285-D436-4F18-A884-9B73BCD25BC7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5F66-2487-420D-BAAE-A6DD9A33337D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F069-3ADF-4A01-8DA8-F9CEDB69101E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12A5-6E70-4FE4-9EA9-2CEB7CFA46DE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675e47"/>
                </a:solidFill>
                <a:latin typeface="Calibri"/>
              </a:rPr>
              <a:t>Lineární rovnice – neznámá ve jmenovateli</a:t>
            </a:r>
            <a:endParaRPr b="0" lang="en-US" sz="6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červenec,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64" name="Zástupný symbol pro obsah 2"/>
          <p:cNvSpPr/>
          <p:nvPr/>
        </p:nvSpPr>
        <p:spPr>
          <a:xfrm>
            <a:off x="457200" y="1481040"/>
            <a:ext cx="79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Dytrych, M., Dobiasová, I., Livňanská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 matematiky pro nižší ročníky víceletých gymnázií a pro 2.stupeň základních škol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Fortuna, Praha 2001, 2. vydání: ISBN 80-7168-766-9     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Charvát, J., Zhouf, J., Boček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Matematika pro gymnázia – Rovnice a nerovni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Prometheus, spol. s.r.o, Praha 2002, dotisk 3. vydání: ISBN 80-7196-154-X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3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Klodner, J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 matematiky pro obchodní akademi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Svitavská tiskárna, Svitavy 1998, 4. upravené vydání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4] Hudcová, M., Kubičíková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 matematiky pro SOŠ, SOU a nástavbové studium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Prometheus, spol. s.r.o, Praha 2002, dotisk 1. vydání: ISBN 80-7196-165-5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f2b2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8000" y="987480"/>
          <a:ext cx="8856720" cy="575460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Lucie Pátková     LINEÁRNÍ ROVNICE – NEZNÁMÁ VE JMENOVATEL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, schémata. 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V/2 Inovace a zkvalitnění výuky směřující k rozvoji matematické gramotnosti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ovnice a nerovni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2_1_S1_0906_D2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1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7"/>
              <p:cNvSpPr txBox="1"/>
              <p:nvPr/>
            </p:nvSpPr>
            <p:spPr>
              <a:xfrm>
                <a:off x="611280" y="3357720"/>
                <a:ext cx="28209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8"/>
              <p:cNvSpPr txBox="1"/>
              <p:nvPr/>
            </p:nvSpPr>
            <p:spPr>
              <a:xfrm>
                <a:off x="971640" y="3933720"/>
                <a:ext cx="23176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9"/>
              <p:cNvSpPr txBox="1"/>
              <p:nvPr/>
            </p:nvSpPr>
            <p:spPr>
              <a:xfrm>
                <a:off x="971640" y="4437000"/>
                <a:ext cx="23176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0"/>
              <p:cNvSpPr txBox="1"/>
              <p:nvPr/>
            </p:nvSpPr>
            <p:spPr>
              <a:xfrm>
                <a:off x="1908000" y="5516640"/>
                <a:ext cx="9763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Zaoblený obdélníkový popisek 16"/>
          <p:cNvSpPr/>
          <p:nvPr/>
        </p:nvSpPr>
        <p:spPr>
          <a:xfrm>
            <a:off x="4572000" y="4653000"/>
            <a:ext cx="3529080" cy="647640"/>
          </a:xfrm>
          <a:prstGeom prst="wedgeRoundRectCallout">
            <a:avLst>
              <a:gd name="adj1" fmla="val -72643"/>
              <a:gd name="adj2" fmla="val -46490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řičtení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k oběma stranám rovnice členu  3</a:t>
            </a:r>
            <a:r>
              <a:rPr b="0" i="1" lang="cs-CZ" sz="1800" spc="-1" strike="noStrike">
                <a:solidFill>
                  <a:srgbClr val="ffffff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a odečtení  99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0" name="Zaoblený obdélníkový popisek 17"/>
          <p:cNvSpPr/>
          <p:nvPr/>
        </p:nvSpPr>
        <p:spPr>
          <a:xfrm>
            <a:off x="4140360" y="5589720"/>
            <a:ext cx="3456000" cy="431640"/>
          </a:xfrm>
          <a:prstGeom prst="wedgeRoundRectCallout">
            <a:avLst>
              <a:gd name="adj1" fmla="val -67740"/>
              <a:gd name="adj2" fmla="val -54537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Vydělení 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celé rovnice číslem 12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17"/>
              <p:cNvSpPr txBox="1"/>
              <p:nvPr/>
            </p:nvSpPr>
            <p:spPr>
              <a:xfrm>
                <a:off x="2987640" y="260280"/>
                <a:ext cx="258768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18"/>
              <p:cNvSpPr txBox="1"/>
              <p:nvPr/>
            </p:nvSpPr>
            <p:spPr>
              <a:xfrm>
                <a:off x="1547640" y="5013360"/>
                <a:ext cx="14241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Zaoblený obdélníkový popisek 23"/>
          <p:cNvSpPr/>
          <p:nvPr/>
        </p:nvSpPr>
        <p:spPr>
          <a:xfrm>
            <a:off x="3995640" y="3357720"/>
            <a:ext cx="4392720" cy="1008000"/>
          </a:xfrm>
          <a:prstGeom prst="wedgeRoundRectCallout">
            <a:avLst>
              <a:gd name="adj1" fmla="val 5046"/>
              <a:gd name="adj2" fmla="val -117282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Vynásobení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celé rovnice nejmenším společným jmenovatelem  lomených výrazů, tj. (5</a:t>
            </a:r>
            <a:r>
              <a:rPr b="0" i="1" lang="cs-CZ" sz="1800" spc="-1" strike="noStrike">
                <a:solidFill>
                  <a:srgbClr val="ffffff"/>
                </a:solidFill>
                <a:latin typeface="Cambria"/>
              </a:rPr>
              <a:t> – x 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)(</a:t>
            </a:r>
            <a:r>
              <a:rPr b="0" i="1" lang="cs-CZ" sz="1800" spc="-1" strike="noStrike">
                <a:solidFill>
                  <a:srgbClr val="ffffff"/>
                </a:solidFill>
                <a:latin typeface="Cambria"/>
              </a:rPr>
              <a:t>x 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+ 11)</a:t>
            </a:r>
            <a:r>
              <a:rPr b="0" i="1" lang="cs-CZ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a jejich krácení 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4" name="TextovéPole 24"/>
          <p:cNvSpPr/>
          <p:nvPr/>
        </p:nvSpPr>
        <p:spPr>
          <a:xfrm>
            <a:off x="1042920" y="256536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Pozn.: Rovnici můžeme násobit pouze nenulovými výrazy, proto stanovíme podmínky: x </a:t>
            </a:r>
            <a:r>
              <a:rPr b="0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 5 a x </a:t>
            </a:r>
            <a:r>
              <a:rPr b="0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 - 11 !!!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9"/>
              <p:cNvSpPr txBox="1"/>
              <p:nvPr/>
            </p:nvSpPr>
            <p:spPr>
              <a:xfrm>
                <a:off x="468360" y="1628640"/>
                <a:ext cx="60469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6" name="Object 11"/>
              <p:cNvSpPr txBox="1"/>
              <p:nvPr/>
            </p:nvSpPr>
            <p:spPr>
              <a:xfrm>
                <a:off x="611280" y="1197000"/>
                <a:ext cx="298764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TextovéPole 11"/>
          <p:cNvSpPr/>
          <p:nvPr/>
        </p:nvSpPr>
        <p:spPr>
          <a:xfrm>
            <a:off x="519120" y="7318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Zkouška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2"/>
              <p:cNvSpPr txBox="1"/>
              <p:nvPr/>
            </p:nvSpPr>
            <p:spPr>
              <a:xfrm>
                <a:off x="539640" y="2060640"/>
                <a:ext cx="24577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3"/>
              <p:cNvSpPr txBox="1"/>
              <p:nvPr/>
            </p:nvSpPr>
            <p:spPr>
              <a:xfrm>
                <a:off x="539640" y="3141720"/>
                <a:ext cx="8654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Zaoblený obdélníkový popisek 5"/>
          <p:cNvSpPr/>
          <p:nvPr/>
        </p:nvSpPr>
        <p:spPr>
          <a:xfrm>
            <a:off x="4716360" y="1341360"/>
            <a:ext cx="3168720" cy="647640"/>
          </a:xfrm>
          <a:prstGeom prst="wedgeRoundRectCallout">
            <a:avLst>
              <a:gd name="adj1" fmla="val -81810"/>
              <a:gd name="adj2" fmla="val 78430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Dosazení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výsledku do výrazů obou stran rovnic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1" name="Zaoblený obdélníkový popisek 6"/>
          <p:cNvSpPr/>
          <p:nvPr/>
        </p:nvSpPr>
        <p:spPr>
          <a:xfrm>
            <a:off x="2124000" y="3357720"/>
            <a:ext cx="3168720" cy="502920"/>
          </a:xfrm>
          <a:prstGeom prst="wedgeRoundRectCallout">
            <a:avLst>
              <a:gd name="adj1" fmla="val -67189"/>
              <a:gd name="adj2" fmla="val -37129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L = P 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kořen rovnice je 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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-7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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12" name="Obrázek 40" descr="zatržítko.JPG"/>
          <p:cNvPicPr/>
          <p:nvPr/>
        </p:nvPicPr>
        <p:blipFill>
          <a:blip r:embed="rId1"/>
          <a:stretch/>
        </p:blipFill>
        <p:spPr>
          <a:xfrm>
            <a:off x="6516720" y="4076640"/>
            <a:ext cx="1033560" cy="1082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" name="Object 17"/>
              <p:cNvSpPr txBox="1"/>
              <p:nvPr/>
            </p:nvSpPr>
            <p:spPr>
              <a:xfrm>
                <a:off x="5324400" y="4365720"/>
                <a:ext cx="13143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2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Zástupný symbol pro obsah 3"/>
              <p:cNvSpPr txBox="1"/>
              <p:nvPr/>
            </p:nvSpPr>
            <p:spPr>
              <a:xfrm>
                <a:off x="3005280" y="523800"/>
                <a:ext cx="396216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5"/>
              <p:cNvSpPr txBox="1"/>
              <p:nvPr/>
            </p:nvSpPr>
            <p:spPr>
              <a:xfrm>
                <a:off x="468360" y="1989000"/>
                <a:ext cx="7907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6"/>
              <p:cNvSpPr txBox="1"/>
              <p:nvPr/>
            </p:nvSpPr>
            <p:spPr>
              <a:xfrm>
                <a:off x="2916360" y="3213000"/>
                <a:ext cx="46321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TextovéPole 24"/>
          <p:cNvSpPr/>
          <p:nvPr/>
        </p:nvSpPr>
        <p:spPr>
          <a:xfrm>
            <a:off x="826920" y="393372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Pozn.: Rovnici můžeme násobit pouze nenulovými výrazy, proto stanovíme podmínky: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  <a:ea typeface="Times New Roman"/>
              </a:rPr>
              <a:t>x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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  <a:ea typeface="Times New Roman"/>
              </a:rPr>
              <a:t> 3 a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  <a:ea typeface="Times New Roman"/>
              </a:rPr>
              <a:t>x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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  <a:ea typeface="Times New Roman"/>
              </a:rPr>
              <a:t> -3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!!!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9" name="Zaoblený obdélníkový popisek 24"/>
          <p:cNvSpPr/>
          <p:nvPr/>
        </p:nvSpPr>
        <p:spPr>
          <a:xfrm>
            <a:off x="1619280" y="4941720"/>
            <a:ext cx="6553080" cy="863640"/>
          </a:xfrm>
          <a:prstGeom prst="wedgeRoundRectCallout">
            <a:avLst>
              <a:gd name="adj1" fmla="val 49750"/>
              <a:gd name="adj2" fmla="val -227055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Vynásobení 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celé rovnice nejmenším společným jmenovatelem  lomených výrazů, tj. (</a:t>
            </a:r>
            <a:r>
              <a:rPr b="0" i="1" lang="cs-CZ" sz="1800" spc="-1" strike="noStrike">
                <a:solidFill>
                  <a:srgbClr val="ffffff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- 3)(</a:t>
            </a:r>
            <a:r>
              <a:rPr b="0" i="1" lang="cs-CZ" sz="1800" spc="-1" strike="noStrike">
                <a:solidFill>
                  <a:srgbClr val="ffffff"/>
                </a:solidFill>
                <a:latin typeface="Cambria"/>
              </a:rPr>
              <a:t>x 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+ 3)</a:t>
            </a:r>
            <a:r>
              <a:rPr b="0" i="1" lang="cs-CZ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a jejich krácení 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ovéPole 4"/>
          <p:cNvSpPr/>
          <p:nvPr/>
        </p:nvSpPr>
        <p:spPr>
          <a:xfrm>
            <a:off x="539640" y="3716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Zkouška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539640" y="4221000"/>
                <a:ext cx="64245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5"/>
              <p:cNvSpPr txBox="1"/>
              <p:nvPr/>
            </p:nvSpPr>
            <p:spPr>
              <a:xfrm>
                <a:off x="539640" y="5084640"/>
                <a:ext cx="212256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6"/>
              <p:cNvSpPr txBox="1"/>
              <p:nvPr/>
            </p:nvSpPr>
            <p:spPr>
              <a:xfrm>
                <a:off x="538200" y="6021360"/>
                <a:ext cx="86508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Zaoblený obdélníkový popisek 8"/>
          <p:cNvSpPr/>
          <p:nvPr/>
        </p:nvSpPr>
        <p:spPr>
          <a:xfrm>
            <a:off x="4211640" y="5373720"/>
            <a:ext cx="3457440" cy="719280"/>
          </a:xfrm>
          <a:prstGeom prst="wedgeRoundRectCallout">
            <a:avLst>
              <a:gd name="adj1" fmla="val -4180"/>
              <a:gd name="adj2" fmla="val -119379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Dosazení 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výsledku do výrazů obou stran rovnic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5" name="Zaoblený obdélníkový popisek 9"/>
          <p:cNvSpPr/>
          <p:nvPr/>
        </p:nvSpPr>
        <p:spPr>
          <a:xfrm>
            <a:off x="2124000" y="6021360"/>
            <a:ext cx="3095640" cy="503280"/>
          </a:xfrm>
          <a:prstGeom prst="wedgeRoundRectCallout">
            <a:avLst>
              <a:gd name="adj1" fmla="val -71000"/>
              <a:gd name="adj2" fmla="val -16402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L = P 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kořen rovnice je 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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5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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7"/>
              <p:cNvSpPr txBox="1"/>
              <p:nvPr/>
            </p:nvSpPr>
            <p:spPr>
              <a:xfrm>
                <a:off x="2340000" y="981000"/>
                <a:ext cx="26067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8"/>
              <p:cNvSpPr txBox="1"/>
              <p:nvPr/>
            </p:nvSpPr>
            <p:spPr>
              <a:xfrm>
                <a:off x="2843280" y="1989000"/>
                <a:ext cx="15415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9"/>
              <p:cNvSpPr txBox="1"/>
              <p:nvPr/>
            </p:nvSpPr>
            <p:spPr>
              <a:xfrm>
                <a:off x="3276720" y="2421000"/>
                <a:ext cx="7556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Zaoblený obdélníkový popisek 12"/>
          <p:cNvSpPr/>
          <p:nvPr/>
        </p:nvSpPr>
        <p:spPr>
          <a:xfrm>
            <a:off x="4427640" y="2492280"/>
            <a:ext cx="3313080" cy="432000"/>
          </a:xfrm>
          <a:prstGeom prst="wedgeRoundRectCallout">
            <a:avLst>
              <a:gd name="adj1" fmla="val -40236"/>
              <a:gd name="adj2" fmla="val -167810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řičtení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výrazu 3</a:t>
            </a:r>
            <a:r>
              <a:rPr b="0" i="1" lang="cs-CZ" sz="1800" spc="-1" strike="noStrike">
                <a:solidFill>
                  <a:srgbClr val="ffffff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,  odečtení 2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0" name="Zaoblený obdélníkový popisek 13"/>
          <p:cNvSpPr/>
          <p:nvPr/>
        </p:nvSpPr>
        <p:spPr>
          <a:xfrm>
            <a:off x="3635280" y="3213000"/>
            <a:ext cx="3457800" cy="432000"/>
          </a:xfrm>
          <a:prstGeom prst="wedgeRoundRectCallout">
            <a:avLst>
              <a:gd name="adj1" fmla="val -50379"/>
              <a:gd name="adj2" fmla="val -136509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Vydělení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celé rovnice číslem -4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3"/>
              <p:cNvSpPr txBox="1"/>
              <p:nvPr/>
            </p:nvSpPr>
            <p:spPr>
              <a:xfrm>
                <a:off x="2195640" y="1484280"/>
                <a:ext cx="26334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12"/>
              <p:cNvSpPr txBox="1"/>
              <p:nvPr/>
            </p:nvSpPr>
            <p:spPr>
              <a:xfrm>
                <a:off x="611280" y="476280"/>
                <a:ext cx="53546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Zaoblený obdélníkový popisek 15"/>
          <p:cNvSpPr/>
          <p:nvPr/>
        </p:nvSpPr>
        <p:spPr>
          <a:xfrm>
            <a:off x="6659640" y="476280"/>
            <a:ext cx="1657440" cy="576360"/>
          </a:xfrm>
          <a:prstGeom prst="wedgeRoundRectCallout">
            <a:avLst>
              <a:gd name="adj1" fmla="val -90560"/>
              <a:gd name="adj2" fmla="val 453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Roznásobení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výrazů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4" name="Zaoblený obdélníkový popisek 17"/>
          <p:cNvSpPr/>
          <p:nvPr/>
        </p:nvSpPr>
        <p:spPr>
          <a:xfrm>
            <a:off x="5724360" y="1197000"/>
            <a:ext cx="2592720" cy="1152360"/>
          </a:xfrm>
          <a:prstGeom prst="wedgeRoundRectCallout">
            <a:avLst>
              <a:gd name="adj1" fmla="val -77300"/>
              <a:gd name="adj2" fmla="val -48865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Odečtení 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od obou stran rovnice výrazu </a:t>
            </a:r>
            <a:r>
              <a:rPr b="0" i="1" lang="cs-CZ" sz="1800" spc="-1" strike="noStrike">
                <a:solidFill>
                  <a:srgbClr val="ffffff"/>
                </a:solidFill>
                <a:latin typeface="Cambria"/>
              </a:rPr>
              <a:t>x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Cambria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zjednodušení  levé  a pravé strany rovnic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35" name="Obrázek 40" descr="zatržítko.JPG"/>
          <p:cNvPicPr/>
          <p:nvPr/>
        </p:nvPicPr>
        <p:blipFill>
          <a:blip r:embed="rId1"/>
          <a:stretch/>
        </p:blipFill>
        <p:spPr>
          <a:xfrm>
            <a:off x="1476360" y="2492280"/>
            <a:ext cx="1033560" cy="1082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6" name="Object 17"/>
              <p:cNvSpPr txBox="1"/>
              <p:nvPr/>
            </p:nvSpPr>
            <p:spPr>
              <a:xfrm>
                <a:off x="409680" y="2781360"/>
                <a:ext cx="10620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3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2"/>
              <p:cNvSpPr txBox="1"/>
              <p:nvPr/>
            </p:nvSpPr>
            <p:spPr>
              <a:xfrm>
                <a:off x="2916360" y="260280"/>
                <a:ext cx="40384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Zaoblený obdélníkový popisek 4"/>
          <p:cNvSpPr/>
          <p:nvPr/>
        </p:nvSpPr>
        <p:spPr>
          <a:xfrm>
            <a:off x="4643280" y="1700280"/>
            <a:ext cx="3673800" cy="1224000"/>
          </a:xfrm>
          <a:prstGeom prst="wedgeRoundRectCallout">
            <a:avLst>
              <a:gd name="adj1" fmla="val -63046"/>
              <a:gd name="adj2" fmla="val -16606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Vynásobení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celé rovnice nejmenším společným jmenovatelem  lomených výrazů, tj. (</a:t>
            </a:r>
            <a:r>
              <a:rPr b="0" i="1" lang="cs-CZ" sz="1800" spc="-1" strike="noStrike">
                <a:solidFill>
                  <a:srgbClr val="ffffff"/>
                </a:solidFill>
                <a:latin typeface="Cambria"/>
              </a:rPr>
              <a:t>x 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- 2)(</a:t>
            </a:r>
            <a:r>
              <a:rPr b="0" i="1" lang="cs-CZ" sz="1800" spc="-1" strike="noStrike">
                <a:solidFill>
                  <a:srgbClr val="ffffff"/>
                </a:solidFill>
                <a:latin typeface="Cambria"/>
              </a:rPr>
              <a:t>x 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+ 2)</a:t>
            </a:r>
            <a:r>
              <a:rPr b="0" i="1" lang="cs-CZ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a jejich krácení 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3"/>
              <p:cNvSpPr txBox="1"/>
              <p:nvPr/>
            </p:nvSpPr>
            <p:spPr>
              <a:xfrm>
                <a:off x="709560" y="1989000"/>
                <a:ext cx="3492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1258920" y="3716280"/>
                <a:ext cx="29685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5"/>
              <p:cNvSpPr txBox="1"/>
              <p:nvPr/>
            </p:nvSpPr>
            <p:spPr>
              <a:xfrm>
                <a:off x="2195640" y="4221000"/>
                <a:ext cx="201924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843280" y="4653000"/>
                <a:ext cx="7556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TextovéPole 24"/>
          <p:cNvSpPr/>
          <p:nvPr/>
        </p:nvSpPr>
        <p:spPr>
          <a:xfrm>
            <a:off x="1258920" y="29973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Pozn.: Rovnici můžeme násobit pouze nenulovými výrazy, proto stanovíme podmínky: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  <a:ea typeface="Times New Roman"/>
              </a:rPr>
              <a:t>x </a:t>
            </a:r>
            <a:r>
              <a:rPr b="1" i="1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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  <a:ea typeface="Times New Roman"/>
              </a:rPr>
              <a:t> 2 a x </a:t>
            </a:r>
            <a:r>
              <a:rPr b="1" i="1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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  <a:ea typeface="Times New Roman"/>
              </a:rPr>
              <a:t> -2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!!!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5" name="Zaoblený obdélníkový popisek 10"/>
          <p:cNvSpPr/>
          <p:nvPr/>
        </p:nvSpPr>
        <p:spPr>
          <a:xfrm>
            <a:off x="5364000" y="3860640"/>
            <a:ext cx="2376720" cy="1008360"/>
          </a:xfrm>
          <a:prstGeom prst="wedgeRoundRectCallout">
            <a:avLst>
              <a:gd name="adj1" fmla="val -99972"/>
              <a:gd name="adj2" fmla="val -23083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Odstranění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závorek, zjednodušení obou stran rovnic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6" name="Zaoblený obdélníkový popisek 11"/>
          <p:cNvSpPr/>
          <p:nvPr/>
        </p:nvSpPr>
        <p:spPr>
          <a:xfrm>
            <a:off x="1476360" y="5229360"/>
            <a:ext cx="4608360" cy="647640"/>
          </a:xfrm>
          <a:prstGeom prst="wedgeRoundRectCallout">
            <a:avLst>
              <a:gd name="adj1" fmla="val -11550"/>
              <a:gd name="adj2" fmla="val -79009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0 = 0 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rovnice má nekonečně mnoho řešení, tj. kořenem rovnice je R  \ 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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2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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ovéPole 4"/>
          <p:cNvSpPr/>
          <p:nvPr/>
        </p:nvSpPr>
        <p:spPr>
          <a:xfrm>
            <a:off x="611280" y="549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Zkouška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611280" y="4508640"/>
                <a:ext cx="514512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611280" y="1844640"/>
                <a:ext cx="28209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971640" y="2781360"/>
                <a:ext cx="86508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Zaoblený obdélníkový popisek 5"/>
          <p:cNvSpPr/>
          <p:nvPr/>
        </p:nvSpPr>
        <p:spPr>
          <a:xfrm>
            <a:off x="5219640" y="1916280"/>
            <a:ext cx="2952720" cy="1008000"/>
          </a:xfrm>
          <a:prstGeom prst="wedgeRoundRectCallout">
            <a:avLst>
              <a:gd name="adj1" fmla="val -98699"/>
              <a:gd name="adj2" fmla="val -33064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Dosazení 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libovolného čísla z množiny R  \ 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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2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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do výrazů obou stran rovnic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5"/>
              <p:cNvSpPr txBox="1"/>
              <p:nvPr/>
            </p:nvSpPr>
            <p:spPr>
              <a:xfrm>
                <a:off x="611280" y="1052640"/>
                <a:ext cx="4560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8"/>
              <p:cNvSpPr txBox="1"/>
              <p:nvPr/>
            </p:nvSpPr>
            <p:spPr>
              <a:xfrm>
                <a:off x="611280" y="5445000"/>
                <a:ext cx="40510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8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7"/>
              <p:cNvSpPr txBox="1"/>
              <p:nvPr/>
            </p:nvSpPr>
            <p:spPr>
              <a:xfrm>
                <a:off x="1116000" y="3357720"/>
                <a:ext cx="317016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!!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8"/>
              <p:cNvSpPr txBox="1"/>
              <p:nvPr/>
            </p:nvSpPr>
            <p:spPr>
              <a:xfrm>
                <a:off x="4643280" y="3357720"/>
                <a:ext cx="32115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!!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Opakování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1199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Řešte rovnici v množině R: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1199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 množině Z určete všechna řešení rovnice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601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Rovnici řešte v N: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901"/>
              </a:spcBef>
              <a:buClr>
                <a:srgbClr val="a9a57c"/>
              </a:buClr>
              <a:buFont typeface="Cambri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Řešte rovnici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a správnost výsledku ověřte zkouškou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1199"/>
              </a:spcBef>
              <a:buClr>
                <a:srgbClr val="a9a57c"/>
              </a:buClr>
              <a:buFont typeface="Cambri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Ověřte, zda 3 je kořenem rovnice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buClr>
                <a:srgbClr val="a9a57c"/>
              </a:buClr>
              <a:buFont typeface="Cambri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ýsledky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1)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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-5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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 2) nemá řešení,  3) nemá řešení,  4)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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3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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 5) ano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4427640" y="1484280"/>
                <a:ext cx="16621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5"/>
              <p:cNvSpPr txBox="1"/>
              <p:nvPr/>
            </p:nvSpPr>
            <p:spPr>
              <a:xfrm>
                <a:off x="6443640" y="1989000"/>
                <a:ext cx="140328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3348000" y="2492280"/>
                <a:ext cx="2386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7"/>
              <p:cNvSpPr txBox="1"/>
              <p:nvPr/>
            </p:nvSpPr>
            <p:spPr>
              <a:xfrm>
                <a:off x="2771640" y="3213000"/>
                <a:ext cx="231804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8"/>
              <p:cNvSpPr txBox="1"/>
              <p:nvPr/>
            </p:nvSpPr>
            <p:spPr>
              <a:xfrm>
                <a:off x="5003640" y="4149720"/>
                <a:ext cx="32720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Admin</cp:lastModifiedBy>
  <dcterms:modified xsi:type="dcterms:W3CDTF">2014-04-13T15:25:59Z</dcterms:modified>
  <cp:revision>129</cp:revision>
  <dc:subject/>
  <dc:title>Název</dc:title>
</cp:coreProperties>
</file>