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3DF6-980C-4C5D-BAA3-FB867543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521A-28F0-474A-B2A2-8B453F96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9C38-C540-44A8-AF3D-90E88F8B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10E1-F2D8-4340-9866-ACB7C9DB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DC41-AD39-4052-A709-0526276C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F4B6-852B-4F81-8DF6-205E5AA5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558A-7D98-4A05-89D3-3D9B9AAF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E7D5-6752-4485-9DE2-55807768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8AC3-6866-4CB9-AFE8-3C85749B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9375-7223-4985-94CB-4B510F6C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860A-640E-4EFE-8A9D-A079C24D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AD5B-5ECD-485E-9C68-C17ECFE9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D845-DEB7-4290-9D91-8EAF2340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D8AB-6412-4CEA-9042-2A6A99EC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AA82-D024-4C09-909E-224ED6BF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5473-0775-4D49-AA96-AFCE04F5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0E4D-A30A-4202-8605-2E07FABF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1897-D2EA-42D1-9507-3F7EED5B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2678-19F8-45A3-AE3B-5502E33C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5B70-EF27-4FAF-BFB4-884ED64C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DF00-5978-4384-861E-757FA0C9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4DF9-D67F-436D-AFA8-B4073772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0C32-66BC-41BA-9224-300523F9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E8AF-076B-41DD-A105-C671EC1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8315-E5BB-4223-9D4D-BCA4BBCA3E63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8438-B90E-4428-BFAA-DCDD16F9A1E2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5204-8F00-45C2-99A3-204C7AC44B30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8ECC-47F4-423E-BCA3-EEA8D8CAC391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Nerovnice s absolutní hodnotou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bdélník 54"/>
          <p:cNvSpPr/>
          <p:nvPr/>
        </p:nvSpPr>
        <p:spPr>
          <a:xfrm>
            <a:off x="611280" y="981000"/>
            <a:ext cx="756108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Množina všech řešení nerovnice v R je dána sjednocením množin K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Cambria"/>
              </a:rPr>
              <a:t>1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, K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Cambria"/>
              </a:rPr>
              <a:t>2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, K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Cambria"/>
              </a:rPr>
              <a:t>3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1187280" y="1628640"/>
                <a:ext cx="6471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2,4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000" y="1557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řaďte správné řešení nerovnice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5"/>
              <p:cNvSpPr txBox="1"/>
              <p:nvPr/>
            </p:nvSpPr>
            <p:spPr>
              <a:xfrm>
                <a:off x="1692360" y="2158920"/>
                <a:ext cx="1047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≤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1690560" y="2708280"/>
                <a:ext cx="1176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692360" y="3681360"/>
                <a:ext cx="1133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1692360" y="3213000"/>
                <a:ext cx="6890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1692360" y="4221000"/>
                <a:ext cx="15094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1692360" y="4797360"/>
                <a:ext cx="14875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1"/>
              <p:cNvSpPr txBox="1"/>
              <p:nvPr/>
            </p:nvSpPr>
            <p:spPr>
              <a:xfrm>
                <a:off x="5292720" y="2158920"/>
                <a:ext cx="777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3"/>
              <p:cNvSpPr txBox="1"/>
              <p:nvPr/>
            </p:nvSpPr>
            <p:spPr>
              <a:xfrm>
                <a:off x="5545080" y="3681360"/>
                <a:ext cx="2890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4"/>
              <p:cNvSpPr txBox="1"/>
              <p:nvPr/>
            </p:nvSpPr>
            <p:spPr>
              <a:xfrm>
                <a:off x="4678200" y="2708280"/>
                <a:ext cx="1909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5"/>
              <p:cNvSpPr txBox="1"/>
              <p:nvPr/>
            </p:nvSpPr>
            <p:spPr>
              <a:xfrm>
                <a:off x="4753080" y="4221000"/>
                <a:ext cx="17985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6"/>
              <p:cNvSpPr txBox="1"/>
              <p:nvPr/>
            </p:nvSpPr>
            <p:spPr>
              <a:xfrm>
                <a:off x="5361120" y="4724280"/>
                <a:ext cx="8222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7"/>
              <p:cNvSpPr txBox="1"/>
              <p:nvPr/>
            </p:nvSpPr>
            <p:spPr>
              <a:xfrm>
                <a:off x="5292720" y="3213000"/>
                <a:ext cx="9777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71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1. vydání: ISBN 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f2b2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NEROVNICE S ABSOLUTNÍ HODNOTOU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9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Nerovnice s absolutní hodnotou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Lineární nerovnice s jednou absolutní hodnotou lze řešit stejně jako rovnice z pohledu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geometrického významu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absolutní hodnoty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eálného čísla, tj. vzdálenosti obrazu tohoto čísla od počátku na číselné ose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př.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erovnice s více absolutními hodnotami je rovněž vhodné řešit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metodou nulových bodů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př.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3203640" y="3213000"/>
                <a:ext cx="1289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3290760" y="5084640"/>
                <a:ext cx="2371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ek 40" descr="zatržítko.JPG"/>
          <p:cNvPicPr/>
          <p:nvPr/>
        </p:nvPicPr>
        <p:blipFill>
          <a:blip r:embed="rId1"/>
          <a:srcRect l="6951" t="13314" r="16463" b="13605"/>
          <a:stretch/>
        </p:blipFill>
        <p:spPr>
          <a:xfrm>
            <a:off x="7667640" y="5084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132000" y="476280"/>
                <a:ext cx="1792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Zaoblený obdélníkový popisek 3"/>
          <p:cNvSpPr/>
          <p:nvPr/>
        </p:nvSpPr>
        <p:spPr>
          <a:xfrm>
            <a:off x="4572000" y="1341360"/>
            <a:ext cx="3672000" cy="1150920"/>
          </a:xfrm>
          <a:prstGeom prst="wedgeRoundRectCallout">
            <a:avLst>
              <a:gd name="adj1" fmla="val -56629"/>
              <a:gd name="adj2" fmla="val 10730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Nejprve učíme nulový bod, kterým rozdělíme množinu reálných čísel na dva intervaly a v každém z nich nerovnici vyřešíme zvlášť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2" name="Zaoblený obdélníkový popisek 4"/>
          <p:cNvSpPr/>
          <p:nvPr/>
        </p:nvSpPr>
        <p:spPr>
          <a:xfrm>
            <a:off x="684360" y="4797360"/>
            <a:ext cx="4535280" cy="1152720"/>
          </a:xfrm>
          <a:prstGeom prst="wedgeRoundRectCallout">
            <a:avLst>
              <a:gd name="adj1" fmla="val 37347"/>
              <a:gd name="adj2" fmla="val -92393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Jinými slovy: </a:t>
            </a:r>
            <a:r>
              <a:rPr b="1" lang="cs-CZ" sz="1800" spc="-1" strike="noStrike">
                <a:solidFill>
                  <a:srgbClr val="2f2b20"/>
                </a:solidFill>
                <a:latin typeface="Cambria"/>
              </a:rPr>
              <a:t>počátek číselné osy posuneme 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o nulového bodu a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hledáme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 taková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, která jsou podle předpisu od něj vzdálena více než dvě jednotky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5565600" y="4869000"/>
                <a:ext cx="25988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4" name="Skupina 38"/>
          <p:cNvGrpSpPr/>
          <p:nvPr/>
        </p:nvGrpSpPr>
        <p:grpSpPr>
          <a:xfrm>
            <a:off x="971280" y="2852640"/>
            <a:ext cx="6480720" cy="1544760"/>
            <a:chOff x="971280" y="2852640"/>
            <a:chExt cx="6480720" cy="1544760"/>
          </a:xfrm>
        </p:grpSpPr>
        <p:sp>
          <p:nvSpPr>
            <p:cNvPr id="105" name="Přímá spojovací čára 6"/>
            <p:cNvSpPr/>
            <p:nvPr/>
          </p:nvSpPr>
          <p:spPr>
            <a:xfrm>
              <a:off x="1692360" y="3716280"/>
              <a:ext cx="504036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6" name="Přímá spojovací čára 8"/>
            <p:cNvSpPr/>
            <p:nvPr/>
          </p:nvSpPr>
          <p:spPr>
            <a:xfrm>
              <a:off x="4213080" y="3500280"/>
              <a:ext cx="0" cy="36036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3"/>
                <p:cNvSpPr txBox="1"/>
                <p:nvPr/>
              </p:nvSpPr>
              <p:spPr>
                <a:xfrm>
                  <a:off x="4102560" y="4005360"/>
                  <a:ext cx="2523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Přímá spojovací čára 10"/>
            <p:cNvSpPr/>
            <p:nvPr/>
          </p:nvSpPr>
          <p:spPr>
            <a:xfrm>
              <a:off x="5651640" y="2997000"/>
              <a:ext cx="0" cy="90036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9" name="Přímá spojovací čára 11"/>
            <p:cNvSpPr/>
            <p:nvPr/>
          </p:nvSpPr>
          <p:spPr>
            <a:xfrm>
              <a:off x="2771640" y="2997000"/>
              <a:ext cx="0" cy="90036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4"/>
                <p:cNvSpPr txBox="1"/>
                <p:nvPr/>
              </p:nvSpPr>
              <p:spPr>
                <a:xfrm>
                  <a:off x="5545440" y="4005360"/>
                  <a:ext cx="2793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Object 5"/>
                <p:cNvSpPr txBox="1"/>
                <p:nvPr/>
              </p:nvSpPr>
              <p:spPr>
                <a:xfrm>
                  <a:off x="2662560" y="4005360"/>
                  <a:ext cx="2523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Oblouk 15"/>
            <p:cNvSpPr/>
            <p:nvPr/>
          </p:nvSpPr>
          <p:spPr>
            <a:xfrm>
              <a:off x="2771640" y="3284280"/>
              <a:ext cx="1441440" cy="504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504720"/>
                <a:gd name="textAreaBottom" fmla="*/ 252360 h 504720"/>
              </a:gdLst>
              <a:ahLst/>
              <a:rect l="textAreaLeft" t="textAreaTop" r="textAreaRight" b="textAreaBottom"/>
              <a:pathLst>
                <a:path stroke="0" w="1441527" h="504825">
                  <a:moveTo>
                    <a:pt x="24" y="250359"/>
                  </a:moveTo>
                  <a:lnTo>
                    <a:pt x="24" y="250359"/>
                  </a:lnTo>
                  <a:arcTo wR="720764" hR="252413" stAng="-10790203" swAng="10790208"/>
                  <a:lnTo>
                    <a:pt x="720764" y="252413"/>
                  </a:lnTo>
                  <a:close/>
                </a:path>
                <a:path fill="none" w="1441527" h="504825">
                  <a:moveTo>
                    <a:pt x="24" y="250359"/>
                  </a:moveTo>
                  <a:lnTo>
                    <a:pt x="24" y="250359"/>
                  </a:lnTo>
                  <a:arcTo wR="720764" hR="252413" stAng="-10790203" swAng="10790208"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3" name="Oblouk 16"/>
            <p:cNvSpPr/>
            <p:nvPr/>
          </p:nvSpPr>
          <p:spPr>
            <a:xfrm flipH="1">
              <a:off x="4212360" y="3284280"/>
              <a:ext cx="1439640" cy="504720"/>
            </a:xfrm>
            <a:custGeom>
              <a:avLst/>
              <a:gdLst>
                <a:gd name="textAreaLeft" fmla="*/ 0 w 1439640"/>
                <a:gd name="textAreaRight" fmla="*/ 1439640 w 1439640"/>
                <a:gd name="textAreaTop" fmla="*/ 0 h 504720"/>
                <a:gd name="textAreaBottom" fmla="*/ 252360 h 504720"/>
              </a:gdLst>
              <a:ahLst/>
              <a:rect l="textAreaLeft" t="textAreaTop" r="textAreaRight" b="textAreaBottom"/>
              <a:pathLst>
                <a:path stroke="0" w="1439940" h="504825">
                  <a:moveTo>
                    <a:pt x="24" y="250361"/>
                  </a:moveTo>
                  <a:lnTo>
                    <a:pt x="24" y="250361"/>
                  </a:lnTo>
                  <a:arcTo wR="719970" hR="252413" stAng="-10790202" swAng="10790206"/>
                  <a:lnTo>
                    <a:pt x="719970" y="252413"/>
                  </a:lnTo>
                  <a:close/>
                </a:path>
                <a:path fill="none" w="1439940" h="504825">
                  <a:moveTo>
                    <a:pt x="24" y="250361"/>
                  </a:moveTo>
                  <a:lnTo>
                    <a:pt x="24" y="250361"/>
                  </a:lnTo>
                  <a:arcTo wR="719970" hR="252413" stAng="-10790202" swAng="10790206"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Object 6"/>
                <p:cNvSpPr txBox="1"/>
                <p:nvPr/>
              </p:nvSpPr>
              <p:spPr>
                <a:xfrm>
                  <a:off x="4716360" y="2852640"/>
                  <a:ext cx="5331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Object 7"/>
                <p:cNvSpPr txBox="1"/>
                <p:nvPr/>
              </p:nvSpPr>
              <p:spPr>
                <a:xfrm>
                  <a:off x="3204360" y="2852640"/>
                  <a:ext cx="50292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16" name="Přímá spojovací šipka 21"/>
            <p:cNvCxnSpPr/>
            <p:nvPr/>
          </p:nvCxnSpPr>
          <p:spPr>
            <a:xfrm>
              <a:off x="5651640" y="2994840"/>
              <a:ext cx="180072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tailEnd len="med" type="arrow" w="med"/>
            </a:ln>
          </p:spPr>
        </p:cxnSp>
        <p:cxnSp>
          <p:nvCxnSpPr>
            <p:cNvPr id="117" name="Přímá spojovací šipka 22"/>
            <p:cNvCxnSpPr/>
            <p:nvPr/>
          </p:nvCxnSpPr>
          <p:spPr>
            <a:xfrm flipH="1">
              <a:off x="971280" y="2994840"/>
              <a:ext cx="180072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tailEnd len="med" type="arrow" w="med"/>
            </a:ln>
          </p:spPr>
        </p:cxnSp>
        <p:sp>
          <p:nvSpPr>
            <p:cNvPr id="118" name="Elipsa 23"/>
            <p:cNvSpPr/>
            <p:nvPr/>
          </p:nvSpPr>
          <p:spPr>
            <a:xfrm>
              <a:off x="5580000" y="2923920"/>
              <a:ext cx="179280" cy="180720"/>
            </a:xfrm>
            <a:prstGeom prst="ellipse">
              <a:avLst/>
            </a:pr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9" name="Elipsa 24"/>
            <p:cNvSpPr/>
            <p:nvPr/>
          </p:nvSpPr>
          <p:spPr>
            <a:xfrm>
              <a:off x="2663640" y="2923920"/>
              <a:ext cx="179280" cy="180720"/>
            </a:xfrm>
            <a:prstGeom prst="ellipse">
              <a:avLst/>
            </a:pr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rázek 40" descr="zatržítko.JPG"/>
          <p:cNvPicPr/>
          <p:nvPr/>
        </p:nvPicPr>
        <p:blipFill>
          <a:blip r:embed="rId1"/>
          <a:srcRect l="6951" t="13314" r="16463" b="13605"/>
          <a:stretch/>
        </p:blipFill>
        <p:spPr>
          <a:xfrm>
            <a:off x="7596360" y="530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40" descr="zatržítko.JPG"/>
          <p:cNvPicPr/>
          <p:nvPr/>
        </p:nvPicPr>
        <p:blipFill>
          <a:blip r:embed="rId2"/>
          <a:srcRect l="6951" t="13314" r="16463" b="13605"/>
          <a:stretch/>
        </p:blipFill>
        <p:spPr>
          <a:xfrm>
            <a:off x="7524720" y="1916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22" name="Obrázek 40" descr="zatržítko.JPG"/>
          <p:cNvPicPr/>
          <p:nvPr/>
        </p:nvPicPr>
        <p:blipFill>
          <a:blip r:embed="rId3"/>
          <a:srcRect l="6951" t="13314" r="16463" b="13605"/>
          <a:stretch/>
        </p:blipFill>
        <p:spPr>
          <a:xfrm>
            <a:off x="7524720" y="1125360"/>
            <a:ext cx="792360" cy="790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  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3132000" y="476280"/>
                <a:ext cx="1792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4991040" y="981000"/>
                <a:ext cx="2652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Nadpis 1"/>
          <p:cNvSpPr/>
          <p:nvPr/>
        </p:nvSpPr>
        <p:spPr>
          <a:xfrm>
            <a:off x="457200" y="1619280"/>
            <a:ext cx="76201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  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3130560" y="1841400"/>
                <a:ext cx="1792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" name="Skupina 71"/>
          <p:cNvGrpSpPr/>
          <p:nvPr/>
        </p:nvGrpSpPr>
        <p:grpSpPr>
          <a:xfrm>
            <a:off x="1619280" y="2708280"/>
            <a:ext cx="5040360" cy="2246400"/>
            <a:chOff x="1619280" y="2708280"/>
            <a:chExt cx="5040360" cy="2246400"/>
          </a:xfrm>
        </p:grpSpPr>
        <p:sp>
          <p:nvSpPr>
            <p:cNvPr id="129" name="Přímá spojovací čára 13"/>
            <p:cNvSpPr/>
            <p:nvPr/>
          </p:nvSpPr>
          <p:spPr>
            <a:xfrm>
              <a:off x="1619280" y="4084560"/>
              <a:ext cx="504036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0" name="Přímá spojovací čára 14"/>
            <p:cNvSpPr/>
            <p:nvPr/>
          </p:nvSpPr>
          <p:spPr>
            <a:xfrm>
              <a:off x="4140360" y="3868920"/>
              <a:ext cx="0" cy="36036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3"/>
                <p:cNvSpPr txBox="1"/>
                <p:nvPr/>
              </p:nvSpPr>
              <p:spPr>
                <a:xfrm>
                  <a:off x="4029840" y="4374000"/>
                  <a:ext cx="2523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Přímá spojovací čára 16"/>
            <p:cNvSpPr/>
            <p:nvPr/>
          </p:nvSpPr>
          <p:spPr>
            <a:xfrm>
              <a:off x="5580360" y="2788920"/>
              <a:ext cx="0" cy="14400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3" name="Přímá spojovací čára 17"/>
            <p:cNvSpPr/>
            <p:nvPr/>
          </p:nvSpPr>
          <p:spPr>
            <a:xfrm>
              <a:off x="2698560" y="3149640"/>
              <a:ext cx="0" cy="107964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Object 6"/>
                <p:cNvSpPr txBox="1"/>
                <p:nvPr/>
              </p:nvSpPr>
              <p:spPr>
                <a:xfrm>
                  <a:off x="5473080" y="4374000"/>
                  <a:ext cx="2793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Object 5"/>
                <p:cNvSpPr txBox="1"/>
                <p:nvPr/>
              </p:nvSpPr>
              <p:spPr>
                <a:xfrm>
                  <a:off x="2589840" y="4374000"/>
                  <a:ext cx="2523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Oblouk 20"/>
            <p:cNvSpPr/>
            <p:nvPr/>
          </p:nvSpPr>
          <p:spPr>
            <a:xfrm flipV="1">
              <a:off x="2697120" y="3942000"/>
              <a:ext cx="1441440" cy="504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360 h 504720"/>
                <a:gd name="textAreaBottom" fmla="*/ 252720 h 504720"/>
              </a:gdLst>
              <a:ahLst/>
              <a:rect l="textAreaLeft" t="textAreaTop" r="textAreaRight" b="textAreaBottom"/>
              <a:pathLst>
                <a:path stroke="0" w="1441360" h="504817">
                  <a:moveTo>
                    <a:pt x="24" y="250355"/>
                  </a:moveTo>
                  <a:lnTo>
                    <a:pt x="24" y="250355"/>
                  </a:lnTo>
                  <a:arcTo wR="720680" hR="252409" stAng="-10790202" swAng="10790207"/>
                  <a:lnTo>
                    <a:pt x="720680" y="252409"/>
                  </a:lnTo>
                  <a:close/>
                </a:path>
                <a:path fill="none" w="1441360" h="504817">
                  <a:moveTo>
                    <a:pt x="24" y="250355"/>
                  </a:moveTo>
                  <a:lnTo>
                    <a:pt x="24" y="250355"/>
                  </a:lnTo>
                  <a:arcTo wR="720680" hR="252409" stAng="-10790202" swAng="10790207"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7" name="Oblouk 21"/>
            <p:cNvSpPr/>
            <p:nvPr/>
          </p:nvSpPr>
          <p:spPr>
            <a:xfrm flipH="1" flipV="1">
              <a:off x="4137840" y="3942000"/>
              <a:ext cx="1439640" cy="504720"/>
            </a:xfrm>
            <a:custGeom>
              <a:avLst/>
              <a:gdLst>
                <a:gd name="textAreaLeft" fmla="*/ 0 w 1439640"/>
                <a:gd name="textAreaRight" fmla="*/ 1439640 w 1439640"/>
                <a:gd name="textAreaTop" fmla="*/ 360 h 504720"/>
                <a:gd name="textAreaBottom" fmla="*/ 252720 h 504720"/>
              </a:gdLst>
              <a:ahLst/>
              <a:rect l="textAreaLeft" t="textAreaTop" r="textAreaRight" b="textAreaBottom"/>
              <a:pathLst>
                <a:path stroke="0" w="1439773" h="504817">
                  <a:moveTo>
                    <a:pt x="24" y="250357"/>
                  </a:moveTo>
                  <a:lnTo>
                    <a:pt x="24" y="250357"/>
                  </a:lnTo>
                  <a:arcTo wR="719887" hR="252409" stAng="-10790205" swAng="10790215"/>
                  <a:lnTo>
                    <a:pt x="719887" y="252409"/>
                  </a:lnTo>
                  <a:close/>
                </a:path>
                <a:path fill="none" w="1439773" h="504817">
                  <a:moveTo>
                    <a:pt x="24" y="250357"/>
                  </a:moveTo>
                  <a:lnTo>
                    <a:pt x="24" y="250357"/>
                  </a:lnTo>
                  <a:arcTo wR="719887" hR="252409" stAng="-10790205" swAng="10790215"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Object 11"/>
                <p:cNvSpPr txBox="1"/>
                <p:nvPr/>
              </p:nvSpPr>
              <p:spPr>
                <a:xfrm>
                  <a:off x="4643280" y="4589640"/>
                  <a:ext cx="5331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Object 7"/>
                <p:cNvSpPr txBox="1"/>
                <p:nvPr/>
              </p:nvSpPr>
              <p:spPr>
                <a:xfrm>
                  <a:off x="3130920" y="4589640"/>
                  <a:ext cx="50328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40" name="Přímá spojovací šipka 24"/>
            <p:cNvCxnSpPr/>
            <p:nvPr/>
          </p:nvCxnSpPr>
          <p:spPr>
            <a:xfrm>
              <a:off x="2698200" y="3149280"/>
              <a:ext cx="342180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tailEnd len="med" type="arrow" w="med"/>
            </a:ln>
          </p:spPr>
        </p:cxnSp>
        <p:cxnSp>
          <p:nvCxnSpPr>
            <p:cNvPr id="141" name="Přímá spojovací šipka 25"/>
            <p:cNvCxnSpPr/>
            <p:nvPr/>
          </p:nvCxnSpPr>
          <p:spPr>
            <a:xfrm flipH="1">
              <a:off x="2158200" y="2788560"/>
              <a:ext cx="342036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tailEnd len="med" type="arrow" w="med"/>
            </a:ln>
          </p:spPr>
        </p:cxnSp>
        <p:sp>
          <p:nvSpPr>
            <p:cNvPr id="142" name="Elipsa 26"/>
            <p:cNvSpPr/>
            <p:nvPr/>
          </p:nvSpPr>
          <p:spPr>
            <a:xfrm>
              <a:off x="5470560" y="2708280"/>
              <a:ext cx="180720" cy="179280"/>
            </a:xfrm>
            <a:prstGeom prst="ellipse">
              <a:avLst/>
            </a:pr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3" name="Elipsa 27"/>
            <p:cNvSpPr/>
            <p:nvPr/>
          </p:nvSpPr>
          <p:spPr>
            <a:xfrm>
              <a:off x="2627280" y="3078000"/>
              <a:ext cx="179280" cy="179280"/>
            </a:xfrm>
            <a:prstGeom prst="ellipse">
              <a:avLst/>
            </a:pr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4" name="Přímá spojovací čára 32"/>
            <p:cNvSpPr/>
            <p:nvPr/>
          </p:nvSpPr>
          <p:spPr>
            <a:xfrm flipH="1">
              <a:off x="2769840" y="3149640"/>
              <a:ext cx="765000" cy="93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5" name="Přímá spojovací čára 33"/>
            <p:cNvSpPr/>
            <p:nvPr/>
          </p:nvSpPr>
          <p:spPr>
            <a:xfrm flipH="1">
              <a:off x="3057480" y="3149640"/>
              <a:ext cx="768240" cy="93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6" name="Přímá spojovací čára 34"/>
            <p:cNvSpPr/>
            <p:nvPr/>
          </p:nvSpPr>
          <p:spPr>
            <a:xfrm flipH="1">
              <a:off x="3346200" y="3149640"/>
              <a:ext cx="765000" cy="93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7" name="Přímá spojovací čára 35"/>
            <p:cNvSpPr/>
            <p:nvPr/>
          </p:nvSpPr>
          <p:spPr>
            <a:xfrm flipH="1">
              <a:off x="3634920" y="3149640"/>
              <a:ext cx="741240" cy="93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8" name="Přímá spojovací čára 36"/>
            <p:cNvSpPr/>
            <p:nvPr/>
          </p:nvSpPr>
          <p:spPr>
            <a:xfrm flipH="1">
              <a:off x="3922560" y="3149640"/>
              <a:ext cx="780840" cy="93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9" name="Přímá spojovací čára 37"/>
            <p:cNvSpPr/>
            <p:nvPr/>
          </p:nvSpPr>
          <p:spPr>
            <a:xfrm flipH="1">
              <a:off x="4209840" y="3149640"/>
              <a:ext cx="765000" cy="93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0" name="Přímá spojovací čára 65"/>
            <p:cNvSpPr/>
            <p:nvPr/>
          </p:nvSpPr>
          <p:spPr>
            <a:xfrm flipH="1">
              <a:off x="4498560" y="3149640"/>
              <a:ext cx="741240" cy="93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1" name="Přímá spojovací čára 66"/>
            <p:cNvSpPr/>
            <p:nvPr/>
          </p:nvSpPr>
          <p:spPr>
            <a:xfrm flipH="1">
              <a:off x="4787640" y="3149640"/>
              <a:ext cx="779400" cy="93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2" name="Přímá spojovací čára 67"/>
            <p:cNvSpPr/>
            <p:nvPr/>
          </p:nvSpPr>
          <p:spPr>
            <a:xfrm flipH="1">
              <a:off x="5075280" y="3510000"/>
              <a:ext cx="504720" cy="600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3" name="Přímá spojovací čára 70"/>
            <p:cNvSpPr/>
            <p:nvPr/>
          </p:nvSpPr>
          <p:spPr>
            <a:xfrm flipH="1">
              <a:off x="2698560" y="3149640"/>
              <a:ext cx="504720" cy="600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Object 10"/>
              <p:cNvSpPr txBox="1"/>
              <p:nvPr/>
            </p:nvSpPr>
            <p:spPr>
              <a:xfrm>
                <a:off x="6300720" y="1989000"/>
                <a:ext cx="1201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Nadpis 1"/>
          <p:cNvSpPr/>
          <p:nvPr/>
        </p:nvSpPr>
        <p:spPr>
          <a:xfrm>
            <a:off x="457200" y="504036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4:  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1"/>
              <p:cNvSpPr txBox="1"/>
              <p:nvPr/>
            </p:nvSpPr>
            <p:spPr>
              <a:xfrm>
                <a:off x="3132000" y="5229360"/>
                <a:ext cx="1792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2"/>
              <p:cNvSpPr txBox="1"/>
              <p:nvPr/>
            </p:nvSpPr>
            <p:spPr>
              <a:xfrm>
                <a:off x="6372360" y="5300640"/>
                <a:ext cx="1230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3,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etoda nulových bodů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určíme tzv. </a:t>
            </a:r>
            <a:r>
              <a:rPr b="1" i="1" lang="cs-CZ" sz="2200" spc="-1" strike="noStrike">
                <a:solidFill>
                  <a:srgbClr val="ff0000"/>
                </a:solidFill>
                <a:latin typeface="Cambria"/>
              </a:rPr>
              <a:t>nulové body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šech výrazů v závorkách (tj. čísla, pro která se výrazy v závorkách rovnají nule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ulovými bod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rozdělím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množinu reálných čísel (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číselnou osu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na intervaly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 jednotlivých intervalů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volím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vhodná celá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čísl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která dosazujeme do každého výrazu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 číselné ose pak značíme pouze znaménka hodnot výrazů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dle znamének v jednotlivých intervalech nerovnici upravíme a v každém z nich ji vyřeším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řešení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erovnice hledáme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jako průnik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množiny řešení s řešeným intervalem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Nadpis 1"/>
          <p:cNvSpPr/>
          <p:nvPr/>
        </p:nvSpPr>
        <p:spPr>
          <a:xfrm>
            <a:off x="457200" y="260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Zástupný symbol pro obsah 3"/>
              <p:cNvSpPr txBox="1"/>
              <p:nvPr/>
            </p:nvSpPr>
            <p:spPr>
              <a:xfrm>
                <a:off x="3578400" y="523800"/>
                <a:ext cx="3047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1692360" y="2708280"/>
                <a:ext cx="782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6227640" y="2492280"/>
                <a:ext cx="12319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Obdélník 54"/>
          <p:cNvSpPr/>
          <p:nvPr/>
        </p:nvSpPr>
        <p:spPr>
          <a:xfrm>
            <a:off x="539640" y="407664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Nulové body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            rozdělí číselnou osu do tří intervalů. Doporučení: prostřední ponechme uzavřený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2"/>
              <p:cNvSpPr txBox="1"/>
              <p:nvPr/>
            </p:nvSpPr>
            <p:spPr>
              <a:xfrm>
                <a:off x="1908000" y="4149720"/>
                <a:ext cx="1182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Obousměrná vodorovná šipka 10"/>
          <p:cNvSpPr/>
          <p:nvPr/>
        </p:nvSpPr>
        <p:spPr>
          <a:xfrm>
            <a:off x="2700360" y="2349360"/>
            <a:ext cx="3384360" cy="1079640"/>
          </a:xfrm>
          <a:prstGeom prst="leftRightArrow">
            <a:avLst>
              <a:gd name="adj1" fmla="val 50000"/>
              <a:gd name="adj2" fmla="val 49996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Určení nulových bob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67" name="Přímá spojovací šipka 11"/>
          <p:cNvCxnSpPr/>
          <p:nvPr/>
        </p:nvCxnSpPr>
        <p:spPr>
          <a:xfrm flipH="1">
            <a:off x="2268000" y="1268280"/>
            <a:ext cx="1944000" cy="115344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168" name="Přímá spojovací šipka 12"/>
          <p:cNvCxnSpPr/>
          <p:nvPr/>
        </p:nvCxnSpPr>
        <p:spPr>
          <a:xfrm>
            <a:off x="6012000" y="1197000"/>
            <a:ext cx="721440" cy="122472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Skupina 79"/>
          <p:cNvGrpSpPr/>
          <p:nvPr/>
        </p:nvGrpSpPr>
        <p:grpSpPr>
          <a:xfrm>
            <a:off x="684360" y="692280"/>
            <a:ext cx="4781520" cy="1497240"/>
            <a:chOff x="684360" y="692280"/>
            <a:chExt cx="4781520" cy="1497240"/>
          </a:xfrm>
        </p:grpSpPr>
        <p:sp>
          <p:nvSpPr>
            <p:cNvPr id="170" name="Přímá spojovací čára 5"/>
            <p:cNvSpPr/>
            <p:nvPr/>
          </p:nvSpPr>
          <p:spPr>
            <a:xfrm>
              <a:off x="684360" y="1555920"/>
              <a:ext cx="478152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1" name="Přímá spojovací čára 6"/>
            <p:cNvSpPr/>
            <p:nvPr/>
          </p:nvSpPr>
          <p:spPr>
            <a:xfrm>
              <a:off x="2757600" y="1441440"/>
              <a:ext cx="0" cy="23148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2" name="TextovéPole 29"/>
            <p:cNvSpPr/>
            <p:nvPr/>
          </p:nvSpPr>
          <p:spPr>
            <a:xfrm>
              <a:off x="4083480" y="1729800"/>
              <a:ext cx="34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3" name="Přímá spojovací čára 8"/>
            <p:cNvSpPr/>
            <p:nvPr/>
          </p:nvSpPr>
          <p:spPr>
            <a:xfrm>
              <a:off x="4199040" y="1441440"/>
              <a:ext cx="0" cy="23004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Object 2"/>
                <p:cNvSpPr txBox="1"/>
                <p:nvPr/>
              </p:nvSpPr>
              <p:spPr>
                <a:xfrm>
                  <a:off x="2641680" y="1775160"/>
                  <a:ext cx="22356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3"/>
                <p:cNvSpPr txBox="1"/>
                <p:nvPr/>
              </p:nvSpPr>
              <p:spPr>
                <a:xfrm>
                  <a:off x="899640" y="1197000"/>
                  <a:ext cx="2235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4"/>
                <p:cNvSpPr txBox="1"/>
                <p:nvPr/>
              </p:nvSpPr>
              <p:spPr>
                <a:xfrm>
                  <a:off x="750960" y="1673280"/>
                  <a:ext cx="582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TextovéPole 10"/>
            <p:cNvSpPr/>
            <p:nvPr/>
          </p:nvSpPr>
          <p:spPr>
            <a:xfrm>
              <a:off x="1763640" y="692640"/>
              <a:ext cx="51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-1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8" name="TextovéPole 11"/>
            <p:cNvSpPr/>
            <p:nvPr/>
          </p:nvSpPr>
          <p:spPr>
            <a:xfrm>
              <a:off x="4659480" y="692280"/>
              <a:ext cx="34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9" name="TextovéPole 12"/>
            <p:cNvSpPr/>
            <p:nvPr/>
          </p:nvSpPr>
          <p:spPr>
            <a:xfrm>
              <a:off x="3334320" y="693360"/>
              <a:ext cx="51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5"/>
                <p:cNvSpPr txBox="1"/>
                <p:nvPr/>
              </p:nvSpPr>
              <p:spPr>
                <a:xfrm>
                  <a:off x="4659480" y="1211040"/>
                  <a:ext cx="244800" cy="24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Object 6"/>
                <p:cNvSpPr txBox="1"/>
                <p:nvPr/>
              </p:nvSpPr>
              <p:spPr>
                <a:xfrm>
                  <a:off x="1951560" y="1268640"/>
                  <a:ext cx="222120" cy="13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Object 7"/>
                <p:cNvSpPr txBox="1"/>
                <p:nvPr/>
              </p:nvSpPr>
              <p:spPr>
                <a:xfrm>
                  <a:off x="1940040" y="1673280"/>
                  <a:ext cx="24444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Object 8"/>
                <p:cNvSpPr txBox="1"/>
                <p:nvPr/>
              </p:nvSpPr>
              <p:spPr>
                <a:xfrm>
                  <a:off x="3322440" y="1212480"/>
                  <a:ext cx="244800" cy="24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Object 9"/>
                <p:cNvSpPr txBox="1"/>
                <p:nvPr/>
              </p:nvSpPr>
              <p:spPr>
                <a:xfrm>
                  <a:off x="4670640" y="1727280"/>
                  <a:ext cx="222120" cy="13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Object 10"/>
                <p:cNvSpPr txBox="1"/>
                <p:nvPr/>
              </p:nvSpPr>
              <p:spPr>
                <a:xfrm>
                  <a:off x="3333960" y="1675080"/>
                  <a:ext cx="24444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Zaoblený obdélníkový popisek 25"/>
          <p:cNvSpPr/>
          <p:nvPr/>
        </p:nvSpPr>
        <p:spPr>
          <a:xfrm>
            <a:off x="5580000" y="620640"/>
            <a:ext cx="2879640" cy="1584360"/>
          </a:xfrm>
          <a:prstGeom prst="wedgeRoundRectCallout">
            <a:avLst>
              <a:gd name="adj1" fmla="val -71810"/>
              <a:gd name="adj2" fmla="val -27041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 intervalů volíme celá čísla, která dosazujeme do výrazů a k číselné ose značíme pouze znaménka hodnot výraz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7" name="Zaoblený obdélníkový popisek 26"/>
          <p:cNvSpPr/>
          <p:nvPr/>
        </p:nvSpPr>
        <p:spPr>
          <a:xfrm>
            <a:off x="684360" y="3284640"/>
            <a:ext cx="2735280" cy="1584360"/>
          </a:xfrm>
          <a:prstGeom prst="wedgeRoundRectCallout">
            <a:avLst>
              <a:gd name="adj1" fmla="val 46625"/>
              <a:gd name="adj2" fmla="val -80759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odle znamének v jednotlivých intervalech sestavíme nerovnici a v každém z nich ji vyřeším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4"/>
              <p:cNvSpPr txBox="1"/>
              <p:nvPr/>
            </p:nvSpPr>
            <p:spPr>
              <a:xfrm>
                <a:off x="755640" y="2421000"/>
                <a:ext cx="11444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Obdélník 54"/>
          <p:cNvSpPr/>
          <p:nvPr/>
        </p:nvSpPr>
        <p:spPr>
          <a:xfrm>
            <a:off x="3924360" y="443700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 nerovnice v prvním intervalu určíme jako průnik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90" name="Obrázek 40" descr="zatržítko.JPG"/>
          <p:cNvPicPr/>
          <p:nvPr/>
        </p:nvPicPr>
        <p:blipFill>
          <a:blip r:embed="rId1"/>
          <a:stretch/>
        </p:blipFill>
        <p:spPr>
          <a:xfrm>
            <a:off x="7451640" y="5013360"/>
            <a:ext cx="1033560" cy="108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1" name="Zástupný symbol pro obsah 3"/>
              <p:cNvSpPr txBox="1"/>
              <p:nvPr/>
            </p:nvSpPr>
            <p:spPr>
              <a:xfrm>
                <a:off x="2987640" y="2421000"/>
                <a:ext cx="2316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2"/>
              <p:cNvSpPr txBox="1"/>
              <p:nvPr/>
            </p:nvSpPr>
            <p:spPr>
              <a:xfrm>
                <a:off x="3564000" y="2960640"/>
                <a:ext cx="1200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3995640" y="3429000"/>
                <a:ext cx="947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4" name="Skupina 45"/>
          <p:cNvGrpSpPr/>
          <p:nvPr/>
        </p:nvGrpSpPr>
        <p:grpSpPr>
          <a:xfrm>
            <a:off x="5508360" y="2852280"/>
            <a:ext cx="2647800" cy="1178280"/>
            <a:chOff x="5508360" y="2852280"/>
            <a:chExt cx="2647800" cy="1178280"/>
          </a:xfrm>
        </p:grpSpPr>
        <p:sp>
          <p:nvSpPr>
            <p:cNvPr id="195" name="Přímá spojovací čára 64"/>
            <p:cNvSpPr/>
            <p:nvPr/>
          </p:nvSpPr>
          <p:spPr>
            <a:xfrm flipH="1">
              <a:off x="5508360" y="3544920"/>
              <a:ext cx="264780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96" name="Přímá spojovací čára 65"/>
            <p:cNvSpPr/>
            <p:nvPr/>
          </p:nvSpPr>
          <p:spPr>
            <a:xfrm>
              <a:off x="7408800" y="2874600"/>
              <a:ext cx="0" cy="8082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97" name="Přímá spojovací šipka 66"/>
            <p:cNvCxnSpPr/>
            <p:nvPr/>
          </p:nvCxnSpPr>
          <p:spPr>
            <a:xfrm flipH="1">
              <a:off x="5536440" y="2852280"/>
              <a:ext cx="187236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headEnd len="lg" type="oval" w="lg"/>
              <a:tailEnd len="med" type="arrow" w="med"/>
            </a:ln>
          </p:spPr>
        </p:cxnSp>
        <p:sp>
          <p:nvSpPr>
            <p:cNvPr id="198" name="Přímá spojovací čára 67"/>
            <p:cNvSpPr/>
            <p:nvPr/>
          </p:nvSpPr>
          <p:spPr>
            <a:xfrm>
              <a:off x="8013960" y="3076200"/>
              <a:ext cx="0" cy="57636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99" name="Přímá spojovací šipka 68"/>
            <p:cNvCxnSpPr/>
            <p:nvPr/>
          </p:nvCxnSpPr>
          <p:spPr>
            <a:xfrm flipH="1">
              <a:off x="6141240" y="3082320"/>
              <a:ext cx="187236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tailEnd len="med" type="arrow" w="med"/>
            </a:ln>
          </p:spPr>
        </p:cxnSp>
        <p:grpSp>
          <p:nvGrpSpPr>
            <p:cNvPr id="200" name="Skupina 18"/>
            <p:cNvGrpSpPr/>
            <p:nvPr/>
          </p:nvGrpSpPr>
          <p:grpSpPr>
            <a:xfrm>
              <a:off x="5681160" y="2852640"/>
              <a:ext cx="1554480" cy="691200"/>
              <a:chOff x="5681160" y="2852640"/>
              <a:chExt cx="1554480" cy="691200"/>
            </a:xfrm>
          </p:grpSpPr>
          <p:sp>
            <p:nvSpPr>
              <p:cNvPr id="201" name="Přímá spojovací čára 9"/>
              <p:cNvSpPr/>
              <p:nvPr/>
            </p:nvSpPr>
            <p:spPr>
              <a:xfrm flipH="1">
                <a:off x="5681160" y="2852640"/>
                <a:ext cx="558720" cy="691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2" name="Přímá spojovací čára 75"/>
              <p:cNvSpPr/>
              <p:nvPr/>
            </p:nvSpPr>
            <p:spPr>
              <a:xfrm flipH="1">
                <a:off x="5928480" y="2852640"/>
                <a:ext cx="560520" cy="691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3" name="Přímá spojovací čára 76"/>
              <p:cNvSpPr/>
              <p:nvPr/>
            </p:nvSpPr>
            <p:spPr>
              <a:xfrm flipH="1">
                <a:off x="6177600" y="2852640"/>
                <a:ext cx="560520" cy="691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4" name="Přímá spojovací čára 77"/>
              <p:cNvSpPr/>
              <p:nvPr/>
            </p:nvSpPr>
            <p:spPr>
              <a:xfrm flipH="1">
                <a:off x="6427080" y="2852640"/>
                <a:ext cx="560520" cy="691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5" name="Přímá spojovací čára 78"/>
              <p:cNvSpPr/>
              <p:nvPr/>
            </p:nvSpPr>
            <p:spPr>
              <a:xfrm flipH="1">
                <a:off x="6676920" y="2852640"/>
                <a:ext cx="558720" cy="691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206" name="Přímá spojovací čára 70"/>
            <p:cNvSpPr/>
            <p:nvPr/>
          </p:nvSpPr>
          <p:spPr>
            <a:xfrm flipH="1">
              <a:off x="6889680" y="2909520"/>
              <a:ext cx="519120" cy="63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7" name="Vývojový diagram: spojka 71"/>
            <p:cNvSpPr/>
            <p:nvPr/>
          </p:nvSpPr>
          <p:spPr>
            <a:xfrm>
              <a:off x="7926480" y="3025440"/>
              <a:ext cx="144360" cy="142560"/>
            </a:xfrm>
            <a:prstGeom prst="flowChartConnector">
              <a:avLst/>
            </a:pr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Object 38"/>
                <p:cNvSpPr txBox="1"/>
                <p:nvPr/>
              </p:nvSpPr>
              <p:spPr>
                <a:xfrm>
                  <a:off x="7120800" y="3717000"/>
                  <a:ext cx="402120" cy="2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Object 39"/>
                <p:cNvSpPr txBox="1"/>
                <p:nvPr/>
              </p:nvSpPr>
              <p:spPr>
                <a:xfrm>
                  <a:off x="7927200" y="3717000"/>
                  <a:ext cx="223200" cy="31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45"/>
              <p:cNvSpPr txBox="1"/>
              <p:nvPr/>
            </p:nvSpPr>
            <p:spPr>
              <a:xfrm>
                <a:off x="3995640" y="5084640"/>
                <a:ext cx="38480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∩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Obrázek 22" descr="zatržítko.JPG"/>
          <p:cNvPicPr/>
          <p:nvPr/>
        </p:nvPicPr>
        <p:blipFill>
          <a:blip r:embed="rId1"/>
          <a:stretch/>
        </p:blipFill>
        <p:spPr>
          <a:xfrm>
            <a:off x="2916360" y="5516640"/>
            <a:ext cx="1033200" cy="1084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826920" y="549360"/>
                <a:ext cx="865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,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2486160" y="1341360"/>
                <a:ext cx="780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Obdélník 54"/>
          <p:cNvSpPr/>
          <p:nvPr/>
        </p:nvSpPr>
        <p:spPr>
          <a:xfrm>
            <a:off x="539640" y="19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 nerovnice v intervalu            určíme jako průnik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3635280" y="5300640"/>
                <a:ext cx="6667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Obdélník 54"/>
          <p:cNvSpPr/>
          <p:nvPr/>
        </p:nvSpPr>
        <p:spPr>
          <a:xfrm>
            <a:off x="611280" y="5084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Řešení nerovnice v intervalu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určíme jako průnik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"/>
              <p:cNvSpPr txBox="1"/>
              <p:nvPr/>
            </p:nvSpPr>
            <p:spPr>
              <a:xfrm>
                <a:off x="900000" y="3716280"/>
                <a:ext cx="9493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Zástupný symbol pro obsah 3"/>
              <p:cNvSpPr txBox="1"/>
              <p:nvPr/>
            </p:nvSpPr>
            <p:spPr>
              <a:xfrm>
                <a:off x="2268360" y="549360"/>
                <a:ext cx="20926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0"/>
              <p:cNvSpPr txBox="1"/>
              <p:nvPr/>
            </p:nvSpPr>
            <p:spPr>
              <a:xfrm>
                <a:off x="2268360" y="981000"/>
                <a:ext cx="947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" name="Skupina 43"/>
          <p:cNvGrpSpPr/>
          <p:nvPr/>
        </p:nvGrpSpPr>
        <p:grpSpPr>
          <a:xfrm>
            <a:off x="4859280" y="476280"/>
            <a:ext cx="2683440" cy="1434960"/>
            <a:chOff x="4859280" y="476280"/>
            <a:chExt cx="2683440" cy="1434960"/>
          </a:xfrm>
        </p:grpSpPr>
        <p:sp>
          <p:nvSpPr>
            <p:cNvPr id="221" name="Přímá spojovací čára 21"/>
            <p:cNvSpPr/>
            <p:nvPr/>
          </p:nvSpPr>
          <p:spPr>
            <a:xfrm flipH="1">
              <a:off x="4859280" y="1365120"/>
              <a:ext cx="262440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22" name="Přímá spojovací čára 22"/>
            <p:cNvSpPr/>
            <p:nvPr/>
          </p:nvSpPr>
          <p:spPr>
            <a:xfrm>
              <a:off x="6842160" y="709560"/>
              <a:ext cx="0" cy="7873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223" name="Přímá spojovací šipka 23"/>
            <p:cNvCxnSpPr/>
            <p:nvPr/>
          </p:nvCxnSpPr>
          <p:spPr>
            <a:xfrm flipH="1">
              <a:off x="5325480" y="715320"/>
              <a:ext cx="151704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headEnd len="lg" type="oval" w="lg"/>
              <a:tailEnd len="lg" type="oval" w="lg"/>
            </a:ln>
          </p:spPr>
        </p:cxnSp>
        <mc:AlternateContent>
          <mc:Choice xmlns:a14="http://schemas.microsoft.com/office/drawing/2010/main" Requires="a14">
            <p:sp>
              <p:nvSpPr>
                <p:cNvPr id="224" name="Object 8"/>
                <p:cNvSpPr txBox="1"/>
                <p:nvPr/>
              </p:nvSpPr>
              <p:spPr>
                <a:xfrm>
                  <a:off x="6725880" y="1591560"/>
                  <a:ext cx="22860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Přímá spojovací čára 26"/>
            <p:cNvSpPr/>
            <p:nvPr/>
          </p:nvSpPr>
          <p:spPr>
            <a:xfrm>
              <a:off x="5325840" y="715680"/>
              <a:ext cx="0" cy="7873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226" name="Přímá spojovací šipka 27"/>
            <p:cNvCxnSpPr/>
            <p:nvPr/>
          </p:nvCxnSpPr>
          <p:spPr>
            <a:xfrm>
              <a:off x="6085080" y="482040"/>
              <a:ext cx="145800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headEnd len="lg" type="oval" w="lg"/>
              <a:tailEnd len="med" type="arrow" w="med"/>
            </a:ln>
          </p:spPr>
        </p:cxnSp>
        <p:sp>
          <p:nvSpPr>
            <p:cNvPr id="227" name="Přímá spojovací čára 31"/>
            <p:cNvSpPr/>
            <p:nvPr/>
          </p:nvSpPr>
          <p:spPr>
            <a:xfrm flipH="1">
              <a:off x="6085080" y="723960"/>
              <a:ext cx="465120" cy="544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28" name="Přímá spojovací čára 32"/>
            <p:cNvSpPr/>
            <p:nvPr/>
          </p:nvSpPr>
          <p:spPr>
            <a:xfrm flipH="1">
              <a:off x="6257880" y="723960"/>
              <a:ext cx="527040" cy="64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22"/>
                <p:cNvSpPr txBox="1"/>
                <p:nvPr/>
              </p:nvSpPr>
              <p:spPr>
                <a:xfrm>
                  <a:off x="5236560" y="1591200"/>
                  <a:ext cx="228600" cy="32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Přímá spojovací čára 34"/>
            <p:cNvSpPr/>
            <p:nvPr/>
          </p:nvSpPr>
          <p:spPr>
            <a:xfrm>
              <a:off x="6085080" y="476280"/>
              <a:ext cx="0" cy="10206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1" name="Přímá spojovací čára 37"/>
            <p:cNvSpPr/>
            <p:nvPr/>
          </p:nvSpPr>
          <p:spPr>
            <a:xfrm flipH="1">
              <a:off x="6492600" y="950760"/>
              <a:ext cx="34596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2" name="Přímá spojovací čára 42"/>
            <p:cNvSpPr/>
            <p:nvPr/>
          </p:nvSpPr>
          <p:spPr>
            <a:xfrm flipH="1">
              <a:off x="6085080" y="691920"/>
              <a:ext cx="25056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23"/>
                <p:cNvSpPr txBox="1"/>
                <p:nvPr/>
              </p:nvSpPr>
              <p:spPr>
                <a:xfrm>
                  <a:off x="5997960" y="1589760"/>
                  <a:ext cx="22860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Object 36"/>
              <p:cNvSpPr txBox="1"/>
              <p:nvPr/>
            </p:nvSpPr>
            <p:spPr>
              <a:xfrm>
                <a:off x="3419640" y="2133720"/>
                <a:ext cx="6015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35" name="Obrázek 40" descr="zatržítko.JPG"/>
          <p:cNvPicPr/>
          <p:nvPr/>
        </p:nvPicPr>
        <p:blipFill>
          <a:blip r:embed="rId2"/>
          <a:stretch/>
        </p:blipFill>
        <p:spPr>
          <a:xfrm>
            <a:off x="3132000" y="2492280"/>
            <a:ext cx="1033560" cy="1082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Object 38"/>
              <p:cNvSpPr txBox="1"/>
              <p:nvPr/>
            </p:nvSpPr>
            <p:spPr>
              <a:xfrm>
                <a:off x="2268360" y="3645000"/>
                <a:ext cx="2791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9"/>
              <p:cNvSpPr txBox="1"/>
              <p:nvPr/>
            </p:nvSpPr>
            <p:spPr>
              <a:xfrm>
                <a:off x="2268360" y="4076640"/>
                <a:ext cx="1870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0"/>
              <p:cNvSpPr txBox="1"/>
              <p:nvPr/>
            </p:nvSpPr>
            <p:spPr>
              <a:xfrm>
                <a:off x="2411280" y="4437000"/>
                <a:ext cx="949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9" name="Skupina 64"/>
          <p:cNvGrpSpPr/>
          <p:nvPr/>
        </p:nvGrpSpPr>
        <p:grpSpPr>
          <a:xfrm>
            <a:off x="5292360" y="3213000"/>
            <a:ext cx="2735640" cy="1482840"/>
            <a:chOff x="5292360" y="3213000"/>
            <a:chExt cx="2735640" cy="1482840"/>
          </a:xfrm>
        </p:grpSpPr>
        <p:sp>
          <p:nvSpPr>
            <p:cNvPr id="240" name="Vývojový diagram: spojka 35"/>
            <p:cNvSpPr/>
            <p:nvPr/>
          </p:nvSpPr>
          <p:spPr>
            <a:xfrm>
              <a:off x="6443640" y="3213000"/>
              <a:ext cx="179280" cy="179280"/>
            </a:xfrm>
            <a:prstGeom prst="flowChartConnector">
              <a:avLst/>
            </a:pr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1" name="Přímá spojovací čára 45"/>
            <p:cNvSpPr/>
            <p:nvPr/>
          </p:nvSpPr>
          <p:spPr>
            <a:xfrm flipH="1">
              <a:off x="5292360" y="4173480"/>
              <a:ext cx="262260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242" name="Přímá spojovací šipka 47"/>
            <p:cNvCxnSpPr/>
            <p:nvPr/>
          </p:nvCxnSpPr>
          <p:spPr>
            <a:xfrm flipH="1">
              <a:off x="5758920" y="3509640"/>
              <a:ext cx="2269440" cy="864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43" name="Přímá spojovací šipka 50"/>
            <p:cNvCxnSpPr/>
            <p:nvPr/>
          </p:nvCxnSpPr>
          <p:spPr>
            <a:xfrm>
              <a:off x="6518160" y="3290400"/>
              <a:ext cx="145656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tailEnd len="med" type="arrow" w="med"/>
            </a:ln>
          </p:spPr>
        </p:cxnSp>
        <p:sp>
          <p:nvSpPr>
            <p:cNvPr id="244" name="Přímá spojovací čára 51"/>
            <p:cNvSpPr/>
            <p:nvPr/>
          </p:nvSpPr>
          <p:spPr>
            <a:xfrm flipH="1">
              <a:off x="6516720" y="3531960"/>
              <a:ext cx="466560" cy="54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5" name="Přímá spojovací čára 52"/>
            <p:cNvSpPr/>
            <p:nvPr/>
          </p:nvSpPr>
          <p:spPr>
            <a:xfrm flipH="1">
              <a:off x="6691320" y="3531960"/>
              <a:ext cx="527040" cy="64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6" name="Přímá spojovací čára 54"/>
            <p:cNvSpPr/>
            <p:nvPr/>
          </p:nvSpPr>
          <p:spPr>
            <a:xfrm>
              <a:off x="6518160" y="3284280"/>
              <a:ext cx="0" cy="102096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7" name="Přímá spojovací čára 55"/>
            <p:cNvSpPr/>
            <p:nvPr/>
          </p:nvSpPr>
          <p:spPr>
            <a:xfrm flipH="1">
              <a:off x="6948360" y="3500280"/>
              <a:ext cx="527040" cy="68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8" name="Přímá spojovací čára 56"/>
            <p:cNvSpPr/>
            <p:nvPr/>
          </p:nvSpPr>
          <p:spPr>
            <a:xfrm flipH="1">
              <a:off x="6516360" y="3501720"/>
              <a:ext cx="25236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Object 43"/>
                <p:cNvSpPr txBox="1"/>
                <p:nvPr/>
              </p:nvSpPr>
              <p:spPr>
                <a:xfrm>
                  <a:off x="6430680" y="4398840"/>
                  <a:ext cx="22860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0" name="Přímá spojovací čára 62"/>
            <p:cNvSpPr/>
            <p:nvPr/>
          </p:nvSpPr>
          <p:spPr>
            <a:xfrm flipH="1">
              <a:off x="7199280" y="3500280"/>
              <a:ext cx="527040" cy="68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Object 45"/>
              <p:cNvSpPr txBox="1"/>
              <p:nvPr/>
            </p:nvSpPr>
            <p:spPr>
              <a:xfrm>
                <a:off x="611280" y="2565360"/>
                <a:ext cx="2808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,4</m:t>
                        </m:r>
                      </m:e>
                    </m:d>
                    <m:r>
                      <m:t xml:space="preserve">∩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2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6"/>
              <p:cNvSpPr txBox="1"/>
              <p:nvPr/>
            </p:nvSpPr>
            <p:spPr>
              <a:xfrm>
                <a:off x="647640" y="5661000"/>
                <a:ext cx="25210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∩</m:t>
                    </m:r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Olda</cp:lastModifiedBy>
  <dcterms:modified xsi:type="dcterms:W3CDTF">2014-05-30T07:05:19Z</dcterms:modified>
  <cp:revision>148</cp:revision>
  <dc:subject/>
  <dc:title>Název</dc:title>
</cp:coreProperties>
</file>