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CC2110-73B9-40AF-8AD2-0542249C2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4AC5C9-2169-4B94-B623-B6EE5B6DB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94AB4F-0F57-407B-8BA7-37F74E14B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0012A0-6C46-4449-90C0-F849FC939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7DD05-021D-44EC-9FA1-4A4750801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B884A-5A24-4571-A9EE-0FA714489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DD94C-1975-42C7-B6EB-0E41E3FE7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96150-7EEA-49D3-9659-56D52F340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6DB75-AB1E-49F4-AB3D-049D55510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0964E-7390-433C-A478-A1960749C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8175D-C9E9-46CD-984F-D5715EE71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2350D6-AE55-4D51-93F1-13FA477FB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1FED2-373B-4AB8-9565-8576AD100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41BD8-340D-44E4-A422-CEDA6DB54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FD418-40B7-4B2F-9CD7-158F4552A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43B01-E680-4D3D-B6A0-FEC807D15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BA621-3444-47F6-994D-0AC80981F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4FDB38-9C9B-4FBB-B146-47F767D0C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7DD0C4-D121-4E8F-985F-B38FDF14F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FC197A-55B9-44A8-ADAF-06887EE9B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913EBB-A401-4EC2-B716-2320A697A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E4498B-0597-4FB6-84AD-1923A5E87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177F2D-F762-4F11-A8EB-3CAE23F78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CF5F50-2D96-4426-9485-6634280ED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libri"/>
              </a:rPr>
              <a:t>Click to edit the title text format</a:t>
            </a: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Second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2" marL="1004760" indent="-228600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Third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3" marL="1279440" indent="-228600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Fourth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4" marL="1554120" indent="-228600">
              <a:spcBef>
                <a:spcPts val="550"/>
              </a:spcBef>
              <a:buClr>
                <a:srgbClr val="c89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Fifth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5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Sixth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6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Seventh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C0543-448F-421D-A015-6C9377E8D700}" type="slidenum"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fdcb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fdcb7"/>
                </a:solidFill>
                <a:latin typeface="Times New Roman"/>
              </a:rPr>
              <a:t>Střední škola přírodovědná a zemědělská Nový Jičí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fdcb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7B9E1-2BFF-4D7F-889E-F75362592446}" type="datetime">
              <a:rPr b="0" lang="cs-CZ" sz="1200" spc="-1" strike="noStrike">
                <a:solidFill>
                  <a:srgbClr val="dfdcb7"/>
                </a:solidFill>
                <a:latin typeface="Times New Roman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2" descr=""/>
          <p:cNvPicPr/>
          <p:nvPr/>
        </p:nvPicPr>
        <p:blipFill>
          <a:blip r:embed="rId3"/>
          <a:stretch/>
        </p:blipFill>
        <p:spPr>
          <a:xfrm>
            <a:off x="5508720" y="6105600"/>
            <a:ext cx="3456000" cy="716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3"/>
          <a:stretch/>
        </p:blipFill>
        <p:spPr>
          <a:xfrm>
            <a:off x="5508720" y="6105600"/>
            <a:ext cx="3456000" cy="7160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" descr=""/>
          <p:cNvPicPr/>
          <p:nvPr/>
        </p:nvPicPr>
        <p:blipFill>
          <a:blip r:embed="rId4"/>
          <a:stretch/>
        </p:blipFill>
        <p:spPr>
          <a:xfrm>
            <a:off x="2124000" y="189000"/>
            <a:ext cx="5256360" cy="104436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libri"/>
              </a:rPr>
              <a:t>Click to edit the title text format</a:t>
            </a: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Second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2" marL="1004760" indent="-228600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Third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3" marL="1279440" indent="-228600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Fourth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4" marL="1554120" indent="-228600">
              <a:spcBef>
                <a:spcPts val="550"/>
              </a:spcBef>
              <a:buClr>
                <a:srgbClr val="c89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Fifth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5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Sixth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6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Seventh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fdcb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25FE7-C1B7-4F47-A437-3A2FEA4EC38B}" type="datetime">
              <a:rPr b="0" lang="cs-CZ" sz="1200" spc="-1" strike="noStrike">
                <a:solidFill>
                  <a:srgbClr val="dfdcb7"/>
                </a:solidFill>
                <a:latin typeface="Times New Roman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fdcb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fdcb7"/>
                </a:solidFill>
                <a:latin typeface="Times New Roman"/>
              </a:rPr>
              <a:t>Střední škola přírodovědná a zemědělská Nový Jičí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27C38-855D-4F57-9D99-61CB99E35860}" type="slidenum"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440" y="3284280"/>
            <a:ext cx="754380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600" spc="-1" strike="noStrike">
                <a:solidFill>
                  <a:srgbClr val="675e47"/>
                </a:solidFill>
                <a:latin typeface="Calibri"/>
              </a:rPr>
              <a:t>Goniometrické rovnice - základní</a:t>
            </a:r>
            <a:endParaRPr b="0" lang="en-US" sz="6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90" name="Nadpis 1"/>
          <p:cNvSpPr/>
          <p:nvPr/>
        </p:nvSpPr>
        <p:spPr>
          <a:xfrm>
            <a:off x="684360" y="1273320"/>
            <a:ext cx="7543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675e47"/>
                </a:solidFill>
                <a:latin typeface="Calibri"/>
              </a:rPr>
              <a:t>Střední škola technická a zemědělská, Nový Jičín, příspěvková organizace 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91" name="Nadpis 1"/>
          <p:cNvSpPr/>
          <p:nvPr/>
        </p:nvSpPr>
        <p:spPr>
          <a:xfrm>
            <a:off x="684360" y="5018040"/>
            <a:ext cx="75438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675e47"/>
                </a:solidFill>
                <a:latin typeface="Calibri"/>
              </a:rPr>
              <a:t>červenec, 2013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600" spc="-1" strike="noStrike">
                <a:solidFill>
                  <a:srgbClr val="675e47"/>
                </a:solidFill>
                <a:latin typeface="Calibri"/>
              </a:rPr>
              <a:t>Příklad 4: </a:t>
            </a: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" name="Zástupný symbol pro obsah 3"/>
              <p:cNvSpPr txBox="1"/>
              <p:nvPr/>
            </p:nvSpPr>
            <p:spPr>
              <a:xfrm>
                <a:off x="3132000" y="620640"/>
                <a:ext cx="331164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" name="Object 3"/>
              <p:cNvSpPr txBox="1"/>
              <p:nvPr/>
            </p:nvSpPr>
            <p:spPr>
              <a:xfrm>
                <a:off x="611280" y="1916280"/>
                <a:ext cx="2633400" cy="39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" name="Object 4"/>
              <p:cNvSpPr txBox="1"/>
              <p:nvPr/>
            </p:nvSpPr>
            <p:spPr>
              <a:xfrm>
                <a:off x="1255680" y="2492280"/>
                <a:ext cx="1989000" cy="39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" name="Object 5"/>
              <p:cNvSpPr txBox="1"/>
              <p:nvPr/>
            </p:nvSpPr>
            <p:spPr>
              <a:xfrm>
                <a:off x="1738440" y="3041640"/>
                <a:ext cx="400356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⇒</m:t>
                    </m:r>
                    <m:m>
                      <m:mr>
                        <m:e>
                          <m:r>
                            <m:t xml:space="preserve">x</m:t>
                          </m:r>
                          <m:r>
                            <m:t xml:space="preserve">=</m:t>
                          </m:r>
                          <m:s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90</m:t>
                              </m:r>
                            </m:e>
                            <m:sup>
                              <m:r>
                                <m:t xml:space="preserve">∘</m:t>
                              </m:r>
                            </m:sup>
                          </m:sSup>
                          <m:r>
                            <m:t xml:space="preserve">+</m:t>
                          </m:r>
                          <m:r>
                            <m:t xml:space="preserve">k</m:t>
                          </m:r>
                          <m:r>
                            <m:t xml:space="preserve">⋅</m:t>
                          </m:r>
                          <m:s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360</m:t>
                              </m:r>
                            </m:e>
                            <m:sup>
                              <m:r>
                                <m:t xml:space="preserve">∘</m:t>
                              </m:r>
                            </m:sup>
                          </m:sSup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160" name="Zaoblený obdélníkový popisek 7"/>
          <p:cNvSpPr/>
          <p:nvPr/>
        </p:nvSpPr>
        <p:spPr>
          <a:xfrm>
            <a:off x="4788000" y="1773360"/>
            <a:ext cx="3456000" cy="863640"/>
          </a:xfrm>
          <a:prstGeom prst="wedgeRoundRectCallout">
            <a:avLst>
              <a:gd name="adj1" fmla="val -71986"/>
              <a:gd name="adj2" fmla="val 22361"/>
              <a:gd name="adj3" fmla="val 16667"/>
            </a:avLst>
          </a:prstGeom>
          <a:solidFill>
            <a:srgbClr val="a47b38"/>
          </a:solidFill>
          <a:ln w="25560">
            <a:solidFill>
              <a:srgbClr val="6d52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ambria"/>
              </a:rPr>
              <a:t>Pomocí ekvivalentních úprav rovnici převedeme  na tvar, ze kterého lze vyjádřit funkci sinus.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Object 6"/>
              <p:cNvSpPr txBox="1"/>
              <p:nvPr/>
            </p:nvSpPr>
            <p:spPr>
              <a:xfrm>
                <a:off x="3492360" y="2492280"/>
                <a:ext cx="10083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/: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62" name="TextovéPole 9"/>
          <p:cNvSpPr/>
          <p:nvPr/>
        </p:nvSpPr>
        <p:spPr>
          <a:xfrm>
            <a:off x="539640" y="4221000"/>
            <a:ext cx="72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0000"/>
                </a:solidFill>
                <a:latin typeface="Cambria"/>
              </a:rPr>
              <a:t>Řešením rovnice v množině R je množina kořenů  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pic>
        <p:nvPicPr>
          <p:cNvPr id="163" name="Obrázek 40" descr="zatržítko.JPG"/>
          <p:cNvPicPr/>
          <p:nvPr/>
        </p:nvPicPr>
        <p:blipFill>
          <a:blip r:embed="rId1"/>
          <a:srcRect l="0" t="13314" r="16463" b="13605"/>
          <a:stretch/>
        </p:blipFill>
        <p:spPr>
          <a:xfrm>
            <a:off x="7250040" y="4795920"/>
            <a:ext cx="863640" cy="7920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64" name="Object 2"/>
              <p:cNvSpPr txBox="1"/>
              <p:nvPr/>
            </p:nvSpPr>
            <p:spPr>
              <a:xfrm>
                <a:off x="4427640" y="4724280"/>
                <a:ext cx="2995560" cy="7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limLow>
                      <m:e/>
                      <m:lim>
                        <m:r>
                          <m:t xml:space="preserve">k</m:t>
                        </m:r>
                        <m:r>
                          <m:t xml:space="preserve">∈</m:t>
                        </m:r>
                        <m:r>
                          <m:t xml:space="preserve">Z</m:t>
                        </m:r>
                      </m:lim>
                    </m:limLow>
                    <m:d>
                      <m:dPr>
                        <m:begChr m:val="{"/>
                        <m:endChr m:val="}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90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k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60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600" spc="-1" strike="noStrike">
                <a:solidFill>
                  <a:srgbClr val="675e47"/>
                </a:solidFill>
                <a:latin typeface="Calibri"/>
              </a:rPr>
              <a:t>Příklad 5:</a:t>
            </a: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Zástupný symbol pro obsah 3"/>
              <p:cNvSpPr txBox="1"/>
              <p:nvPr/>
            </p:nvSpPr>
            <p:spPr>
              <a:xfrm>
                <a:off x="3132000" y="476280"/>
                <a:ext cx="434052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r>
                      <m:t xml:space="preserve">+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" name="Zástupný symbol pro obsah 3"/>
              <p:cNvSpPr txBox="1"/>
              <p:nvPr/>
            </p:nvSpPr>
            <p:spPr>
              <a:xfrm>
                <a:off x="539640" y="2852640"/>
                <a:ext cx="280044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r>
                      <m:t xml:space="preserve">+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68" name="TextovéPole 6"/>
          <p:cNvSpPr/>
          <p:nvPr/>
        </p:nvSpPr>
        <p:spPr>
          <a:xfrm>
            <a:off x="503280" y="1557360"/>
            <a:ext cx="72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0000"/>
                </a:solidFill>
                <a:latin typeface="Cambria"/>
              </a:rPr>
              <a:t>Při řešení této rovnice si připomeňme vlastnosti goniometrických funkcí: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Object 4"/>
              <p:cNvSpPr txBox="1"/>
              <p:nvPr/>
            </p:nvSpPr>
            <p:spPr>
              <a:xfrm>
                <a:off x="684360" y="2025720"/>
                <a:ext cx="318420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udá</m:t>
                    </m:r>
                    <m:r>
                      <m:t xml:space="preserve">:</m:t>
                    </m:r>
                    <m:m>
                      <m:mr>
                        <m:e>
                          <m:r>
                            <m:rPr>
                              <m:lit/>
                              <m:nor/>
                            </m:rPr>
                            <m:t xml:space="preserve">cos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−</m:t>
                              </m:r>
                              <m:r>
                                <m:t xml:space="preserve">x</m:t>
                              </m:r>
                            </m:e>
                          </m:d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cos</m:t>
                          </m:r>
                          <m:r>
                            <m:t xml:space="preserve">x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" name="Object 5"/>
              <p:cNvSpPr txBox="1"/>
              <p:nvPr/>
            </p:nvSpPr>
            <p:spPr>
              <a:xfrm>
                <a:off x="4788000" y="2060640"/>
                <a:ext cx="335268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ichá</m:t>
                    </m:r>
                    <m:r>
                      <m:t xml:space="preserve">:</m:t>
                    </m:r>
                    <m:m>
                      <m:mr>
                        <m:e>
                          <m:r>
                            <m:rPr>
                              <m:lit/>
                              <m:nor/>
                            </m:rPr>
                            <m:t xml:space="preserve">sin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−</m:t>
                              </m:r>
                              <m:r>
                                <m:t xml:space="preserve">x</m:t>
                              </m:r>
                            </m:e>
                          </m:d>
                          <m:r>
                            <m:t xml:space="preserve">=</m:t>
                          </m:r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sin</m:t>
                          </m:r>
                          <m:r>
                            <m:t xml:space="preserve">x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171" name="Zaoblený obdélníkový popisek 9"/>
          <p:cNvSpPr/>
          <p:nvPr/>
        </p:nvSpPr>
        <p:spPr>
          <a:xfrm>
            <a:off x="5580000" y="2852640"/>
            <a:ext cx="2521080" cy="647640"/>
          </a:xfrm>
          <a:prstGeom prst="wedgeRoundRectCallout">
            <a:avLst>
              <a:gd name="adj1" fmla="val 7791"/>
              <a:gd name="adj2" fmla="val -114106"/>
              <a:gd name="adj3" fmla="val 16667"/>
            </a:avLst>
          </a:prstGeom>
          <a:solidFill>
            <a:srgbClr val="a47b38"/>
          </a:solidFill>
          <a:ln w="25560">
            <a:solidFill>
              <a:srgbClr val="6d52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ambria"/>
              </a:rPr>
              <a:t>Totéž platí i pro funkce  </a:t>
            </a:r>
            <a:r>
              <a:rPr b="1" lang="cs-CZ" sz="1800" spc="-1" strike="noStrike">
                <a:solidFill>
                  <a:srgbClr val="2f2b20"/>
                </a:solidFill>
                <a:latin typeface="Cambria"/>
              </a:rPr>
              <a:t>tg, cotg.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" name="Zástupný symbol pro obsah 3"/>
              <p:cNvSpPr txBox="1"/>
              <p:nvPr/>
            </p:nvSpPr>
            <p:spPr>
              <a:xfrm>
                <a:off x="539640" y="3357720"/>
                <a:ext cx="2800440" cy="47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Zástupný symbol pro obsah 3"/>
              <p:cNvSpPr txBox="1"/>
              <p:nvPr/>
            </p:nvSpPr>
            <p:spPr>
              <a:xfrm>
                <a:off x="1258920" y="3933720"/>
                <a:ext cx="210024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Zástupný symbol pro obsah 3"/>
              <p:cNvSpPr txBox="1"/>
              <p:nvPr/>
            </p:nvSpPr>
            <p:spPr>
              <a:xfrm>
                <a:off x="1835280" y="4365720"/>
                <a:ext cx="182088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175" name="Obrázek 40" descr="zatržítko.JPG"/>
          <p:cNvPicPr/>
          <p:nvPr/>
        </p:nvPicPr>
        <p:blipFill>
          <a:blip r:embed="rId1"/>
          <a:srcRect l="0" t="13314" r="16463" b="13605"/>
          <a:stretch/>
        </p:blipFill>
        <p:spPr>
          <a:xfrm>
            <a:off x="5651640" y="5300640"/>
            <a:ext cx="863640" cy="792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76" name="Object 2"/>
              <p:cNvSpPr txBox="1"/>
              <p:nvPr/>
            </p:nvSpPr>
            <p:spPr>
              <a:xfrm>
                <a:off x="611280" y="5516640"/>
                <a:ext cx="5092560" cy="75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limLow>
                      <m:e/>
                      <m:lim>
                        <m:r>
                          <m:t xml:space="preserve">k</m:t>
                        </m:r>
                        <m:r>
                          <m:t xml:space="preserve">∈</m:t>
                        </m:r>
                        <m:r>
                          <m:t xml:space="preserve">Z</m:t>
                        </m:r>
                      </m:lim>
                    </m:limLow>
                    <m:d>
                      <m:dPr>
                        <m:begChr m:val="{"/>
                        <m:endChr m:val="}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35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k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60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,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25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k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60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" name="Object 10"/>
              <p:cNvSpPr txBox="1"/>
              <p:nvPr/>
            </p:nvSpPr>
            <p:spPr>
              <a:xfrm>
                <a:off x="3635280" y="3933720"/>
                <a:ext cx="10080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/: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78" name="Zaoblený obdélníkový popisek 17"/>
          <p:cNvSpPr/>
          <p:nvPr/>
        </p:nvSpPr>
        <p:spPr>
          <a:xfrm>
            <a:off x="5364000" y="3860640"/>
            <a:ext cx="2737080" cy="1152720"/>
          </a:xfrm>
          <a:prstGeom prst="wedgeRoundRectCallout">
            <a:avLst>
              <a:gd name="adj1" fmla="val -94814"/>
              <a:gd name="adj2" fmla="val 63175"/>
              <a:gd name="adj3" fmla="val 16667"/>
            </a:avLst>
          </a:prstGeom>
          <a:solidFill>
            <a:srgbClr val="dec59e"/>
          </a:solidFill>
          <a:ln w="25560">
            <a:solidFill>
              <a:srgbClr val="a47b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ambria"/>
              </a:rPr>
              <a:t>Další postup řešení se </a:t>
            </a:r>
            <a:r>
              <a:rPr b="1" lang="cs-CZ" sz="1800" spc="-1" strike="noStrike">
                <a:solidFill>
                  <a:srgbClr val="2f2b20"/>
                </a:solidFill>
                <a:latin typeface="Cambria"/>
              </a:rPr>
              <a:t>shoduje s příkladem 2</a:t>
            </a:r>
            <a:r>
              <a:rPr b="0" lang="cs-CZ" sz="1800" spc="-1" strike="noStrike">
                <a:solidFill>
                  <a:srgbClr val="ffffff"/>
                </a:solidFill>
                <a:latin typeface="Cambria"/>
              </a:rPr>
              <a:t>, tzn. kořeny rovnice jsou: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600" spc="-1" strike="noStrike">
                <a:solidFill>
                  <a:srgbClr val="675e47"/>
                </a:solidFill>
                <a:latin typeface="Calibri"/>
              </a:rPr>
              <a:t>Opakování</a:t>
            </a: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684360" y="1557000"/>
            <a:ext cx="76197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457200">
              <a:lnSpc>
                <a:spcPct val="15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Rovnice řešte v množině R a přiřaďte k nim správná řešení: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marL="571680" indent="-457200">
              <a:lnSpc>
                <a:spcPct val="150000"/>
              </a:lnSpc>
              <a:spcBef>
                <a:spcPts val="550"/>
              </a:spcBef>
              <a:buClr>
                <a:srgbClr val="a9a57c"/>
              </a:buClr>
              <a:buFont typeface="Cambr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marL="571680" indent="-457200">
              <a:lnSpc>
                <a:spcPct val="15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marL="57168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marL="57168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marL="57168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marL="57168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marL="571680" indent="-457200">
              <a:lnSpc>
                <a:spcPct val="15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marL="571680" indent="-4572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1" name="Object 8"/>
              <p:cNvSpPr txBox="1"/>
              <p:nvPr/>
            </p:nvSpPr>
            <p:spPr>
              <a:xfrm>
                <a:off x="1116000" y="2349360"/>
                <a:ext cx="1201680" cy="7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Object 9"/>
              <p:cNvSpPr txBox="1"/>
              <p:nvPr/>
            </p:nvSpPr>
            <p:spPr>
              <a:xfrm>
                <a:off x="1116000" y="3070080"/>
                <a:ext cx="1249200" cy="69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Object 10"/>
              <p:cNvSpPr txBox="1"/>
              <p:nvPr/>
            </p:nvSpPr>
            <p:spPr>
              <a:xfrm>
                <a:off x="1116000" y="3860640"/>
                <a:ext cx="1249200" cy="35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t</m:t>
                    </m:r>
                    <m:r>
                      <m:rPr>
                        <m:lit/>
                        <m:nor/>
                      </m:rPr>
                      <m:t xml:space="preserve">gx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" name="Object 11"/>
              <p:cNvSpPr txBox="1"/>
              <p:nvPr/>
            </p:nvSpPr>
            <p:spPr>
              <a:xfrm>
                <a:off x="1116000" y="4508640"/>
                <a:ext cx="241776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r>
                      <m:t xml:space="preserve">+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Object 12"/>
              <p:cNvSpPr txBox="1"/>
              <p:nvPr/>
            </p:nvSpPr>
            <p:spPr>
              <a:xfrm>
                <a:off x="1079640" y="5119560"/>
                <a:ext cx="2609640" cy="69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t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tgx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Object 14"/>
              <p:cNvSpPr txBox="1"/>
              <p:nvPr/>
            </p:nvSpPr>
            <p:spPr>
              <a:xfrm>
                <a:off x="4284720" y="3176640"/>
                <a:ext cx="391932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limLow>
                      <m:e/>
                      <m:lim>
                        <m:r>
                          <m:t xml:space="preserve">k</m:t>
                        </m:r>
                        <m:r>
                          <m:t xml:space="preserve">∈</m:t>
                        </m:r>
                        <m:r>
                          <m:t xml:space="preserve">Z</m:t>
                        </m:r>
                      </m:lim>
                    </m:limLow>
                    <m:d>
                      <m:dPr>
                        <m:begChr m:val="{"/>
                        <m:endChr m:val="}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60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k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60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,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20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k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60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" name="Object 16"/>
              <p:cNvSpPr txBox="1"/>
              <p:nvPr/>
            </p:nvSpPr>
            <p:spPr>
              <a:xfrm>
                <a:off x="4284720" y="4581360"/>
                <a:ext cx="3940200" cy="60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limLow>
                      <m:e/>
                      <m:lim>
                        <m:r>
                          <m:t xml:space="preserve">k</m:t>
                        </m:r>
                        <m:r>
                          <m:t xml:space="preserve">∈</m:t>
                        </m:r>
                        <m:r>
                          <m:t xml:space="preserve">Z</m:t>
                        </m:r>
                      </m:lim>
                    </m:limLow>
                    <m:d>
                      <m:dPr>
                        <m:begChr m:val="{"/>
                        <m:endChr m:val="}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60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k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60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,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00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k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60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Object 17"/>
              <p:cNvSpPr txBox="1"/>
              <p:nvPr/>
            </p:nvSpPr>
            <p:spPr>
              <a:xfrm>
                <a:off x="4284720" y="5229360"/>
                <a:ext cx="247176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limLow>
                      <m:e/>
                      <m:lim>
                        <m:r>
                          <m:t xml:space="preserve">k</m:t>
                        </m:r>
                        <m:r>
                          <m:t xml:space="preserve">∈</m:t>
                        </m:r>
                        <m:r>
                          <m:t xml:space="preserve">Z</m:t>
                        </m:r>
                      </m:lim>
                    </m:limLow>
                    <m:d>
                      <m:dPr>
                        <m:begChr m:val="{"/>
                        <m:endChr m:val="}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35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k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80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Object 18"/>
              <p:cNvSpPr txBox="1"/>
              <p:nvPr/>
            </p:nvSpPr>
            <p:spPr>
              <a:xfrm>
                <a:off x="4284720" y="3860640"/>
                <a:ext cx="2471760" cy="60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limLow>
                      <m:e/>
                      <m:lim>
                        <m:r>
                          <m:t xml:space="preserve">k</m:t>
                        </m:r>
                        <m:r>
                          <m:t xml:space="preserve">∈</m:t>
                        </m:r>
                        <m:r>
                          <m:t xml:space="preserve">Z</m:t>
                        </m:r>
                      </m:lim>
                    </m:limLow>
                    <m:d>
                      <m:dPr>
                        <m:begChr m:val="{"/>
                        <m:endChr m:val="}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20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k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80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Object 19"/>
              <p:cNvSpPr txBox="1"/>
              <p:nvPr/>
            </p:nvSpPr>
            <p:spPr>
              <a:xfrm>
                <a:off x="4284720" y="2492280"/>
                <a:ext cx="2360520" cy="60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limLow>
                      <m:e/>
                      <m:lim>
                        <m:r>
                          <m:t xml:space="preserve">k</m:t>
                        </m:r>
                        <m:r>
                          <m:t xml:space="preserve">∈</m:t>
                        </m:r>
                        <m:r>
                          <m:t xml:space="preserve">Z</m:t>
                        </m:r>
                      </m:lim>
                    </m:limLow>
                    <m:d>
                      <m:dPr>
                        <m:begChr m:val="{"/>
                        <m:endChr m:val="}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45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k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80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600" spc="-1" strike="noStrike">
                <a:solidFill>
                  <a:srgbClr val="675e47"/>
                </a:solidFill>
                <a:latin typeface="Calibri"/>
              </a:rPr>
              <a:t>Použité zdroje</a:t>
            </a: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192" name="Zástupný symbol pro obsah 2"/>
          <p:cNvSpPr/>
          <p:nvPr/>
        </p:nvSpPr>
        <p:spPr>
          <a:xfrm>
            <a:off x="457200" y="1481040"/>
            <a:ext cx="78598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a9a57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2b20"/>
                </a:solidFill>
                <a:latin typeface="Cambria"/>
                <a:ea typeface="Times New Roman"/>
              </a:rPr>
              <a:t>[</a:t>
            </a:r>
            <a:r>
              <a:rPr b="0" lang="cs-CZ" sz="1400" spc="-1" strike="noStrike">
                <a:solidFill>
                  <a:srgbClr val="2f2b20"/>
                </a:solidFill>
                <a:latin typeface="Cambria"/>
                <a:ea typeface="Times New Roman"/>
              </a:rPr>
              <a:t>1</a:t>
            </a:r>
            <a:r>
              <a:rPr b="0" lang="en-US" sz="1400" spc="-1" strike="noStrike">
                <a:solidFill>
                  <a:srgbClr val="2f2b20"/>
                </a:solidFill>
                <a:latin typeface="Cambria"/>
                <a:ea typeface="Times New Roman"/>
              </a:rPr>
              <a:t>]</a:t>
            </a:r>
            <a:r>
              <a:rPr b="0" lang="cs-CZ" sz="1400" spc="-1" strike="noStrike">
                <a:solidFill>
                  <a:srgbClr val="2f2b20"/>
                </a:solidFill>
                <a:latin typeface="Cambria"/>
                <a:ea typeface="Times New Roman"/>
              </a:rPr>
              <a:t> Odvárko, O.: </a:t>
            </a:r>
            <a:r>
              <a:rPr b="0" i="1" lang="cs-CZ" sz="1400" spc="-1" strike="noStrike">
                <a:solidFill>
                  <a:srgbClr val="2f2b20"/>
                </a:solidFill>
                <a:latin typeface="Cambria"/>
                <a:ea typeface="Times New Roman"/>
              </a:rPr>
              <a:t>Matematika pro gymnázia – Funkce</a:t>
            </a:r>
            <a:r>
              <a:rPr b="0" lang="cs-CZ" sz="1400" spc="-1" strike="noStrike">
                <a:solidFill>
                  <a:srgbClr val="2f2b20"/>
                </a:solidFill>
                <a:latin typeface="Cambria"/>
                <a:ea typeface="Times New Roman"/>
              </a:rPr>
              <a:t>. Prometheus, spol. s.r.o, Praha 2002, </a:t>
            </a:r>
            <a:endParaRPr b="0" lang="en-US" sz="1400" spc="-1" strike="noStrike">
              <a:solidFill>
                <a:srgbClr val="2f2b2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2f2b20"/>
                </a:solidFill>
                <a:latin typeface="Cambria"/>
                <a:ea typeface="Times New Roman"/>
              </a:rPr>
              <a:t>	</a:t>
            </a:r>
            <a:r>
              <a:rPr b="0" lang="cs-CZ" sz="1400" spc="-1" strike="noStrike">
                <a:solidFill>
                  <a:srgbClr val="2f2b20"/>
                </a:solidFill>
                <a:latin typeface="Cambria"/>
                <a:ea typeface="Times New Roman"/>
              </a:rPr>
              <a:t>3. upravené vydání: ISBN 80-7196-164-7.</a:t>
            </a:r>
            <a:endParaRPr b="0" lang="en-US" sz="1400" spc="-1" strike="noStrike">
              <a:solidFill>
                <a:srgbClr val="2f2b2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a9a57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2b20"/>
                </a:solidFill>
                <a:latin typeface="Cambria"/>
                <a:ea typeface="Times New Roman"/>
              </a:rPr>
              <a:t>[</a:t>
            </a:r>
            <a:r>
              <a:rPr b="0" lang="cs-CZ" sz="1400" spc="-1" strike="noStrike">
                <a:solidFill>
                  <a:srgbClr val="2f2b20"/>
                </a:solidFill>
                <a:latin typeface="Cambria"/>
                <a:ea typeface="Times New Roman"/>
              </a:rPr>
              <a:t>2</a:t>
            </a:r>
            <a:r>
              <a:rPr b="0" lang="en-US" sz="1400" spc="-1" strike="noStrike">
                <a:solidFill>
                  <a:srgbClr val="2f2b20"/>
                </a:solidFill>
                <a:latin typeface="Cambria"/>
                <a:ea typeface="Times New Roman"/>
              </a:rPr>
              <a:t>]</a:t>
            </a:r>
            <a:r>
              <a:rPr b="0" lang="cs-CZ" sz="1400" spc="-1" strike="noStrike">
                <a:solidFill>
                  <a:srgbClr val="2f2b20"/>
                </a:solidFill>
                <a:latin typeface="Cambria"/>
                <a:ea typeface="Times New Roman"/>
              </a:rPr>
              <a:t> Odvárko, O.: </a:t>
            </a:r>
            <a:r>
              <a:rPr b="0" i="1" lang="cs-CZ" sz="1400" spc="-1" strike="noStrike">
                <a:solidFill>
                  <a:srgbClr val="2f2b20"/>
                </a:solidFill>
                <a:latin typeface="Cambria"/>
                <a:ea typeface="Times New Roman"/>
              </a:rPr>
              <a:t>Sbírka úloh z matematika pro gymnázia – Funkce</a:t>
            </a:r>
            <a:r>
              <a:rPr b="0" lang="cs-CZ" sz="1400" spc="-1" strike="noStrike">
                <a:solidFill>
                  <a:srgbClr val="2f2b20"/>
                </a:solidFill>
                <a:latin typeface="Cambria"/>
                <a:ea typeface="Times New Roman"/>
              </a:rPr>
              <a:t>. Prometheus, spol. s.r.o, Praha 1997, 1. vydání: ISBN 80-7196-050-0.</a:t>
            </a:r>
            <a:endParaRPr b="0" lang="en-US" sz="1400" spc="-1" strike="noStrike">
              <a:solidFill>
                <a:srgbClr val="2f2b2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a9a57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2b20"/>
                </a:solidFill>
                <a:latin typeface="Cambria"/>
                <a:ea typeface="Times New Roman"/>
              </a:rPr>
              <a:t>[</a:t>
            </a:r>
            <a:r>
              <a:rPr b="0" lang="cs-CZ" sz="1400" spc="-1" strike="noStrike">
                <a:solidFill>
                  <a:srgbClr val="2f2b20"/>
                </a:solidFill>
                <a:latin typeface="Cambria"/>
                <a:ea typeface="Times New Roman"/>
              </a:rPr>
              <a:t>3</a:t>
            </a:r>
            <a:r>
              <a:rPr b="0" lang="en-US" sz="1400" spc="-1" strike="noStrike">
                <a:solidFill>
                  <a:srgbClr val="2f2b20"/>
                </a:solidFill>
                <a:latin typeface="Cambria"/>
                <a:ea typeface="Times New Roman"/>
              </a:rPr>
              <a:t>]</a:t>
            </a:r>
            <a:r>
              <a:rPr b="0" lang="cs-CZ" sz="1400" spc="-1" strike="noStrike">
                <a:solidFill>
                  <a:srgbClr val="2f2b20"/>
                </a:solidFill>
                <a:latin typeface="Cambria"/>
                <a:ea typeface="Times New Roman"/>
              </a:rPr>
              <a:t> Klodner, J.: </a:t>
            </a:r>
            <a:r>
              <a:rPr b="0" i="1" lang="cs-CZ" sz="1400" spc="-1" strike="noStrike">
                <a:solidFill>
                  <a:srgbClr val="2f2b20"/>
                </a:solidFill>
                <a:latin typeface="Cambria"/>
                <a:ea typeface="Times New Roman"/>
              </a:rPr>
              <a:t>Sbírka úloh z matematiky pro obchodní akademie</a:t>
            </a:r>
            <a:r>
              <a:rPr b="0" lang="cs-CZ" sz="1400" spc="-1" strike="noStrike">
                <a:solidFill>
                  <a:srgbClr val="2f2b20"/>
                </a:solidFill>
                <a:latin typeface="Cambria"/>
                <a:ea typeface="Times New Roman"/>
              </a:rPr>
              <a:t>. Svitavská tiskárna, Svitavy 1998, 4. upravené vydání.</a:t>
            </a:r>
            <a:endParaRPr b="0" lang="en-US" sz="1400" spc="-1" strike="noStrike">
              <a:solidFill>
                <a:srgbClr val="2f2b2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a9a57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"/>
          <p:cNvGraphicFramePr/>
          <p:nvPr/>
        </p:nvGraphicFramePr>
        <p:xfrm>
          <a:off x="108000" y="987480"/>
          <a:ext cx="8856720" cy="5754600"/>
        </p:xfrm>
        <a:graphic>
          <a:graphicData uri="http://schemas.openxmlformats.org/drawingml/2006/table">
            <a:tbl>
              <a:tblPr/>
              <a:tblGrid>
                <a:gridCol w="2724120"/>
                <a:gridCol w="6132600"/>
              </a:tblGrid>
              <a:tr h="3661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utor a téma DUM: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a57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ng. Lucie Pátková     GONIOMETRICKÉ ROVNICE - ZÁKLADNÍ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a57c"/>
                    </a:solidFill>
                  </a:tcPr>
                </a:tc>
              </a:tr>
              <a:tr h="3668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Číslo a název projektu: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CZ.1.07/1.5.00/34.0906     EU peníze SŠPřZe Nový Jičín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</a:tr>
              <a:tr h="9475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Anotace, vč. možností využití: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DUM obsahuje stručný zápis učiva, schémata. Lze využít k probírání nového učiva.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</a:tr>
              <a:tr h="5414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Počet vyučovacích hodin: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1 hodina 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</a:tr>
              <a:tr h="9460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Určeno pro obory: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Ekologie a biologie; Mechanik strojů a zařízení; Agropodnikání; Podnikání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</a:tr>
              <a:tr h="14904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Šablona: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Téma (název) sady DUM: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IV/2 Inovace a zkvalitnění výuky směřující k rozvoji matematické gramotnosti žáků středních škol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Rovnice a nerovnice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</a:tr>
              <a:tr h="10972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Číslo DUM </a:t>
                      </a:r>
                      <a:r>
                        <a:rPr b="0" lang="cs-CZ" sz="12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(šablona_číslo šablony_číslo sady_číslo projektu_číslo DUM)</a:t>
                      </a: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: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42_1_S1_0906_D17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</a:tr>
            </a:tbl>
          </a:graphicData>
        </a:graphic>
      </p:graphicFrame>
      <p:pic>
        <p:nvPicPr>
          <p:cNvPr id="93" name="Picture 22" descr=""/>
          <p:cNvPicPr/>
          <p:nvPr/>
        </p:nvPicPr>
        <p:blipFill>
          <a:blip r:embed="rId1"/>
          <a:stretch/>
        </p:blipFill>
        <p:spPr>
          <a:xfrm>
            <a:off x="179280" y="61920"/>
            <a:ext cx="3745080" cy="9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600" spc="-1" strike="noStrike">
                <a:solidFill>
                  <a:srgbClr val="675e47"/>
                </a:solidFill>
                <a:latin typeface="Calibri"/>
              </a:rPr>
              <a:t>Goniometrické rovnice </a:t>
            </a: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6840" y="3357360"/>
            <a:ext cx="7620120" cy="30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221400">
              <a:lnSpc>
                <a:spcPts val="3300"/>
              </a:lnSpc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ff0000"/>
                </a:solidFill>
                <a:latin typeface="Cambria"/>
              </a:rPr>
              <a:t>Základní řešení 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goniometrické rovnice je množina všech kořenů z intervalu 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	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	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. Protože goniometrické funkce jsou periodické, může mít taková rovnice nekonečně mnoho řešení. Proto u </a:t>
            </a:r>
            <a:r>
              <a:rPr b="1" i="1" lang="cs-CZ" sz="2200" spc="-1" strike="noStrike">
                <a:solidFill>
                  <a:srgbClr val="ff0000"/>
                </a:solidFill>
                <a:latin typeface="Cambria"/>
              </a:rPr>
              <a:t>obecného řešení 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v množině reálných čísel přičítáme ke kořenům </a:t>
            </a:r>
            <a:r>
              <a:rPr b="0" i="1" lang="cs-CZ" sz="2200" spc="-1" strike="noStrike">
                <a:solidFill>
                  <a:srgbClr val="2f2b20"/>
                </a:solidFill>
                <a:latin typeface="Cambria"/>
              </a:rPr>
              <a:t>k-násobek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 periody dané funkce. Př.: 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marL="332640" indent="-221400">
              <a:lnSpc>
                <a:spcPct val="15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 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96" name="Obdélník 3"/>
          <p:cNvSpPr/>
          <p:nvPr/>
        </p:nvSpPr>
        <p:spPr>
          <a:xfrm>
            <a:off x="468360" y="1413000"/>
            <a:ext cx="7632720" cy="1584360"/>
          </a:xfrm>
          <a:prstGeom prst="rect">
            <a:avLst/>
          </a:prstGeom>
          <a:solidFill>
            <a:srgbClr val="dec59e"/>
          </a:solidFill>
          <a:ln w="25560">
            <a:solidFill>
              <a:srgbClr val="a47b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f2b20"/>
                </a:solidFill>
                <a:latin typeface="Cambria"/>
              </a:rPr>
              <a:t>Goniometrická rovnice </a:t>
            </a:r>
            <a:r>
              <a:rPr b="0" lang="cs-CZ" sz="2800" spc="-1" strike="noStrike">
                <a:solidFill>
                  <a:srgbClr val="ffffff"/>
                </a:solidFill>
                <a:latin typeface="Cambria"/>
              </a:rPr>
              <a:t>je každá rovnice ve tvaru </a:t>
            </a:r>
            <a:r>
              <a:rPr b="0" i="1" lang="cs-CZ" sz="2800" spc="-1" strike="noStrike">
                <a:solidFill>
                  <a:srgbClr val="2f2b20"/>
                </a:solidFill>
                <a:latin typeface="Cambria"/>
              </a:rPr>
              <a:t>g</a:t>
            </a:r>
            <a:r>
              <a:rPr b="0" lang="cs-CZ" sz="2800" spc="-1" strike="noStrike">
                <a:solidFill>
                  <a:srgbClr val="2f2b20"/>
                </a:solidFill>
                <a:latin typeface="Cambria"/>
              </a:rPr>
              <a:t>(</a:t>
            </a:r>
            <a:r>
              <a:rPr b="0" i="1" lang="cs-CZ" sz="2800" spc="-1" strike="noStrike">
                <a:solidFill>
                  <a:srgbClr val="2f2b20"/>
                </a:solidFill>
                <a:latin typeface="Cambria"/>
              </a:rPr>
              <a:t>x</a:t>
            </a:r>
            <a:r>
              <a:rPr b="0" lang="cs-CZ" sz="2800" spc="-1" strike="noStrike">
                <a:solidFill>
                  <a:srgbClr val="2f2b20"/>
                </a:solidFill>
                <a:latin typeface="Cambria"/>
              </a:rPr>
              <a:t>) = </a:t>
            </a:r>
            <a:r>
              <a:rPr b="0" i="1" lang="cs-CZ" sz="2800" spc="-1" strike="noStrike">
                <a:solidFill>
                  <a:srgbClr val="2f2b20"/>
                </a:solidFill>
                <a:latin typeface="Cambria"/>
              </a:rPr>
              <a:t>a</a:t>
            </a:r>
            <a:r>
              <a:rPr b="0" lang="cs-CZ" sz="2800" spc="-1" strike="noStrike">
                <a:solidFill>
                  <a:srgbClr val="ffffff"/>
                </a:solidFill>
                <a:latin typeface="Cambria"/>
              </a:rPr>
              <a:t>, kde </a:t>
            </a:r>
            <a:r>
              <a:rPr b="0" i="1" lang="cs-CZ" sz="2800" spc="-1" strike="noStrike">
                <a:solidFill>
                  <a:srgbClr val="2f2b20"/>
                </a:solidFill>
                <a:latin typeface="Cambria"/>
              </a:rPr>
              <a:t>g </a:t>
            </a:r>
            <a:r>
              <a:rPr b="0" lang="cs-CZ" sz="2800" spc="-1" strike="noStrike">
                <a:solidFill>
                  <a:srgbClr val="ffffff"/>
                </a:solidFill>
                <a:latin typeface="Cambria"/>
              </a:rPr>
              <a:t>je jedna z goniometrických funkcí </a:t>
            </a:r>
            <a:r>
              <a:rPr b="0" lang="cs-CZ" sz="2800" spc="-1" strike="noStrike">
                <a:solidFill>
                  <a:srgbClr val="2f2b20"/>
                </a:solidFill>
                <a:latin typeface="Cambria"/>
              </a:rPr>
              <a:t>sin, cos, tg, cotg </a:t>
            </a:r>
            <a:r>
              <a:rPr b="0" lang="cs-CZ" sz="2800" spc="-1" strike="noStrike">
                <a:solidFill>
                  <a:srgbClr val="ffffff"/>
                </a:solidFill>
                <a:latin typeface="Cambria"/>
              </a:rPr>
              <a:t>s proměnnou </a:t>
            </a:r>
            <a:r>
              <a:rPr b="0" i="1" lang="cs-CZ" sz="2800" spc="-1" strike="noStrike">
                <a:solidFill>
                  <a:srgbClr val="2f2b20"/>
                </a:solidFill>
                <a:latin typeface="Cambria"/>
              </a:rPr>
              <a:t>x</a:t>
            </a:r>
            <a:r>
              <a:rPr b="0" lang="cs-CZ" sz="2800" spc="-1" strike="noStrike">
                <a:solidFill>
                  <a:srgbClr val="2f2b20"/>
                </a:solidFill>
                <a:latin typeface="Cambria"/>
              </a:rPr>
              <a:t> </a:t>
            </a:r>
            <a:r>
              <a:rPr b="0" lang="cs-CZ" sz="2800" spc="-1" strike="noStrike">
                <a:solidFill>
                  <a:srgbClr val="2f2b2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2f2b20"/>
                </a:solidFill>
                <a:latin typeface="Cambria"/>
              </a:rPr>
              <a:t> R</a:t>
            </a:r>
            <a:r>
              <a:rPr b="0" lang="cs-CZ" sz="2800" spc="-1" strike="noStrike">
                <a:solidFill>
                  <a:srgbClr val="ffffff"/>
                </a:solidFill>
                <a:latin typeface="Cambria"/>
              </a:rPr>
              <a:t>.</a:t>
            </a:r>
            <a:endParaRPr b="0" lang="en-US" sz="2800" spc="-1" strike="noStrike">
              <a:solidFill>
                <a:srgbClr val="2f2b2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Object 6"/>
              <p:cNvSpPr txBox="1"/>
              <p:nvPr/>
            </p:nvSpPr>
            <p:spPr>
              <a:xfrm>
                <a:off x="3151080" y="3824280"/>
                <a:ext cx="103032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⟨</m:t>
                    </m:r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  <m:r>
                      <m:t xml:space="preserve">;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360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Object 7"/>
              <p:cNvSpPr txBox="1"/>
              <p:nvPr/>
            </p:nvSpPr>
            <p:spPr>
              <a:xfrm>
                <a:off x="3132000" y="5516640"/>
                <a:ext cx="321156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k</m:t>
                    </m:r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360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  <m:r>
                      <m:t xml:space="preserve">,</m:t>
                    </m:r>
                    <m:m>
                      <m:mr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600" spc="-1" strike="noStrike">
                <a:solidFill>
                  <a:srgbClr val="675e47"/>
                </a:solidFill>
                <a:latin typeface="Calibri"/>
              </a:rPr>
              <a:t>Příklad 1:</a:t>
            </a: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Object 2"/>
              <p:cNvSpPr txBox="1"/>
              <p:nvPr/>
            </p:nvSpPr>
            <p:spPr>
              <a:xfrm>
                <a:off x="3583080" y="320760"/>
                <a:ext cx="2055600" cy="11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1" name="TextovéPole 24"/>
          <p:cNvSpPr/>
          <p:nvPr/>
        </p:nvSpPr>
        <p:spPr>
          <a:xfrm>
            <a:off x="539640" y="1628640"/>
            <a:ext cx="763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Nejprve nalezneme </a:t>
            </a:r>
            <a:r>
              <a:rPr b="0" lang="cs-CZ" sz="1800" spc="-1" strike="noStrike">
                <a:solidFill>
                  <a:srgbClr val="ff0000"/>
                </a:solidFill>
                <a:latin typeface="Cambria"/>
              </a:rPr>
              <a:t>základní řešení rovnice, </a:t>
            </a: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tj. množinu všech kořenů patřících do intervalu </a:t>
            </a:r>
            <a:r>
              <a:rPr b="0" lang="cs-CZ" sz="1800" spc="-1" strike="noStrike">
                <a:solidFill>
                  <a:srgbClr val="ff0000"/>
                </a:solidFill>
                <a:latin typeface="Cambria"/>
              </a:rPr>
              <a:t>	</a:t>
            </a: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         .</a:t>
            </a:r>
            <a:r>
              <a:rPr b="0" lang="cs-CZ" sz="1800" spc="-1" strike="noStrike">
                <a:solidFill>
                  <a:srgbClr val="ff0000"/>
                </a:solidFill>
                <a:latin typeface="Cambria"/>
              </a:rPr>
              <a:t> </a:t>
            </a: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Využijeme přitom </a:t>
            </a:r>
            <a:r>
              <a:rPr b="0" lang="cs-CZ" sz="1800" spc="-1" strike="noStrike">
                <a:solidFill>
                  <a:srgbClr val="ff0000"/>
                </a:solidFill>
                <a:latin typeface="Cambria"/>
              </a:rPr>
              <a:t>jednotkovou kružnici.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Object 24"/>
              <p:cNvSpPr txBox="1"/>
              <p:nvPr/>
            </p:nvSpPr>
            <p:spPr>
              <a:xfrm>
                <a:off x="2771640" y="2060640"/>
                <a:ext cx="92412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⟨</m:t>
                    </m:r>
                    <m:r>
                      <m:t xml:space="preserve">0</m:t>
                    </m:r>
                    <m:r>
                      <m:t xml:space="preserve">;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360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03" name="Obrázek 25" descr="Jednotková_sin.jpg"/>
          <p:cNvPicPr/>
          <p:nvPr/>
        </p:nvPicPr>
        <p:blipFill>
          <a:blip r:embed="rId1"/>
          <a:srcRect l="20473" t="2473" r="9576" b="0"/>
          <a:stretch/>
        </p:blipFill>
        <p:spPr>
          <a:xfrm>
            <a:off x="755640" y="2781360"/>
            <a:ext cx="2222640" cy="21366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04" name="Object 26"/>
              <p:cNvSpPr txBox="1"/>
              <p:nvPr/>
            </p:nvSpPr>
            <p:spPr>
              <a:xfrm>
                <a:off x="4859280" y="4797360"/>
                <a:ext cx="29671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80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210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" name="Object 27"/>
              <p:cNvSpPr txBox="1"/>
              <p:nvPr/>
            </p:nvSpPr>
            <p:spPr>
              <a:xfrm>
                <a:off x="4859280" y="5300640"/>
                <a:ext cx="302436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360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  <m:r>
                      <m:t xml:space="preserve">−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330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06" name="Zaoblený obdélníkový popisek 29"/>
          <p:cNvSpPr/>
          <p:nvPr/>
        </p:nvSpPr>
        <p:spPr>
          <a:xfrm>
            <a:off x="4067280" y="3789360"/>
            <a:ext cx="4105080" cy="792000"/>
          </a:xfrm>
          <a:prstGeom prst="wedgeRoundRectCallout">
            <a:avLst>
              <a:gd name="adj1" fmla="val -16504"/>
              <a:gd name="adj2" fmla="val -96398"/>
              <a:gd name="adj3" fmla="val 16667"/>
            </a:avLst>
          </a:prstGeom>
          <a:solidFill>
            <a:srgbClr val="a47b38"/>
          </a:solidFill>
          <a:ln w="25560">
            <a:solidFill>
              <a:srgbClr val="6d52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ambria"/>
              </a:rPr>
              <a:t>Bez ohledu na znaménko určíme základní úhel, tj. úhel v I. kvadrantu.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Object 2"/>
              <p:cNvSpPr txBox="1"/>
              <p:nvPr/>
            </p:nvSpPr>
            <p:spPr>
              <a:xfrm>
                <a:off x="3132000" y="2708280"/>
                <a:ext cx="279720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⇒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08" name="Zaoblený obdélníkový popisek 32"/>
          <p:cNvSpPr/>
          <p:nvPr/>
        </p:nvSpPr>
        <p:spPr>
          <a:xfrm>
            <a:off x="684360" y="5157720"/>
            <a:ext cx="3166920" cy="792360"/>
          </a:xfrm>
          <a:prstGeom prst="wedgeRoundRectCallout">
            <a:avLst>
              <a:gd name="adj1" fmla="val 78990"/>
              <a:gd name="adj2" fmla="val -32708"/>
              <a:gd name="adj3" fmla="val 16667"/>
            </a:avLst>
          </a:prstGeom>
          <a:solidFill>
            <a:srgbClr val="dec59e"/>
          </a:solidFill>
          <a:ln w="25560">
            <a:solidFill>
              <a:srgbClr val="a47b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ambria"/>
              </a:rPr>
              <a:t>Podle znaménka umístíme úhel do III. a IV. kvadrantu.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Obrázek 40" descr="zatržítko.JPG"/>
          <p:cNvPicPr/>
          <p:nvPr/>
        </p:nvPicPr>
        <p:blipFill>
          <a:blip r:embed="rId1"/>
          <a:srcRect l="0" t="13314" r="16463" b="13605"/>
          <a:stretch/>
        </p:blipFill>
        <p:spPr>
          <a:xfrm>
            <a:off x="5724360" y="3141720"/>
            <a:ext cx="863640" cy="7920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10" name="Object 3"/>
              <p:cNvSpPr txBox="1"/>
              <p:nvPr/>
            </p:nvSpPr>
            <p:spPr>
              <a:xfrm>
                <a:off x="900000" y="2852640"/>
                <a:ext cx="5121360" cy="7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limLow>
                      <m:e/>
                      <m:lim>
                        <m:r>
                          <m:t xml:space="preserve">k</m:t>
                        </m:r>
                        <m:r>
                          <m:t xml:space="preserve">∈</m:t>
                        </m:r>
                        <m:r>
                          <m:t xml:space="preserve">Z</m:t>
                        </m:r>
                      </m:lim>
                    </m:limLow>
                    <m:d>
                      <m:dPr>
                        <m:begChr m:val="{"/>
                        <m:endChr m:val="}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10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k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60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,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30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k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60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111" name="Obrázek 40" descr="zatržítko.JPG"/>
          <p:cNvPicPr/>
          <p:nvPr/>
        </p:nvPicPr>
        <p:blipFill>
          <a:blip r:embed="rId2"/>
          <a:srcRect l="0" t="13314" r="16463" b="13605"/>
          <a:stretch/>
        </p:blipFill>
        <p:spPr>
          <a:xfrm>
            <a:off x="3348000" y="1197000"/>
            <a:ext cx="863640" cy="7920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12" name="Object 15"/>
              <p:cNvSpPr txBox="1"/>
              <p:nvPr/>
            </p:nvSpPr>
            <p:spPr>
              <a:xfrm>
                <a:off x="971640" y="1125360"/>
                <a:ext cx="2205000" cy="50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10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;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30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3" name="TextovéPole 6"/>
          <p:cNvSpPr/>
          <p:nvPr/>
        </p:nvSpPr>
        <p:spPr>
          <a:xfrm>
            <a:off x="539640" y="549360"/>
            <a:ext cx="64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0000"/>
                </a:solidFill>
                <a:latin typeface="Cambria"/>
              </a:rPr>
              <a:t>Řešením rovnice v intervalu </a:t>
            </a:r>
            <a:r>
              <a:rPr b="0" lang="cs-CZ" sz="1800" spc="-1" strike="noStrike">
                <a:solidFill>
                  <a:srgbClr val="ff0000"/>
                </a:solidFill>
                <a:latin typeface="Cambria"/>
              </a:rPr>
              <a:t>	</a:t>
            </a:r>
            <a:r>
              <a:rPr b="0" lang="cs-CZ" sz="1800" spc="-1" strike="noStrike">
                <a:solidFill>
                  <a:srgbClr val="ff0000"/>
                </a:solidFill>
                <a:latin typeface="Cambria"/>
              </a:rPr>
              <a:t> je množina kořenů  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Object 6"/>
              <p:cNvSpPr txBox="1"/>
              <p:nvPr/>
            </p:nvSpPr>
            <p:spPr>
              <a:xfrm>
                <a:off x="3348000" y="549360"/>
                <a:ext cx="92412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⟨</m:t>
                    </m:r>
                    <m:r>
                      <m:t xml:space="preserve">0</m:t>
                    </m:r>
                    <m:r>
                      <m:t xml:space="preserve">;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360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5" name="TextovéPole 9"/>
          <p:cNvSpPr/>
          <p:nvPr/>
        </p:nvSpPr>
        <p:spPr>
          <a:xfrm>
            <a:off x="539640" y="2133720"/>
            <a:ext cx="72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0000"/>
                </a:solidFill>
                <a:latin typeface="Cambria"/>
              </a:rPr>
              <a:t>Pokud rovnici řešíme v množině R, pak ke kořenům přičteme periodu.  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600" spc="-1" strike="noStrike">
                <a:solidFill>
                  <a:srgbClr val="675e47"/>
                </a:solidFill>
                <a:latin typeface="Calibri"/>
              </a:rPr>
              <a:t>Příklad 2:</a:t>
            </a: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Object 2"/>
              <p:cNvSpPr txBox="1"/>
              <p:nvPr/>
            </p:nvSpPr>
            <p:spPr>
              <a:xfrm>
                <a:off x="3373560" y="190440"/>
                <a:ext cx="2474640" cy="129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8" name="TextovéPole 24"/>
          <p:cNvSpPr/>
          <p:nvPr/>
        </p:nvSpPr>
        <p:spPr>
          <a:xfrm>
            <a:off x="539640" y="1628640"/>
            <a:ext cx="763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Nejprve nalezneme </a:t>
            </a:r>
            <a:r>
              <a:rPr b="0" lang="cs-CZ" sz="1800" spc="-1" strike="noStrike">
                <a:solidFill>
                  <a:srgbClr val="ff0000"/>
                </a:solidFill>
                <a:latin typeface="Cambria"/>
              </a:rPr>
              <a:t>základní řešení rovnice, </a:t>
            </a: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tj. množinu všech kořenů patřících do intervalu </a:t>
            </a:r>
            <a:r>
              <a:rPr b="0" lang="cs-CZ" sz="1800" spc="-1" strike="noStrike">
                <a:solidFill>
                  <a:srgbClr val="ff0000"/>
                </a:solidFill>
                <a:latin typeface="Cambria"/>
              </a:rPr>
              <a:t>	</a:t>
            </a: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         .</a:t>
            </a:r>
            <a:r>
              <a:rPr b="0" lang="cs-CZ" sz="1800" spc="-1" strike="noStrike">
                <a:solidFill>
                  <a:srgbClr val="ff0000"/>
                </a:solidFill>
                <a:latin typeface="Cambria"/>
              </a:rPr>
              <a:t> </a:t>
            </a: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Využijeme přitom </a:t>
            </a:r>
            <a:r>
              <a:rPr b="0" lang="cs-CZ" sz="1800" spc="-1" strike="noStrike">
                <a:solidFill>
                  <a:srgbClr val="ff0000"/>
                </a:solidFill>
                <a:latin typeface="Cambria"/>
              </a:rPr>
              <a:t>jednotkovou kružnici.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Object 3"/>
              <p:cNvSpPr txBox="1"/>
              <p:nvPr/>
            </p:nvSpPr>
            <p:spPr>
              <a:xfrm>
                <a:off x="2771640" y="2060640"/>
                <a:ext cx="92412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⟨</m:t>
                    </m:r>
                    <m:r>
                      <m:t xml:space="preserve">0</m:t>
                    </m:r>
                    <m:r>
                      <m:t xml:space="preserve">;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360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Object 4"/>
              <p:cNvSpPr txBox="1"/>
              <p:nvPr/>
            </p:nvSpPr>
            <p:spPr>
              <a:xfrm>
                <a:off x="4873680" y="4797360"/>
                <a:ext cx="29383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80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  <m:r>
                      <m:t xml:space="preserve">−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35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Object 5"/>
              <p:cNvSpPr txBox="1"/>
              <p:nvPr/>
            </p:nvSpPr>
            <p:spPr>
              <a:xfrm>
                <a:off x="4859280" y="5300640"/>
                <a:ext cx="302436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80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225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22" name="Zaoblený obdélníkový popisek 29"/>
          <p:cNvSpPr/>
          <p:nvPr/>
        </p:nvSpPr>
        <p:spPr>
          <a:xfrm>
            <a:off x="4067280" y="3789360"/>
            <a:ext cx="4105080" cy="792000"/>
          </a:xfrm>
          <a:prstGeom prst="wedgeRoundRectCallout">
            <a:avLst>
              <a:gd name="adj1" fmla="val -16504"/>
              <a:gd name="adj2" fmla="val -96398"/>
              <a:gd name="adj3" fmla="val 16667"/>
            </a:avLst>
          </a:prstGeom>
          <a:solidFill>
            <a:srgbClr val="a47b38"/>
          </a:solidFill>
          <a:ln w="25560">
            <a:solidFill>
              <a:srgbClr val="6d52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ambria"/>
              </a:rPr>
              <a:t>Bez ohledu na znaménko určíme základní úhel, tj. úhel v I. kvadrantu.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Object 2"/>
              <p:cNvSpPr txBox="1"/>
              <p:nvPr/>
            </p:nvSpPr>
            <p:spPr>
              <a:xfrm>
                <a:off x="2978280" y="2666880"/>
                <a:ext cx="310500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⇒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24" name="Zaoblený obdélníkový popisek 32"/>
          <p:cNvSpPr/>
          <p:nvPr/>
        </p:nvSpPr>
        <p:spPr>
          <a:xfrm>
            <a:off x="684360" y="5157720"/>
            <a:ext cx="3166920" cy="792360"/>
          </a:xfrm>
          <a:prstGeom prst="wedgeRoundRectCallout">
            <a:avLst>
              <a:gd name="adj1" fmla="val 78990"/>
              <a:gd name="adj2" fmla="val -32708"/>
              <a:gd name="adj3" fmla="val 16667"/>
            </a:avLst>
          </a:prstGeom>
          <a:solidFill>
            <a:srgbClr val="dec59e"/>
          </a:solidFill>
          <a:ln w="25560">
            <a:solidFill>
              <a:srgbClr val="a47b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ambria"/>
              </a:rPr>
              <a:t>Podle znaménka umístíme úhel do II. a III. kvadrantu.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pic>
        <p:nvPicPr>
          <p:cNvPr id="125" name="Obrázek 11" descr="Jednotková_cos.jpg"/>
          <p:cNvPicPr/>
          <p:nvPr/>
        </p:nvPicPr>
        <p:blipFill>
          <a:blip r:embed="rId1"/>
          <a:srcRect l="18616" t="3985" r="26000" b="0"/>
          <a:stretch/>
        </p:blipFill>
        <p:spPr>
          <a:xfrm>
            <a:off x="684360" y="2708280"/>
            <a:ext cx="2158920" cy="210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Obrázek 40" descr="zatržítko.JPG"/>
          <p:cNvPicPr/>
          <p:nvPr/>
        </p:nvPicPr>
        <p:blipFill>
          <a:blip r:embed="rId1"/>
          <a:srcRect l="0" t="13314" r="16463" b="13605"/>
          <a:stretch/>
        </p:blipFill>
        <p:spPr>
          <a:xfrm>
            <a:off x="5651640" y="3141720"/>
            <a:ext cx="863640" cy="7920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27" name="Object 2"/>
              <p:cNvSpPr txBox="1"/>
              <p:nvPr/>
            </p:nvSpPr>
            <p:spPr>
              <a:xfrm>
                <a:off x="914400" y="2852640"/>
                <a:ext cx="5092560" cy="7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limLow>
                      <m:e/>
                      <m:lim>
                        <m:r>
                          <m:t xml:space="preserve">k</m:t>
                        </m:r>
                        <m:r>
                          <m:t xml:space="preserve">∈</m:t>
                        </m:r>
                        <m:r>
                          <m:t xml:space="preserve">Z</m:t>
                        </m:r>
                      </m:lim>
                    </m:limLow>
                    <m:d>
                      <m:dPr>
                        <m:begChr m:val="{"/>
                        <m:endChr m:val="}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35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k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60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,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25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k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60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128" name="Obrázek 40" descr="zatržítko.JPG"/>
          <p:cNvPicPr/>
          <p:nvPr/>
        </p:nvPicPr>
        <p:blipFill>
          <a:blip r:embed="rId2"/>
          <a:srcRect l="0" t="13314" r="16463" b="13605"/>
          <a:stretch/>
        </p:blipFill>
        <p:spPr>
          <a:xfrm>
            <a:off x="3348000" y="1197000"/>
            <a:ext cx="863640" cy="7920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29" name="Object 15"/>
              <p:cNvSpPr txBox="1"/>
              <p:nvPr/>
            </p:nvSpPr>
            <p:spPr>
              <a:xfrm>
                <a:off x="984240" y="1125360"/>
                <a:ext cx="2178000" cy="50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35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;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25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30" name="TextovéPole 6"/>
          <p:cNvSpPr/>
          <p:nvPr/>
        </p:nvSpPr>
        <p:spPr>
          <a:xfrm>
            <a:off x="539640" y="549360"/>
            <a:ext cx="64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0000"/>
                </a:solidFill>
                <a:latin typeface="Cambria"/>
              </a:rPr>
              <a:t>Řešením rovnice v intervalu </a:t>
            </a:r>
            <a:r>
              <a:rPr b="0" lang="cs-CZ" sz="1800" spc="-1" strike="noStrike">
                <a:solidFill>
                  <a:srgbClr val="ff0000"/>
                </a:solidFill>
                <a:latin typeface="Cambria"/>
              </a:rPr>
              <a:t>	</a:t>
            </a:r>
            <a:r>
              <a:rPr b="0" lang="cs-CZ" sz="1800" spc="-1" strike="noStrike">
                <a:solidFill>
                  <a:srgbClr val="ff0000"/>
                </a:solidFill>
                <a:latin typeface="Cambria"/>
              </a:rPr>
              <a:t> je množina kořenů  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" name="Object 4"/>
              <p:cNvSpPr txBox="1"/>
              <p:nvPr/>
            </p:nvSpPr>
            <p:spPr>
              <a:xfrm>
                <a:off x="3348000" y="549360"/>
                <a:ext cx="92412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⟨</m:t>
                    </m:r>
                    <m:r>
                      <m:t xml:space="preserve">0</m:t>
                    </m:r>
                    <m:r>
                      <m:t xml:space="preserve">;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360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2" name="TextovéPole 9"/>
          <p:cNvSpPr/>
          <p:nvPr/>
        </p:nvSpPr>
        <p:spPr>
          <a:xfrm>
            <a:off x="539640" y="2133720"/>
            <a:ext cx="72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0000"/>
                </a:solidFill>
                <a:latin typeface="Cambria"/>
              </a:rPr>
              <a:t>Pokud rovnici řešíme v množině R, pak ke kořenům přičteme periodu.  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600" spc="-1" strike="noStrike">
                <a:solidFill>
                  <a:srgbClr val="675e47"/>
                </a:solidFill>
                <a:latin typeface="Calibri"/>
              </a:rPr>
              <a:t>Příklad 3:</a:t>
            </a: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Object 2"/>
              <p:cNvSpPr txBox="1"/>
              <p:nvPr/>
            </p:nvSpPr>
            <p:spPr>
              <a:xfrm>
                <a:off x="3348000" y="476280"/>
                <a:ext cx="171288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gx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35" name="TextovéPole 24"/>
          <p:cNvSpPr/>
          <p:nvPr/>
        </p:nvSpPr>
        <p:spPr>
          <a:xfrm>
            <a:off x="539640" y="1628640"/>
            <a:ext cx="763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Nejprve nalezneme </a:t>
            </a:r>
            <a:r>
              <a:rPr b="0" lang="cs-CZ" sz="1800" spc="-1" strike="noStrike">
                <a:solidFill>
                  <a:srgbClr val="ff0000"/>
                </a:solidFill>
                <a:latin typeface="Cambria"/>
              </a:rPr>
              <a:t>základní řešení rovnice, </a:t>
            </a: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tj. množinu všech kořenů patřících do intervalu </a:t>
            </a:r>
            <a:r>
              <a:rPr b="0" lang="cs-CZ" sz="1800" spc="-1" strike="noStrike">
                <a:solidFill>
                  <a:srgbClr val="ff0000"/>
                </a:solidFill>
                <a:latin typeface="Cambria"/>
              </a:rPr>
              <a:t>	</a:t>
            </a: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         .</a:t>
            </a:r>
            <a:r>
              <a:rPr b="0" lang="cs-CZ" sz="1800" spc="-1" strike="noStrike">
                <a:solidFill>
                  <a:srgbClr val="ff0000"/>
                </a:solidFill>
                <a:latin typeface="Cambria"/>
              </a:rPr>
              <a:t> </a:t>
            </a: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Využijeme přitom </a:t>
            </a:r>
            <a:r>
              <a:rPr b="0" lang="cs-CZ" sz="1800" spc="-1" strike="noStrike">
                <a:solidFill>
                  <a:srgbClr val="ff0000"/>
                </a:solidFill>
                <a:latin typeface="Cambria"/>
              </a:rPr>
              <a:t>jednotkovou kružnici.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" name="Object 3"/>
              <p:cNvSpPr txBox="1"/>
              <p:nvPr/>
            </p:nvSpPr>
            <p:spPr>
              <a:xfrm>
                <a:off x="2771640" y="2060640"/>
                <a:ext cx="92412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⟨</m:t>
                    </m:r>
                    <m:r>
                      <m:t xml:space="preserve">0</m:t>
                    </m:r>
                    <m:r>
                      <m:t xml:space="preserve">;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360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" name="Object 4"/>
              <p:cNvSpPr txBox="1"/>
              <p:nvPr/>
            </p:nvSpPr>
            <p:spPr>
              <a:xfrm>
                <a:off x="4894200" y="4869000"/>
                <a:ext cx="111924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" name="Object 5"/>
              <p:cNvSpPr txBox="1"/>
              <p:nvPr/>
            </p:nvSpPr>
            <p:spPr>
              <a:xfrm>
                <a:off x="4859280" y="5300640"/>
                <a:ext cx="302436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80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240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39" name="Zaoblený obdélníkový popisek 29"/>
          <p:cNvSpPr/>
          <p:nvPr/>
        </p:nvSpPr>
        <p:spPr>
          <a:xfrm>
            <a:off x="4067280" y="3789360"/>
            <a:ext cx="4105080" cy="792000"/>
          </a:xfrm>
          <a:prstGeom prst="wedgeRoundRectCallout">
            <a:avLst>
              <a:gd name="adj1" fmla="val -16504"/>
              <a:gd name="adj2" fmla="val -96398"/>
              <a:gd name="adj3" fmla="val 16667"/>
            </a:avLst>
          </a:prstGeom>
          <a:solidFill>
            <a:srgbClr val="a47b38"/>
          </a:solidFill>
          <a:ln w="25560">
            <a:solidFill>
              <a:srgbClr val="6d52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ambria"/>
              </a:rPr>
              <a:t>Bez ohledu na znaménko určíme základní úhel, tj. úhel v I. kvadrantu.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" name="Object 2"/>
              <p:cNvSpPr txBox="1"/>
              <p:nvPr/>
            </p:nvSpPr>
            <p:spPr>
              <a:xfrm>
                <a:off x="3144960" y="2862360"/>
                <a:ext cx="2770200" cy="56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gx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⇒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41" name="Zaoblený obdélníkový popisek 32"/>
          <p:cNvSpPr/>
          <p:nvPr/>
        </p:nvSpPr>
        <p:spPr>
          <a:xfrm>
            <a:off x="684360" y="5157720"/>
            <a:ext cx="3166920" cy="792360"/>
          </a:xfrm>
          <a:prstGeom prst="wedgeRoundRectCallout">
            <a:avLst>
              <a:gd name="adj1" fmla="val 78990"/>
              <a:gd name="adj2" fmla="val -32708"/>
              <a:gd name="adj3" fmla="val 16667"/>
            </a:avLst>
          </a:prstGeom>
          <a:solidFill>
            <a:srgbClr val="dec59e"/>
          </a:solidFill>
          <a:ln w="25560">
            <a:solidFill>
              <a:srgbClr val="a47b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ambria"/>
              </a:rPr>
              <a:t>Podle znaménka umístíme úhel do I. a III. kvadrantu.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pic>
        <p:nvPicPr>
          <p:cNvPr id="142" name="Obrázek 12" descr="Jednotková_tg.jpg"/>
          <p:cNvPicPr/>
          <p:nvPr/>
        </p:nvPicPr>
        <p:blipFill>
          <a:blip r:embed="rId1"/>
          <a:srcRect l="19539" t="2342" r="26923" b="0"/>
          <a:stretch/>
        </p:blipFill>
        <p:spPr>
          <a:xfrm>
            <a:off x="684360" y="2637000"/>
            <a:ext cx="2087280" cy="213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Obrázek 40" descr="zatržítko.JPG"/>
          <p:cNvPicPr/>
          <p:nvPr/>
        </p:nvPicPr>
        <p:blipFill>
          <a:blip r:embed="rId1"/>
          <a:srcRect l="0" t="13314" r="16463" b="13605"/>
          <a:stretch/>
        </p:blipFill>
        <p:spPr>
          <a:xfrm>
            <a:off x="3851280" y="5661000"/>
            <a:ext cx="863640" cy="792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44" name="Object 2"/>
              <p:cNvSpPr txBox="1"/>
              <p:nvPr/>
            </p:nvSpPr>
            <p:spPr>
              <a:xfrm>
                <a:off x="1042920" y="5589720"/>
                <a:ext cx="2967120" cy="75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limLow>
                      <m:e/>
                      <m:lim>
                        <m:r>
                          <m:t xml:space="preserve">k</m:t>
                        </m:r>
                        <m:r>
                          <m:t xml:space="preserve">∈</m:t>
                        </m:r>
                        <m:r>
                          <m:t xml:space="preserve">Z</m:t>
                        </m:r>
                      </m:lim>
                    </m:limLow>
                    <m:d>
                      <m:dPr>
                        <m:begChr m:val="{"/>
                        <m:endChr m:val="}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60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k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80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145" name="Obrázek 40" descr="zatržítko.JPG"/>
          <p:cNvPicPr/>
          <p:nvPr/>
        </p:nvPicPr>
        <p:blipFill>
          <a:blip r:embed="rId2"/>
          <a:srcRect l="0" t="13314" r="16463" b="13605"/>
          <a:stretch/>
        </p:blipFill>
        <p:spPr>
          <a:xfrm>
            <a:off x="2987640" y="1197000"/>
            <a:ext cx="863640" cy="7920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46" name="Object 15"/>
              <p:cNvSpPr txBox="1"/>
              <p:nvPr/>
            </p:nvSpPr>
            <p:spPr>
              <a:xfrm>
                <a:off x="971640" y="1125360"/>
                <a:ext cx="2066760" cy="50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60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;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40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47" name="TextovéPole 6"/>
          <p:cNvSpPr/>
          <p:nvPr/>
        </p:nvSpPr>
        <p:spPr>
          <a:xfrm>
            <a:off x="539640" y="549360"/>
            <a:ext cx="64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0000"/>
                </a:solidFill>
                <a:latin typeface="Cambria"/>
              </a:rPr>
              <a:t>Řešením rovnice v intervalu </a:t>
            </a:r>
            <a:r>
              <a:rPr b="0" lang="cs-CZ" sz="1800" spc="-1" strike="noStrike">
                <a:solidFill>
                  <a:srgbClr val="ff0000"/>
                </a:solidFill>
                <a:latin typeface="Cambria"/>
              </a:rPr>
              <a:t>	</a:t>
            </a:r>
            <a:r>
              <a:rPr b="0" lang="cs-CZ" sz="1800" spc="-1" strike="noStrike">
                <a:solidFill>
                  <a:srgbClr val="ff0000"/>
                </a:solidFill>
                <a:latin typeface="Cambria"/>
              </a:rPr>
              <a:t> je množina kořenů  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Object 4"/>
              <p:cNvSpPr txBox="1"/>
              <p:nvPr/>
            </p:nvSpPr>
            <p:spPr>
              <a:xfrm>
                <a:off x="3348000" y="549360"/>
                <a:ext cx="92412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⟨</m:t>
                    </m:r>
                    <m:r>
                      <m:t xml:space="preserve">0</m:t>
                    </m:r>
                    <m:r>
                      <m:t xml:space="preserve">;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360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9" name="TextovéPole 9"/>
          <p:cNvSpPr/>
          <p:nvPr/>
        </p:nvSpPr>
        <p:spPr>
          <a:xfrm>
            <a:off x="539640" y="2133720"/>
            <a:ext cx="72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0000"/>
                </a:solidFill>
                <a:latin typeface="Cambria"/>
              </a:rPr>
              <a:t>Pokud rovnici řešíme v množině R, pak ke kořenům přičteme periodu.  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Object 5"/>
              <p:cNvSpPr txBox="1"/>
              <p:nvPr/>
            </p:nvSpPr>
            <p:spPr>
              <a:xfrm>
                <a:off x="900000" y="2781360"/>
                <a:ext cx="237816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k</m:t>
                    </m:r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360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Object 6"/>
              <p:cNvSpPr txBox="1"/>
              <p:nvPr/>
            </p:nvSpPr>
            <p:spPr>
              <a:xfrm>
                <a:off x="900000" y="3357720"/>
                <a:ext cx="2603520" cy="50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240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k</m:t>
                    </m:r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360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52" name="Pravá složená závorka 11"/>
          <p:cNvSpPr/>
          <p:nvPr/>
        </p:nvSpPr>
        <p:spPr>
          <a:xfrm>
            <a:off x="3708360" y="2924280"/>
            <a:ext cx="719280" cy="792000"/>
          </a:xfrm>
          <a:custGeom>
            <a:avLst/>
            <a:gdLst>
              <a:gd name="textAreaLeft" fmla="*/ 0 w 719280"/>
              <a:gd name="textAreaRight" fmla="*/ 259560 w 719280"/>
              <a:gd name="textAreaTop" fmla="*/ 18720 h 792000"/>
              <a:gd name="textAreaBottom" fmla="*/ 773280 h 79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817"/>
                  <a:pt x="10800" y="1634"/>
                </a:cubicBezTo>
                <a:lnTo>
                  <a:pt x="10800" y="9166"/>
                </a:lnTo>
                <a:cubicBezTo>
                  <a:pt x="10800" y="9983"/>
                  <a:pt x="16200" y="10800"/>
                  <a:pt x="21600" y="10800"/>
                </a:cubicBezTo>
                <a:cubicBezTo>
                  <a:pt x="16200" y="10800"/>
                  <a:pt x="10800" y="11617"/>
                  <a:pt x="10800" y="12434"/>
                </a:cubicBezTo>
                <a:lnTo>
                  <a:pt x="10800" y="19966"/>
                </a:lnTo>
                <a:cubicBezTo>
                  <a:pt x="10800" y="20783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" name="Object 7"/>
              <p:cNvSpPr txBox="1"/>
              <p:nvPr/>
            </p:nvSpPr>
            <p:spPr>
              <a:xfrm>
                <a:off x="4487760" y="2970360"/>
                <a:ext cx="2546280" cy="56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1</m:t>
                            </m:r>
                          </m:e>
                          <m:sub>
                            <m:r>
                              <m:t xml:space="preserve">,</m:t>
                            </m:r>
                            <m:r>
                              <m:t xml:space="preserve">2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k</m:t>
                    </m:r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80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54" name="Zaoblený obdélníkový popisek 12"/>
          <p:cNvSpPr/>
          <p:nvPr/>
        </p:nvSpPr>
        <p:spPr>
          <a:xfrm>
            <a:off x="3059280" y="4149720"/>
            <a:ext cx="5113080" cy="934920"/>
          </a:xfrm>
          <a:prstGeom prst="wedgeRoundRectCallout">
            <a:avLst>
              <a:gd name="adj1" fmla="val 2828"/>
              <a:gd name="adj2" fmla="val -124263"/>
              <a:gd name="adj3" fmla="val 16667"/>
            </a:avLst>
          </a:prstGeom>
          <a:solidFill>
            <a:srgbClr val="a47b38"/>
          </a:solidFill>
          <a:ln w="25560">
            <a:solidFill>
              <a:srgbClr val="6d52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ambria"/>
              </a:rPr>
              <a:t>Protože je patrné, že se úhly v I. a III. kvadrantu liší pouze o 180</a:t>
            </a:r>
            <a:r>
              <a:rPr b="0" lang="cs-CZ" sz="1800" spc="-1" strike="noStrike" baseline="30000">
                <a:solidFill>
                  <a:srgbClr val="ffffff"/>
                </a:solidFill>
                <a:latin typeface="Cambria"/>
              </a:rPr>
              <a:t>o</a:t>
            </a:r>
            <a:r>
              <a:rPr b="0" lang="cs-CZ" sz="1800" spc="-1" strike="noStrike">
                <a:solidFill>
                  <a:srgbClr val="ffffff"/>
                </a:solidFill>
                <a:latin typeface="Cambria"/>
              </a:rPr>
              <a:t>, můžeme řešení rovnice zapsat souhrnně pomocí poloviční periody.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6T09:59:30Z</dcterms:created>
  <dc:creator>Ludmila Jiříkova</dc:creator>
  <dc:description/>
  <dc:language>en-US</dc:language>
  <cp:lastModifiedBy>Admin</cp:lastModifiedBy>
  <dcterms:modified xsi:type="dcterms:W3CDTF">2013-12-17T21:05:04Z</dcterms:modified>
  <cp:revision>221</cp:revision>
  <dc:subject/>
  <dc:title>Název</dc:title>
</cp:coreProperties>
</file>