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7834-A7F6-472A-B4D3-6C568E05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D482-D97E-4FE1-8736-4395264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5AAD-D21B-41F9-876A-C5716FE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2CC6-3679-4911-8EDF-E97B0BD0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4061-0B36-4313-A923-28B0BF94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648D-FAC1-4C2E-A29A-4585B0F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8EB4-56F6-4481-A2AA-FDC4E220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E77-C834-41D2-8242-8993E5B6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D2F2-67BD-487C-A857-164A6425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456D-0361-4BD4-B127-2C53B7F9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A029-98FF-4AA2-9685-112F9BF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DAE6-43CB-4976-9920-C8B9A39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1342-DC28-4411-946F-1C326F7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5D29-5460-482C-8C3B-9DFB452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E8A-2BD3-4800-9390-295089D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397F-569B-4847-8D99-DDA2EA57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1746-03FC-4C6C-989F-47CE6932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3D61-2408-4EEC-B0B1-FB64EBB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19BD-DF81-4E5F-B635-4BE86A4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00DE-76FE-4B3B-BCC3-5CD12A3A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5C27-BCA2-4A51-B470-46E74FA0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2E83-142E-4063-A2B6-85DBE8F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5994-B069-4D41-A2DD-D7453361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9F04-2C22-4D45-AE1F-B14A0F0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B35B-01E8-4001-A1BD-888B7960CC8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CD27-CE9C-4D8A-A2E1-8FC6030454B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7CD2-B0DD-48C5-B8D2-B75A806AAF7A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6D88-6AFF-4A35-B92C-51B22EDC997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Nerovnice v podílovém  tvaru</a:t>
            </a:r>
            <a:endParaRPr b="0" lang="en-US" sz="6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000" y="16282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á řešení k nerovnicím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5292720" y="3500280"/>
                <a:ext cx="1982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8"/>
              <p:cNvSpPr txBox="1"/>
              <p:nvPr/>
            </p:nvSpPr>
            <p:spPr>
              <a:xfrm>
                <a:off x="5292720" y="1989000"/>
                <a:ext cx="9111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9"/>
              <p:cNvSpPr txBox="1"/>
              <p:nvPr/>
            </p:nvSpPr>
            <p:spPr>
              <a:xfrm>
                <a:off x="5292720" y="5013360"/>
                <a:ext cx="601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1"/>
              <p:cNvSpPr txBox="1"/>
              <p:nvPr/>
            </p:nvSpPr>
            <p:spPr>
              <a:xfrm>
                <a:off x="5292720" y="2708280"/>
                <a:ext cx="2198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1403280" y="2133720"/>
                <a:ext cx="10936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4"/>
              <p:cNvSpPr txBox="1"/>
              <p:nvPr/>
            </p:nvSpPr>
            <p:spPr>
              <a:xfrm>
                <a:off x="1403280" y="4870440"/>
                <a:ext cx="1093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1403280" y="4222800"/>
                <a:ext cx="1025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1403280" y="3573360"/>
                <a:ext cx="1116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0"/>
              <p:cNvSpPr txBox="1"/>
              <p:nvPr/>
            </p:nvSpPr>
            <p:spPr>
              <a:xfrm>
                <a:off x="1403280" y="2781360"/>
                <a:ext cx="1025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5292720" y="4292640"/>
                <a:ext cx="1824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5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NEROVNICE V PODÍLOVÉM TVAR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5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nerovnice – </a:t>
            </a:r>
            <a:r>
              <a:rPr b="0" lang="cs-CZ" sz="3600" spc="-1" strike="noStrike">
                <a:solidFill>
                  <a:srgbClr val="675e47"/>
                </a:solidFill>
                <a:latin typeface="Calibri"/>
              </a:rPr>
              <a:t>podílový tvar 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4149720"/>
            <a:ext cx="762012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hledání řešení nerovnice v tomto tvaru můžeme řešit soustavy lineárních nerovnic nebo použít více přehlednou grafickou metodu –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metody nulových bodů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2376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erovnice v podílovém tvaru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je nerovnice, která obsahuje na jedné straně podíl libovolného počtu lineárních členů nebo dvojčlenů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př.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ebo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592280" y="2924280"/>
                <a:ext cx="1506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4211640" y="2924280"/>
                <a:ext cx="125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íme tzv.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nulové bod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šech výrazů v závorkách (tj. čísla, pro která se výrazy v závorkách rovnají nul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ulovými bod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rozdě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nožinu reálných čísel (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elnou os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na intervaly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jednotlivých intervalů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o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hodná celá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l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terá dosazujeme do každého výraz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 číselné ose pak značíme pouze znaménka hodnot výrazů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ýsledné řešení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nerovnice získám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podílem znamének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v daném interval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Zaoblený obdélníkový popisek 32"/>
          <p:cNvSpPr/>
          <p:nvPr/>
        </p:nvSpPr>
        <p:spPr>
          <a:xfrm>
            <a:off x="2627280" y="1773360"/>
            <a:ext cx="2449440" cy="431640"/>
          </a:xfrm>
          <a:prstGeom prst="wedgeRoundRectCallout">
            <a:avLst>
              <a:gd name="adj1" fmla="val -7870"/>
              <a:gd name="adj2" fmla="val 12831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rčení nulových bob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8"/>
              <p:cNvSpPr txBox="1"/>
              <p:nvPr/>
            </p:nvSpPr>
            <p:spPr>
              <a:xfrm>
                <a:off x="1214280" y="2421000"/>
                <a:ext cx="1175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9"/>
              <p:cNvSpPr txBox="1"/>
              <p:nvPr/>
            </p:nvSpPr>
            <p:spPr>
              <a:xfrm>
                <a:off x="5219640" y="2349360"/>
                <a:ext cx="167796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Obdélník 54"/>
          <p:cNvSpPr/>
          <p:nvPr/>
        </p:nvSpPr>
        <p:spPr>
          <a:xfrm>
            <a:off x="539640" y="3933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Nulové bod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rozdělí číselnou osu do tří otevřených intervalů a to i v případě, že znak nerovnosti bude obráceně, tj. větš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2"/>
              <p:cNvSpPr txBox="1"/>
              <p:nvPr/>
            </p:nvSpPr>
            <p:spPr>
              <a:xfrm>
                <a:off x="2001960" y="3860640"/>
                <a:ext cx="14270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−</m:t>
                        </m:r>
                      </m:e>
                    </m:d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d>
                      <m:dPr>
                        <m:begChr m:val="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3021120" y="333360"/>
                <a:ext cx="2052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Skupina 25"/>
          <p:cNvGrpSpPr/>
          <p:nvPr/>
        </p:nvGrpSpPr>
        <p:grpSpPr>
          <a:xfrm>
            <a:off x="826920" y="1844640"/>
            <a:ext cx="5977080" cy="2303640"/>
            <a:chOff x="826920" y="1844640"/>
            <a:chExt cx="5977080" cy="2303640"/>
          </a:xfrm>
        </p:grpSpPr>
        <p:sp>
          <p:nvSpPr>
            <p:cNvPr id="109" name="Vývojový diagram: spojka 2"/>
            <p:cNvSpPr/>
            <p:nvPr/>
          </p:nvSpPr>
          <p:spPr>
            <a:xfrm>
              <a:off x="5724720" y="371664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+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0" name="Přímá spojovací čára 3"/>
            <p:cNvSpPr/>
            <p:nvPr/>
          </p:nvSpPr>
          <p:spPr>
            <a:xfrm>
              <a:off x="826920" y="2924280"/>
              <a:ext cx="59770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Přímá spojovací čára 4"/>
            <p:cNvSpPr/>
            <p:nvPr/>
          </p:nvSpPr>
          <p:spPr>
            <a:xfrm>
              <a:off x="3419280" y="2781360"/>
              <a:ext cx="0" cy="288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TextovéPole 29"/>
            <p:cNvSpPr/>
            <p:nvPr/>
          </p:nvSpPr>
          <p:spPr>
            <a:xfrm>
              <a:off x="5075640" y="314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Přímá spojovací čára 6"/>
            <p:cNvSpPr/>
            <p:nvPr/>
          </p:nvSpPr>
          <p:spPr>
            <a:xfrm>
              <a:off x="5219640" y="2779560"/>
              <a:ext cx="0" cy="288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Object 2"/>
                <p:cNvSpPr txBox="1"/>
                <p:nvPr/>
              </p:nvSpPr>
              <p:spPr>
                <a:xfrm>
                  <a:off x="2987280" y="3140640"/>
                  <a:ext cx="561960" cy="87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"/>
                <p:cNvSpPr txBox="1"/>
                <p:nvPr/>
              </p:nvSpPr>
              <p:spPr>
                <a:xfrm>
                  <a:off x="853560" y="2422440"/>
                  <a:ext cx="6714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4"/>
                <p:cNvSpPr txBox="1"/>
                <p:nvPr/>
              </p:nvSpPr>
              <p:spPr>
                <a:xfrm>
                  <a:off x="826920" y="3070080"/>
                  <a:ext cx="8953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TextovéPole 10"/>
            <p:cNvSpPr/>
            <p:nvPr/>
          </p:nvSpPr>
          <p:spPr>
            <a:xfrm>
              <a:off x="2339280" y="184608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-1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8" name="TextovéPole 11"/>
            <p:cNvSpPr/>
            <p:nvPr/>
          </p:nvSpPr>
          <p:spPr>
            <a:xfrm>
              <a:off x="5796000" y="1844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9" name="TextovéPole 12"/>
            <p:cNvSpPr/>
            <p:nvPr/>
          </p:nvSpPr>
          <p:spPr>
            <a:xfrm>
              <a:off x="4139640" y="184608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5"/>
                <p:cNvSpPr txBox="1"/>
                <p:nvPr/>
              </p:nvSpPr>
              <p:spPr>
                <a:xfrm>
                  <a:off x="5796000" y="249228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Object 6"/>
                <p:cNvSpPr txBox="1"/>
                <p:nvPr/>
              </p:nvSpPr>
              <p:spPr>
                <a:xfrm>
                  <a:off x="2411280" y="256428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Object 7"/>
                <p:cNvSpPr txBox="1"/>
                <p:nvPr/>
              </p:nvSpPr>
              <p:spPr>
                <a:xfrm>
                  <a:off x="2411280" y="314064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4139640" y="256428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9"/>
                <p:cNvSpPr txBox="1"/>
                <p:nvPr/>
              </p:nvSpPr>
              <p:spPr>
                <a:xfrm>
                  <a:off x="5796000" y="306864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0"/>
                <p:cNvSpPr txBox="1"/>
                <p:nvPr/>
              </p:nvSpPr>
              <p:spPr>
                <a:xfrm>
                  <a:off x="4139640" y="306864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Vývojový diagram: spojka 19"/>
            <p:cNvSpPr/>
            <p:nvPr/>
          </p:nvSpPr>
          <p:spPr>
            <a:xfrm>
              <a:off x="4066920" y="371664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-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7" name="Vývojový diagram: spojka 20"/>
            <p:cNvSpPr/>
            <p:nvPr/>
          </p:nvSpPr>
          <p:spPr>
            <a:xfrm>
              <a:off x="2339640" y="371664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+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28" name="Šipka dolů 21"/>
          <p:cNvSpPr/>
          <p:nvPr/>
        </p:nvSpPr>
        <p:spPr>
          <a:xfrm>
            <a:off x="4067280" y="4292640"/>
            <a:ext cx="433440" cy="8650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7"/>
              <p:cNvSpPr txBox="1"/>
              <p:nvPr/>
            </p:nvSpPr>
            <p:spPr>
              <a:xfrm>
                <a:off x="3276720" y="5445000"/>
                <a:ext cx="15904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Zaoblený obdélníkový popisek 23"/>
          <p:cNvSpPr/>
          <p:nvPr/>
        </p:nvSpPr>
        <p:spPr>
          <a:xfrm>
            <a:off x="826920" y="620640"/>
            <a:ext cx="6985080" cy="792360"/>
          </a:xfrm>
          <a:prstGeom prst="wedgeRoundRectCallout">
            <a:avLst>
              <a:gd name="adj1" fmla="val 5722"/>
              <a:gd name="adj2" fmla="val 12106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intervalů volíme celá čísla, dosazujeme do výrazů, k číselné ose značíme pouze znaménka hodnoty výraz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Zaoblený obdélníkový popisek 24"/>
          <p:cNvSpPr/>
          <p:nvPr/>
        </p:nvSpPr>
        <p:spPr>
          <a:xfrm>
            <a:off x="5940360" y="4653000"/>
            <a:ext cx="2232000" cy="720720"/>
          </a:xfrm>
          <a:prstGeom prst="wedgeRoundRectCallout">
            <a:avLst>
              <a:gd name="adj1" fmla="val -37157"/>
              <a:gd name="adj2" fmla="val -10098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ná znaménka součin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859280" y="5229360"/>
            <a:ext cx="863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000" y="69192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  <a:ea typeface="Times New Roman"/>
              </a:rPr>
              <a:t>Výslednou množinu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řešení určíme podle znaku nerovnosti výsledného znaménka součinu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á-li být podíl výrazů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enší než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 pak řešení hledáme u výsledné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znaménka mín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á-li být podíl výrazů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větší než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 pak řešení hledáme u výsledné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znaménka pl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Podíl několika nenulových čísel je záporný právě tehdy, když lichý počet činitelů je záporný – jinak je součin kladný 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7840" y="19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5" name="Zaoblený obdélníkový popisek 4"/>
          <p:cNvSpPr/>
          <p:nvPr/>
        </p:nvSpPr>
        <p:spPr>
          <a:xfrm>
            <a:off x="684360" y="549360"/>
            <a:ext cx="6480000" cy="576000"/>
          </a:xfrm>
          <a:prstGeom prst="wedgeRoundRectCallout">
            <a:avLst>
              <a:gd name="adj1" fmla="val 10912"/>
              <a:gd name="adj2" fmla="val 14432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chéma řešení následujících nerovnic je shodné s příkladem 1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Obdélník 5"/>
          <p:cNvSpPr/>
          <p:nvPr/>
        </p:nvSpPr>
        <p:spPr>
          <a:xfrm>
            <a:off x="577800" y="3645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díl výrazů má být větší než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hledáme u výsledného znaménka plus, tzn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763640" y="4005360"/>
                <a:ext cx="2373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3060720" y="1989000"/>
                <a:ext cx="2050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140360" y="4437000"/>
            <a:ext cx="863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35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1" name="Nadpis 1"/>
          <p:cNvSpPr/>
          <p:nvPr/>
        </p:nvSpPr>
        <p:spPr>
          <a:xfrm>
            <a:off x="539640" y="476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  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Obdélník 5"/>
          <p:cNvSpPr/>
          <p:nvPr/>
        </p:nvSpPr>
        <p:spPr>
          <a:xfrm>
            <a:off x="684360" y="1628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díl výrazů má být menší nebo roven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nerovnice hledáme u výsledného znaménka mínus , tzn.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7"/>
              <p:cNvSpPr txBox="1"/>
              <p:nvPr/>
            </p:nvSpPr>
            <p:spPr>
              <a:xfrm>
                <a:off x="4211640" y="1989000"/>
                <a:ext cx="1224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Obdélník 5"/>
          <p:cNvSpPr/>
          <p:nvPr/>
        </p:nvSpPr>
        <p:spPr>
          <a:xfrm>
            <a:off x="684360" y="4508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díl výrazů má být větší nebo roven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nerovnice hledáme u výsledného znaménka mínus , tzn.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4233960" y="4869000"/>
                <a:ext cx="2395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3059280" y="3357720"/>
                <a:ext cx="2050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3059280" y="476280"/>
                <a:ext cx="2050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aoblený obdélníkový popisek 9"/>
          <p:cNvSpPr/>
          <p:nvPr/>
        </p:nvSpPr>
        <p:spPr>
          <a:xfrm>
            <a:off x="5867280" y="3213000"/>
            <a:ext cx="2233800" cy="935280"/>
          </a:xfrm>
          <a:prstGeom prst="wedgeRoundRectCallout">
            <a:avLst>
              <a:gd name="adj1" fmla="val -151087"/>
              <a:gd name="adj2" fmla="val -7545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zor!!! Jmenovatel zlomku se nesmí rovnat nule!!!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2411280" y="2637000"/>
                <a:ext cx="1065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0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6875640" y="5157720"/>
            <a:ext cx="86328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5508720" y="213372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27T19:21:53Z</dcterms:modified>
  <cp:revision>213</cp:revision>
  <dc:subject/>
  <dc:title>Název</dc:title>
</cp:coreProperties>
</file>