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8AE9-7E93-4AA8-B5D2-692B2F76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E9D2-A212-4E98-AA74-56706364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80A1-D923-4211-A574-64D0EE55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F6B9-3193-45E2-A871-81796611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359F-61C4-4641-8DF4-03FD6050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AFD8-6FB5-4F09-9FBE-3E3AC7CE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392B-E61B-4116-BF5D-15F0D498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D8B3-2FC7-4F65-A130-A361F6AF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1A88-F9FB-43A0-8EB3-C7E003EA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FE7B-823E-4EBA-9F18-4D642D51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6C8A-9DCE-4D90-845C-9EFFA516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07AC-254A-4665-A905-C48D5B85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63BD-BE9A-48BB-A69C-380B2433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3E19-9145-4E3E-9093-B7562305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DECF-FA3F-4762-842D-6C8D8728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2AEC-0B95-43CD-845D-663A2B94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D98B-5B67-4E1F-8458-B8D86674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F2E2-BB17-4A92-9B91-657EC79E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8CC7-015C-40C3-A3F6-D02C40B6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32F2-25D9-4CFC-A975-CB982665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4193-7370-4E58-92D7-4E2D933E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52DF-1EC1-4D5C-836C-CC9D8BC8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93148-0550-42F9-A9FE-9C6F86E7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04493-EE6D-4A4B-B29D-77AC9CB9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A92C-912C-49E8-8BE8-75BAB62A2F33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C3EF-334A-4E72-89D4-2A1706AB4C4C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5C8C-A645-4C77-97B1-14F1F4C06ADE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BADF-800E-44A7-9D0E-CA95ED381166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Soustavy lineárních rovnic 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Opaková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Kolik řešení mají soustavy rovnic?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mbr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Řešte v R soustavu rovnic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ýsledky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1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nekonečně mnoho řešení, žádné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2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-1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971640" y="2276640"/>
                <a:ext cx="17301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5"/>
              <p:cNvSpPr txBox="1"/>
              <p:nvPr/>
            </p:nvSpPr>
            <p:spPr>
              <a:xfrm>
                <a:off x="3203640" y="2276640"/>
                <a:ext cx="1593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5364000" y="2276640"/>
                <a:ext cx="17892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4500720" y="3500280"/>
                <a:ext cx="363528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2" name="Zástupný symbol pro obsah 2"/>
          <p:cNvSpPr/>
          <p:nvPr/>
        </p:nvSpPr>
        <p:spPr>
          <a:xfrm>
            <a:off x="457200" y="1481040"/>
            <a:ext cx="77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Dytrych, M., Dobiasová, I., Livňansk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 matematiky pro nižší ročníky víceletých gymnázií a pro 2.stupeň základních škol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Fortuna, Praha 2001, 2. vydání: ISBN 80-7168-766-9     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Charvát, J., Zhouf, J., Boček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Matematika pro gymnázia – Rovnice a nerovni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3. vydání: ISBN 80-7196-154-X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3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Klodner, J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 matematiky pro obchodní akadem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Svitavská tiskárna, Svitavy 1998, 4. upravené vydání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SOUSTAVY LINEÁRNÍCH ROVNIC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ovnice a ne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1_0906_D6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Soustava lineárních rovnic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611280" y="3645000"/>
            <a:ext cx="7632720" cy="230508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kde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b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c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b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c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,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se nazývá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soustava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 dvou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lineárních rovnic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se dvěma neznámými </a:t>
            </a:r>
            <a:r>
              <a:rPr b="1" i="1" lang="cs-CZ" sz="2800" spc="-1" strike="noStrike">
                <a:solidFill>
                  <a:srgbClr val="2f2b20"/>
                </a:solidFill>
                <a:latin typeface="Cambria"/>
              </a:rPr>
              <a:t>x, y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.  Řešením této soustavy je každá uspořádaná dvojice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0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y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0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, která je řešením obou jejich rovnic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Zástupný symbol pro obsah 4"/>
              <p:cNvSpPr txBox="1"/>
              <p:nvPr/>
            </p:nvSpPr>
            <p:spPr>
              <a:xfrm>
                <a:off x="2771640" y="2060640"/>
                <a:ext cx="2587680" cy="13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" name="Obdélník 5"/>
          <p:cNvSpPr/>
          <p:nvPr/>
        </p:nvSpPr>
        <p:spPr>
          <a:xfrm>
            <a:off x="611280" y="1341360"/>
            <a:ext cx="7632720" cy="6476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Soustavu rovnic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čty řešení soustavy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Grafickým vyjádřením řešení jednotlivých rovnic soustavy j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soustava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přímek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)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7604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nekonečně mnoho řešení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– přímky splývají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7604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7604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množina řešení je prázdná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– přímky jsou rovnoběžné různé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7604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právě jedno řešení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– přímky se protínají v jednom bodě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7604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971640" y="2852640"/>
                <a:ext cx="1377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6"/>
              <p:cNvSpPr txBox="1"/>
              <p:nvPr/>
            </p:nvSpPr>
            <p:spPr>
              <a:xfrm>
                <a:off x="2411280" y="4005360"/>
                <a:ext cx="12668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9"/>
              <p:cNvSpPr txBox="1"/>
              <p:nvPr/>
            </p:nvSpPr>
            <p:spPr>
              <a:xfrm>
                <a:off x="3780000" y="5084640"/>
                <a:ext cx="14000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Metody řešení soustav rovnic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000" y="1557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11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00"/>
                </a:solidFill>
                <a:latin typeface="Cambria"/>
              </a:rPr>
              <a:t>metoda sčítací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–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vytvoříme takové násobky obou rovnic, abychom po sečtení jejich levých a pravých stran získali novou rovnici, která bude obsahovat pouze jednu neznámou.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oté její hodnotu dosadíme do libovolné rovnice do zadání a tím získáme druhou hodnotu uspořádané dvojice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11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00"/>
                </a:solidFill>
                <a:latin typeface="Cambria"/>
              </a:rPr>
              <a:t>metoda dosazovací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–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z libovolné rovnice vyjádříme jednu neznámou a tuto závislost dosadíme do druhé rovnice.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ískáme tak rovnici o jedné neznámé, jejíž hodnotu dosadíme zpátky do vyjádřené závislosti a dopočítáme druhou hodnotu uspořádané dvojice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11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00"/>
                </a:solidFill>
                <a:latin typeface="Cambria"/>
              </a:rPr>
              <a:t>metoda porovnávací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–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z obou rovnic vyjádříme tutéž neznámou a porovnáme je.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Rovnají-li se levé strany, rovnají se i strany pravé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11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Metoda sčítac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1332000" y="1700280"/>
                <a:ext cx="24001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kt 2"/>
              <p:cNvSpPr txBox="1"/>
              <p:nvPr/>
            </p:nvSpPr>
            <p:spPr>
              <a:xfrm>
                <a:off x="4211640" y="2492280"/>
                <a:ext cx="9255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kt 8"/>
              <p:cNvSpPr txBox="1"/>
              <p:nvPr/>
            </p:nvSpPr>
            <p:spPr>
              <a:xfrm>
                <a:off x="2268360" y="4221000"/>
                <a:ext cx="125424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kt 11"/>
              <p:cNvSpPr txBox="1"/>
              <p:nvPr/>
            </p:nvSpPr>
            <p:spPr>
              <a:xfrm>
                <a:off x="2556000" y="5516640"/>
                <a:ext cx="20397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kt 12"/>
              <p:cNvSpPr txBox="1"/>
              <p:nvPr/>
            </p:nvSpPr>
            <p:spPr>
              <a:xfrm>
                <a:off x="6443640" y="4941720"/>
                <a:ext cx="1720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4"/>
              <p:cNvSpPr txBox="1"/>
              <p:nvPr/>
            </p:nvSpPr>
            <p:spPr>
              <a:xfrm>
                <a:off x="1403280" y="3141720"/>
                <a:ext cx="19573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Přímá spojovací čára 22"/>
          <p:cNvSpPr/>
          <p:nvPr/>
        </p:nvSpPr>
        <p:spPr>
          <a:xfrm>
            <a:off x="1187280" y="2997360"/>
            <a:ext cx="266400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3" name="Přímá spojovací čára 25"/>
          <p:cNvSpPr/>
          <p:nvPr/>
        </p:nvSpPr>
        <p:spPr>
          <a:xfrm>
            <a:off x="1187280" y="4149720"/>
            <a:ext cx="266400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4" name="Zaoblený obdélníkový popisek 27"/>
          <p:cNvSpPr/>
          <p:nvPr/>
        </p:nvSpPr>
        <p:spPr>
          <a:xfrm>
            <a:off x="5076720" y="907920"/>
            <a:ext cx="3095640" cy="1008360"/>
          </a:xfrm>
          <a:prstGeom prst="wedgeRoundRectCallout">
            <a:avLst>
              <a:gd name="adj1" fmla="val -43518"/>
              <a:gd name="adj2" fmla="val 80125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Rovnice násobíme tak, aby po sečtení se odečetla jedna neznámá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5" name="Zaoblený obdélníkový popisek 28"/>
          <p:cNvSpPr/>
          <p:nvPr/>
        </p:nvSpPr>
        <p:spPr>
          <a:xfrm>
            <a:off x="5508720" y="2997360"/>
            <a:ext cx="2735280" cy="863280"/>
          </a:xfrm>
          <a:prstGeom prst="wedgeRoundRectCallout">
            <a:avLst>
              <a:gd name="adj1" fmla="val -58490"/>
              <a:gd name="adj2" fmla="val -88101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Hodnotu 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y = 1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dosadíme do libovolné rovnice.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6" name="Zaoblený obdélníkový popisek 29"/>
          <p:cNvSpPr/>
          <p:nvPr/>
        </p:nvSpPr>
        <p:spPr>
          <a:xfrm>
            <a:off x="4211640" y="4149720"/>
            <a:ext cx="2592360" cy="647640"/>
          </a:xfrm>
          <a:prstGeom prst="wedgeRoundRectCallout">
            <a:avLst>
              <a:gd name="adj1" fmla="val 42449"/>
              <a:gd name="adj2" fmla="val 105740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Výsledek zapíšeme jako uspořádanou dvojici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17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5148360" y="5229360"/>
            <a:ext cx="863640" cy="792000"/>
          </a:xfrm>
          <a:prstGeom prst="rect">
            <a:avLst/>
          </a:prstGeom>
          <a:ln w="0">
            <a:noFill/>
          </a:ln>
        </p:spPr>
      </p:pic>
      <p:grpSp>
        <p:nvGrpSpPr>
          <p:cNvPr id="118" name="Skupina 15"/>
          <p:cNvGrpSpPr/>
          <p:nvPr/>
        </p:nvGrpSpPr>
        <p:grpSpPr>
          <a:xfrm>
            <a:off x="3635280" y="3213000"/>
            <a:ext cx="792360" cy="847800"/>
            <a:chOff x="3635280" y="3213000"/>
            <a:chExt cx="792360" cy="847800"/>
          </a:xfrm>
        </p:grpSpPr>
        <p:sp>
          <p:nvSpPr>
            <p:cNvPr id="119" name="Pravá složená závorka 16"/>
            <p:cNvSpPr/>
            <p:nvPr/>
          </p:nvSpPr>
          <p:spPr>
            <a:xfrm>
              <a:off x="3635280" y="3213000"/>
              <a:ext cx="144360" cy="8478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847800"/>
                <a:gd name="textAreaBottom" fmla="*/ 844200 h 8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4"/>
                    <a:pt x="10800" y="307"/>
                  </a:cubicBezTo>
                  <a:lnTo>
                    <a:pt x="10800" y="10493"/>
                  </a:lnTo>
                  <a:cubicBezTo>
                    <a:pt x="10800" y="10647"/>
                    <a:pt x="16200" y="10800"/>
                    <a:pt x="21600" y="10800"/>
                  </a:cubicBezTo>
                  <a:cubicBezTo>
                    <a:pt x="16200" y="10800"/>
                    <a:pt x="10800" y="10954"/>
                    <a:pt x="10800" y="11107"/>
                  </a:cubicBezTo>
                  <a:lnTo>
                    <a:pt x="10800" y="21293"/>
                  </a:lnTo>
                  <a:cubicBezTo>
                    <a:pt x="10800" y="21447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0" name="TextovéPole 17"/>
            <p:cNvSpPr/>
            <p:nvPr/>
          </p:nvSpPr>
          <p:spPr>
            <a:xfrm>
              <a:off x="3922560" y="3276360"/>
              <a:ext cx="5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2f2b20"/>
                  </a:solidFill>
                  <a:latin typeface="Cambria"/>
                </a:rPr>
                <a:t>+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Metoda dosazovac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kt 2"/>
              <p:cNvSpPr txBox="1"/>
              <p:nvPr/>
            </p:nvSpPr>
            <p:spPr>
              <a:xfrm>
                <a:off x="3635280" y="2276640"/>
                <a:ext cx="20113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kt 1"/>
              <p:cNvSpPr txBox="1"/>
              <p:nvPr/>
            </p:nvSpPr>
            <p:spPr>
              <a:xfrm>
                <a:off x="1042920" y="1557360"/>
                <a:ext cx="24004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kt 6"/>
              <p:cNvSpPr txBox="1"/>
              <p:nvPr/>
            </p:nvSpPr>
            <p:spPr>
              <a:xfrm>
                <a:off x="539640" y="3068640"/>
                <a:ext cx="25401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kt 7"/>
              <p:cNvSpPr txBox="1"/>
              <p:nvPr/>
            </p:nvSpPr>
            <p:spPr>
              <a:xfrm>
                <a:off x="900000" y="3716280"/>
                <a:ext cx="2205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kt 8"/>
              <p:cNvSpPr txBox="1"/>
              <p:nvPr/>
            </p:nvSpPr>
            <p:spPr>
              <a:xfrm>
                <a:off x="2050920" y="4221000"/>
                <a:ext cx="125568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kt 10"/>
              <p:cNvSpPr txBox="1"/>
              <p:nvPr/>
            </p:nvSpPr>
            <p:spPr>
              <a:xfrm>
                <a:off x="2340000" y="4653000"/>
                <a:ext cx="725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kt 11"/>
              <p:cNvSpPr txBox="1"/>
              <p:nvPr/>
            </p:nvSpPr>
            <p:spPr>
              <a:xfrm>
                <a:off x="4211640" y="2852640"/>
                <a:ext cx="2038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kt 12"/>
              <p:cNvSpPr txBox="1"/>
              <p:nvPr/>
            </p:nvSpPr>
            <p:spPr>
              <a:xfrm>
                <a:off x="6516720" y="5013360"/>
                <a:ext cx="1712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0" name="Přímá spojovací čára 12"/>
          <p:cNvSpPr/>
          <p:nvPr/>
        </p:nvSpPr>
        <p:spPr>
          <a:xfrm>
            <a:off x="755640" y="2852640"/>
            <a:ext cx="266400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1" name="Zaoblený obdélníkový popisek 13"/>
          <p:cNvSpPr/>
          <p:nvPr/>
        </p:nvSpPr>
        <p:spPr>
          <a:xfrm>
            <a:off x="5148360" y="692280"/>
            <a:ext cx="3240000" cy="1224000"/>
          </a:xfrm>
          <a:prstGeom prst="wedgeRoundRectCallout">
            <a:avLst>
              <a:gd name="adj1" fmla="val -53287"/>
              <a:gd name="adj2" fmla="val 83537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Z libovolné rovnice vyjádříme jednu neznámou a tuto závislost dosadíme do druhé 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2" name="Zaoblený obdélníkový popisek 14"/>
          <p:cNvSpPr/>
          <p:nvPr/>
        </p:nvSpPr>
        <p:spPr>
          <a:xfrm>
            <a:off x="5580000" y="3716280"/>
            <a:ext cx="2737080" cy="720720"/>
          </a:xfrm>
          <a:prstGeom prst="wedgeRoundRectCallout">
            <a:avLst>
              <a:gd name="adj1" fmla="val -58490"/>
              <a:gd name="adj2" fmla="val -88101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Hodnotu 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y = 1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dosadíme do substituce.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3" name="Zaoblený obdélníkový popisek 15"/>
          <p:cNvSpPr/>
          <p:nvPr/>
        </p:nvSpPr>
        <p:spPr>
          <a:xfrm>
            <a:off x="2771640" y="5589720"/>
            <a:ext cx="2592360" cy="647640"/>
          </a:xfrm>
          <a:prstGeom prst="wedgeRoundRectCallout">
            <a:avLst>
              <a:gd name="adj1" fmla="val 95930"/>
              <a:gd name="adj2" fmla="val -74046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Výsledek zapíšeme jako uspořádanou dvojici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4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4211640" y="4437000"/>
            <a:ext cx="863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Metoda srovnávac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kt 1"/>
              <p:cNvSpPr txBox="1"/>
              <p:nvPr/>
            </p:nvSpPr>
            <p:spPr>
              <a:xfrm>
                <a:off x="684360" y="1484280"/>
                <a:ext cx="240192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kt 6"/>
              <p:cNvSpPr txBox="1"/>
              <p:nvPr/>
            </p:nvSpPr>
            <p:spPr>
              <a:xfrm>
                <a:off x="3851280" y="1341360"/>
                <a:ext cx="17272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kt 7"/>
              <p:cNvSpPr txBox="1"/>
              <p:nvPr/>
            </p:nvSpPr>
            <p:spPr>
              <a:xfrm>
                <a:off x="3851280" y="2276640"/>
                <a:ext cx="13921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kt 16"/>
              <p:cNvSpPr txBox="1"/>
              <p:nvPr/>
            </p:nvSpPr>
            <p:spPr>
              <a:xfrm>
                <a:off x="971640" y="2997360"/>
                <a:ext cx="234612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Zaoblený obdélníkový popisek 8"/>
          <p:cNvSpPr/>
          <p:nvPr/>
        </p:nvSpPr>
        <p:spPr>
          <a:xfrm>
            <a:off x="5724360" y="981000"/>
            <a:ext cx="2664000" cy="719280"/>
          </a:xfrm>
          <a:prstGeom prst="wedgeRoundRectCallout">
            <a:avLst>
              <a:gd name="adj1" fmla="val -58759"/>
              <a:gd name="adj2" fmla="val 99148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Z obou rovnic vyjádříme stejnou neznámou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1" name="Zaoblený obdélníkový popisek 9"/>
          <p:cNvSpPr/>
          <p:nvPr/>
        </p:nvSpPr>
        <p:spPr>
          <a:xfrm>
            <a:off x="5796000" y="2492280"/>
            <a:ext cx="2556000" cy="1008000"/>
          </a:xfrm>
          <a:prstGeom prst="wedgeRoundRectCallout">
            <a:avLst>
              <a:gd name="adj1" fmla="val -144513"/>
              <a:gd name="adj2" fmla="val -2013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Rovnají-li se levé strany, musí se rovnat i strany pravé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2" name="Přímá spojovací čára 11"/>
          <p:cNvSpPr/>
          <p:nvPr/>
        </p:nvSpPr>
        <p:spPr>
          <a:xfrm>
            <a:off x="395280" y="2637000"/>
            <a:ext cx="266400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3708360" y="3068640"/>
                <a:ext cx="4748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kt 13"/>
              <p:cNvSpPr txBox="1"/>
              <p:nvPr/>
            </p:nvSpPr>
            <p:spPr>
              <a:xfrm>
                <a:off x="1042920" y="3860640"/>
                <a:ext cx="24303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kt 14"/>
              <p:cNvSpPr txBox="1"/>
              <p:nvPr/>
            </p:nvSpPr>
            <p:spPr>
              <a:xfrm>
                <a:off x="1332000" y="4365720"/>
                <a:ext cx="17031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kt 15"/>
              <p:cNvSpPr txBox="1"/>
              <p:nvPr/>
            </p:nvSpPr>
            <p:spPr>
              <a:xfrm>
                <a:off x="1908000" y="4797360"/>
                <a:ext cx="7257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1"/>
              <p:cNvSpPr txBox="1"/>
              <p:nvPr/>
            </p:nvSpPr>
            <p:spPr>
              <a:xfrm>
                <a:off x="3708360" y="4292640"/>
                <a:ext cx="11448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kt 12"/>
              <p:cNvSpPr txBox="1"/>
              <p:nvPr/>
            </p:nvSpPr>
            <p:spPr>
              <a:xfrm>
                <a:off x="6300720" y="5157720"/>
                <a:ext cx="1720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kt 19"/>
              <p:cNvSpPr txBox="1"/>
              <p:nvPr/>
            </p:nvSpPr>
            <p:spPr>
              <a:xfrm>
                <a:off x="1835280" y="5373720"/>
                <a:ext cx="2038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Zaoblený obdélníkový popisek 20"/>
          <p:cNvSpPr/>
          <p:nvPr/>
        </p:nvSpPr>
        <p:spPr>
          <a:xfrm>
            <a:off x="5580000" y="4076640"/>
            <a:ext cx="2737080" cy="720720"/>
          </a:xfrm>
          <a:prstGeom prst="wedgeRoundRectCallout">
            <a:avLst>
              <a:gd name="adj1" fmla="val -113805"/>
              <a:gd name="adj2" fmla="val 133032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Hodnotu 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y = 1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dosadíme do substituce.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1" name="Obdélník 54"/>
          <p:cNvSpPr/>
          <p:nvPr/>
        </p:nvSpPr>
        <p:spPr>
          <a:xfrm>
            <a:off x="468360" y="5877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ozn.: Metoda se používá například při určování průsečíku dvou funkcí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52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4284720" y="5589720"/>
            <a:ext cx="8636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2 a 3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539640" y="1557360"/>
                <a:ext cx="236376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Přímá spojovací čára 3"/>
          <p:cNvSpPr/>
          <p:nvPr/>
        </p:nvSpPr>
        <p:spPr>
          <a:xfrm>
            <a:off x="468360" y="2924280"/>
            <a:ext cx="266364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3"/>
              <p:cNvSpPr txBox="1"/>
              <p:nvPr/>
            </p:nvSpPr>
            <p:spPr>
              <a:xfrm>
                <a:off x="5219640" y="1557360"/>
                <a:ext cx="21733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Přímá spojovací čára 5"/>
          <p:cNvSpPr/>
          <p:nvPr/>
        </p:nvSpPr>
        <p:spPr>
          <a:xfrm>
            <a:off x="4788000" y="2924280"/>
            <a:ext cx="266364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kt 2"/>
              <p:cNvSpPr txBox="1"/>
              <p:nvPr/>
            </p:nvSpPr>
            <p:spPr>
              <a:xfrm>
                <a:off x="3119400" y="1557360"/>
                <a:ext cx="9525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7512120" y="1628640"/>
                <a:ext cx="9525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755640" y="3213000"/>
                <a:ext cx="21970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5364000" y="3213000"/>
                <a:ext cx="22003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Přímá spojovací čára 10"/>
          <p:cNvSpPr/>
          <p:nvPr/>
        </p:nvSpPr>
        <p:spPr>
          <a:xfrm>
            <a:off x="468360" y="4221000"/>
            <a:ext cx="266364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3" name="Přímá spojovací čára 11"/>
          <p:cNvSpPr/>
          <p:nvPr/>
        </p:nvSpPr>
        <p:spPr>
          <a:xfrm>
            <a:off x="4788000" y="4221000"/>
            <a:ext cx="266364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1835280" y="4437000"/>
                <a:ext cx="7556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2"/>
              <p:cNvSpPr txBox="1"/>
              <p:nvPr/>
            </p:nvSpPr>
            <p:spPr>
              <a:xfrm>
                <a:off x="6443640" y="4437000"/>
                <a:ext cx="9525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Zaoblený obdélníkový popisek 20"/>
          <p:cNvSpPr/>
          <p:nvPr/>
        </p:nvSpPr>
        <p:spPr>
          <a:xfrm>
            <a:off x="971640" y="5300640"/>
            <a:ext cx="2952720" cy="504720"/>
          </a:xfrm>
          <a:prstGeom prst="wedgeRoundRectCallout">
            <a:avLst>
              <a:gd name="adj1" fmla="val -9083"/>
              <a:gd name="adj2" fmla="val -151148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Cambria"/>
              </a:rPr>
              <a:t>Nekonečně mnoho řešení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7" name="Zaoblený obdélníkový popisek 21"/>
          <p:cNvSpPr/>
          <p:nvPr/>
        </p:nvSpPr>
        <p:spPr>
          <a:xfrm>
            <a:off x="5219640" y="5300640"/>
            <a:ext cx="3097440" cy="504720"/>
          </a:xfrm>
          <a:prstGeom prst="wedgeRoundRectCallout">
            <a:avLst>
              <a:gd name="adj1" fmla="val -541"/>
              <a:gd name="adj2" fmla="val -148018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Cambria"/>
              </a:rPr>
              <a:t>Množina řešení je prázdná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68" name="Obrázek 40" descr="zatržítko.JPG"/>
          <p:cNvPicPr/>
          <p:nvPr/>
        </p:nvPicPr>
        <p:blipFill>
          <a:blip r:embed="rId1"/>
          <a:srcRect l="6951" t="13314" r="16463" b="13605"/>
          <a:stretch/>
        </p:blipFill>
        <p:spPr>
          <a:xfrm>
            <a:off x="4211640" y="5084640"/>
            <a:ext cx="792000" cy="792360"/>
          </a:xfrm>
          <a:prstGeom prst="rect">
            <a:avLst/>
          </a:prstGeom>
          <a:ln w="0">
            <a:noFill/>
          </a:ln>
        </p:spPr>
      </p:pic>
      <p:grpSp>
        <p:nvGrpSpPr>
          <p:cNvPr id="169" name="Skupina 19"/>
          <p:cNvGrpSpPr/>
          <p:nvPr/>
        </p:nvGrpSpPr>
        <p:grpSpPr>
          <a:xfrm>
            <a:off x="3059280" y="3213000"/>
            <a:ext cx="792000" cy="847800"/>
            <a:chOff x="3059280" y="3213000"/>
            <a:chExt cx="792000" cy="847800"/>
          </a:xfrm>
        </p:grpSpPr>
        <p:sp>
          <p:nvSpPr>
            <p:cNvPr id="170" name="Pravá složená závorka 22"/>
            <p:cNvSpPr/>
            <p:nvPr/>
          </p:nvSpPr>
          <p:spPr>
            <a:xfrm>
              <a:off x="3059280" y="3213000"/>
              <a:ext cx="144360" cy="8478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847800"/>
                <a:gd name="textAreaBottom" fmla="*/ 844200 h 8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4"/>
                    <a:pt x="10800" y="307"/>
                  </a:cubicBezTo>
                  <a:lnTo>
                    <a:pt x="10800" y="10493"/>
                  </a:lnTo>
                  <a:cubicBezTo>
                    <a:pt x="10800" y="10647"/>
                    <a:pt x="16200" y="10800"/>
                    <a:pt x="21600" y="10800"/>
                  </a:cubicBezTo>
                  <a:cubicBezTo>
                    <a:pt x="16200" y="10800"/>
                    <a:pt x="10800" y="10954"/>
                    <a:pt x="10800" y="11107"/>
                  </a:cubicBezTo>
                  <a:lnTo>
                    <a:pt x="10800" y="21293"/>
                  </a:lnTo>
                  <a:cubicBezTo>
                    <a:pt x="10800" y="21447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1" name="TextovéPole 23"/>
            <p:cNvSpPr/>
            <p:nvPr/>
          </p:nvSpPr>
          <p:spPr>
            <a:xfrm>
              <a:off x="3346560" y="3276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2f2b20"/>
                  </a:solidFill>
                  <a:latin typeface="Cambria"/>
                </a:rPr>
                <a:t>+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72" name="Skupina 24"/>
          <p:cNvGrpSpPr/>
          <p:nvPr/>
        </p:nvGrpSpPr>
        <p:grpSpPr>
          <a:xfrm>
            <a:off x="7667640" y="3284640"/>
            <a:ext cx="792000" cy="847800"/>
            <a:chOff x="7667640" y="3284640"/>
            <a:chExt cx="792000" cy="847800"/>
          </a:xfrm>
        </p:grpSpPr>
        <p:sp>
          <p:nvSpPr>
            <p:cNvPr id="173" name="Pravá složená závorka 25"/>
            <p:cNvSpPr/>
            <p:nvPr/>
          </p:nvSpPr>
          <p:spPr>
            <a:xfrm>
              <a:off x="7667640" y="3284640"/>
              <a:ext cx="144360" cy="8478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847800"/>
                <a:gd name="textAreaBottom" fmla="*/ 844200 h 8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4"/>
                    <a:pt x="10800" y="307"/>
                  </a:cubicBezTo>
                  <a:lnTo>
                    <a:pt x="10800" y="10493"/>
                  </a:lnTo>
                  <a:cubicBezTo>
                    <a:pt x="10800" y="10647"/>
                    <a:pt x="16200" y="10800"/>
                    <a:pt x="21600" y="10800"/>
                  </a:cubicBezTo>
                  <a:cubicBezTo>
                    <a:pt x="16200" y="10800"/>
                    <a:pt x="10800" y="10954"/>
                    <a:pt x="10800" y="11107"/>
                  </a:cubicBezTo>
                  <a:lnTo>
                    <a:pt x="10800" y="21293"/>
                  </a:lnTo>
                  <a:cubicBezTo>
                    <a:pt x="10800" y="21447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4" name="TextovéPole 26"/>
            <p:cNvSpPr/>
            <p:nvPr/>
          </p:nvSpPr>
          <p:spPr>
            <a:xfrm>
              <a:off x="7954920" y="3348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2f2b20"/>
                  </a:solidFill>
                  <a:latin typeface="Cambria"/>
                </a:rPr>
                <a:t>+</a:t>
              </a:r>
              <a:endParaRPr b="0" lang="en-US" sz="40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3-12-17T21:23:39Z</dcterms:modified>
  <cp:revision>103</cp:revision>
  <dc:subject/>
  <dc:title>Název</dc:title>
</cp:coreProperties>
</file>