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AA2A-B18D-4332-A951-1D5A483B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5B85-0ACC-4C37-8813-C0B57C67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C2BA-3114-4DD8-AD41-11658B43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2E72-D3BA-4E55-9495-C503F414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FE6E-F3A1-4BFE-9B0B-22FABDC3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0ECD-C410-44D5-B369-A1203506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4431-B294-4C90-9A08-5BF97ED5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66DE-67DC-4522-9618-FE245CFC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69EB-1340-4DAA-BCB4-5E4620DB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8A1B-83A9-4B3A-97B4-100BF035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4E04-B174-454B-B77D-386F620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63B0-3CA0-49E5-9123-A35012F6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1BE9-DFB3-493B-9E92-B1B1AD48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3964-9793-4E72-B8E6-756FF5BA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789C-CF2B-4175-B4C2-C4CC5792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4C02-158A-4FB0-A09D-2B91F2C0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6A48-A34E-45EC-A8D4-D1F3B736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666C-71BB-4EBB-A8D1-348686C9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0EBA-6188-4BB0-B9F0-59147785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7AE5-A201-433E-8A20-B64D9BEC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F4EE-905D-4F7F-A56D-F12A8416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D91A-2E53-4110-A398-E6F9466C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00B9-C58D-46A9-9FFA-5A9B6B0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C0DE-11D5-49BB-B3FB-CE953BA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3696-C1EB-436F-9A5B-F03DCE7D24A2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BA5-79C4-4DC9-92BE-0FBFA7DA5B27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4B48-19F0-4825-ABA6-4D9BD2BDE4F3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CAF5-ABE6-467B-A5E8-BEFD45DA1B2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Kvadratické rovnice II.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11"/>
              <p:cNvSpPr txBox="1"/>
              <p:nvPr/>
            </p:nvSpPr>
            <p:spPr>
              <a:xfrm>
                <a:off x="755640" y="1341360"/>
                <a:ext cx="20113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ovéPole 11"/>
          <p:cNvSpPr/>
          <p:nvPr/>
        </p:nvSpPr>
        <p:spPr>
          <a:xfrm>
            <a:off x="720720" y="692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7" name="TextovéPole 3"/>
          <p:cNvSpPr/>
          <p:nvPr/>
        </p:nvSpPr>
        <p:spPr>
          <a:xfrm>
            <a:off x="755640" y="3860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otože už z podmínek vyplývá, že </a:t>
            </a:r>
            <a:r>
              <a:rPr b="0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0,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jednoprvková množina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1763640" y="4292640"/>
                <a:ext cx="1035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9" name="Obrázek 40" descr="zatržítko.JPG"/>
          <p:cNvPicPr/>
          <p:nvPr/>
        </p:nvPicPr>
        <p:blipFill>
          <a:blip r:embed="rId1"/>
          <a:srcRect l="13963" t="13314" r="16524" b="13547"/>
          <a:stretch/>
        </p:blipFill>
        <p:spPr>
          <a:xfrm>
            <a:off x="2771640" y="4292640"/>
            <a:ext cx="720720" cy="793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719280" y="2205000"/>
                <a:ext cx="2179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826920" y="3141720"/>
                <a:ext cx="865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50000"/>
              </a:lnSpc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 v množině N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 množině R určete všechna řešení rovnice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50000"/>
              </a:lnSpc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 v Z: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200000"/>
              </a:lnSpc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Ověřte, zd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kořenem rovnice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a9a57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2) 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,  3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5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4) ano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4427640" y="1700280"/>
                <a:ext cx="2886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6372360" y="2205000"/>
                <a:ext cx="11109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2584440" y="3573360"/>
                <a:ext cx="644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5742000" y="3645000"/>
                <a:ext cx="21956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1908000" y="5084640"/>
                <a:ext cx="8892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3348000" y="2852640"/>
                <a:ext cx="17161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1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Klodner, J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obchodní akademi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Svitavská tiskárna, Svitavy 1998, 4. upravené vydání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KVADRATICKÁ ROVNICE II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Ekvivalentní úprav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Složitější typy rovnic převedeme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pomocí ekvivalentních úprav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a tvar,  který lze rozložit na součin kořenových činitelů. Přitom množina všech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řešení rovnice se nezměn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rovedeme-li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áměnu stran 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čteme-li (odečteme) stejné číslo nebo stejný výraz s neznámou k oběma stranám rovnice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vynásobíme (dělíme) stejným nenulovým číslem nebo výrazem (odstranění zlomku z rovnice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Úpravy vždy aplikujeme na obě strany rovnice!!!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stup řeše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odstranění zlomků a závorek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jednodušení levé a pravé strany 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šechny členy rovnice převedeme na jednu stran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raz kvadratické povahy rozložíme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na součin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ořenových činitelů pomocí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vytýkání, vzorce a</a:t>
            </a:r>
            <a:r>
              <a:rPr b="1" i="1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 – b</a:t>
            </a:r>
            <a:r>
              <a:rPr b="1" i="1" lang="cs-CZ" sz="22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, Vi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è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tových vzorců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nebo použijeme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diskriminan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ontrola správnosti výsledku dosazením vypočtené hodnoty do výrazů levé i pravé strany 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Zástupný symbol pro obsah 3"/>
              <p:cNvSpPr txBox="1"/>
              <p:nvPr/>
            </p:nvSpPr>
            <p:spPr>
              <a:xfrm>
                <a:off x="2987640" y="582480"/>
                <a:ext cx="53769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468360" y="1557360"/>
                <a:ext cx="41623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1125360" y="2205000"/>
                <a:ext cx="3490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784080" y="2781360"/>
                <a:ext cx="3100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039760" y="3357720"/>
                <a:ext cx="1839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Zaoblený obdélníkový popisek 14"/>
          <p:cNvSpPr/>
          <p:nvPr/>
        </p:nvSpPr>
        <p:spPr>
          <a:xfrm>
            <a:off x="5651640" y="1628640"/>
            <a:ext cx="2736720" cy="720720"/>
          </a:xfrm>
          <a:prstGeom prst="wedgeRoundRectCallout">
            <a:avLst>
              <a:gd name="adj1" fmla="val -88449"/>
              <a:gd name="adj2" fmla="val -8912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Roznásobení výrazů na obou stranách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5" name="Zaoblený obdélníkový popisek 16"/>
          <p:cNvSpPr/>
          <p:nvPr/>
        </p:nvSpPr>
        <p:spPr>
          <a:xfrm>
            <a:off x="5292720" y="2924280"/>
            <a:ext cx="2592360" cy="792000"/>
          </a:xfrm>
          <a:prstGeom prst="wedgeRoundRectCallout">
            <a:avLst>
              <a:gd name="adj1" fmla="val -92597"/>
              <a:gd name="adj2" fmla="val -28699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dečtení výrazu pravé strany od celé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0"/>
              <p:cNvSpPr txBox="1"/>
              <p:nvPr/>
            </p:nvSpPr>
            <p:spPr>
              <a:xfrm>
                <a:off x="2139840" y="4017960"/>
                <a:ext cx="1757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7" name="Přímá spojovací šipka 21"/>
          <p:cNvCxnSpPr/>
          <p:nvPr/>
        </p:nvCxnSpPr>
        <p:spPr>
          <a:xfrm flipH="1">
            <a:off x="1402560" y="4436640"/>
            <a:ext cx="86436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Přímá spojovací šipka 22"/>
          <p:cNvCxnSpPr/>
          <p:nvPr/>
        </p:nvCxnSpPr>
        <p:spPr>
          <a:xfrm>
            <a:off x="2916360" y="4436640"/>
            <a:ext cx="79272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839880" y="5184720"/>
                <a:ext cx="866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3290760" y="5229360"/>
                <a:ext cx="1203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3"/>
              <p:cNvSpPr txBox="1"/>
              <p:nvPr/>
            </p:nvSpPr>
            <p:spPr>
              <a:xfrm>
                <a:off x="3605040" y="5710320"/>
                <a:ext cx="8956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Zaoblený obdélníkový popisek 31"/>
          <p:cNvSpPr/>
          <p:nvPr/>
        </p:nvSpPr>
        <p:spPr>
          <a:xfrm>
            <a:off x="5508720" y="4221000"/>
            <a:ext cx="2376360" cy="432000"/>
          </a:xfrm>
          <a:prstGeom prst="wedgeRoundRectCallout">
            <a:avLst>
              <a:gd name="adj1" fmla="val -79324"/>
              <a:gd name="adj2" fmla="val -30629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Rozklad na součin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4284720" y="3429000"/>
                <a:ext cx="561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826920" y="1341360"/>
                <a:ext cx="5195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ovéPole 11"/>
          <p:cNvSpPr/>
          <p:nvPr/>
        </p:nvSpPr>
        <p:spPr>
          <a:xfrm>
            <a:off x="720720" y="692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2"/>
              <p:cNvSpPr txBox="1"/>
              <p:nvPr/>
            </p:nvSpPr>
            <p:spPr>
              <a:xfrm>
                <a:off x="819000" y="1871640"/>
                <a:ext cx="2681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824040" y="2365200"/>
                <a:ext cx="9493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Zaoblený obdélníkový popisek 5"/>
          <p:cNvSpPr/>
          <p:nvPr/>
        </p:nvSpPr>
        <p:spPr>
          <a:xfrm>
            <a:off x="5076720" y="476280"/>
            <a:ext cx="3168720" cy="647640"/>
          </a:xfrm>
          <a:prstGeom prst="wedgeRoundRectCallout">
            <a:avLst>
              <a:gd name="adj1" fmla="val -81810"/>
              <a:gd name="adj2" fmla="val 78430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osazení výsledku do výrazů obou stran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9" name="TextovéPole 8"/>
          <p:cNvSpPr/>
          <p:nvPr/>
        </p:nvSpPr>
        <p:spPr>
          <a:xfrm>
            <a:off x="755640" y="53020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4516560" y="5249880"/>
                <a:ext cx="1314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1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6012000" y="5084640"/>
            <a:ext cx="865080" cy="86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826920" y="3284640"/>
                <a:ext cx="5334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826920" y="3814920"/>
                <a:ext cx="33530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826920" y="4308480"/>
                <a:ext cx="10321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Zástupný symbol pro obsah 3"/>
              <p:cNvSpPr txBox="1"/>
              <p:nvPr/>
            </p:nvSpPr>
            <p:spPr>
              <a:xfrm>
                <a:off x="3024360" y="333360"/>
                <a:ext cx="2666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324000" y="1773360"/>
                <a:ext cx="4302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1503360" y="2724120"/>
                <a:ext cx="1843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1461960" y="3300480"/>
                <a:ext cx="2122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Zaoblený obdélníkový popisek 12"/>
          <p:cNvSpPr/>
          <p:nvPr/>
        </p:nvSpPr>
        <p:spPr>
          <a:xfrm>
            <a:off x="5435640" y="2060640"/>
            <a:ext cx="2808360" cy="934920"/>
          </a:xfrm>
          <a:prstGeom prst="wedgeRoundRectCallout">
            <a:avLst>
              <a:gd name="adj1" fmla="val -75402"/>
              <a:gd name="adj2" fmla="val -35259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ynásobení celé rovnice nejmenším společným jmenovatelem zlomk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Zaoblený obdélníkový popisek 19"/>
          <p:cNvSpPr/>
          <p:nvPr/>
        </p:nvSpPr>
        <p:spPr>
          <a:xfrm>
            <a:off x="5435640" y="3500280"/>
            <a:ext cx="2665440" cy="649440"/>
          </a:xfrm>
          <a:prstGeom prst="wedgeRoundRectCallout">
            <a:avLst>
              <a:gd name="adj1" fmla="val -74013"/>
              <a:gd name="adj2" fmla="val -115643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řičtení výrazu </a:t>
            </a:r>
            <a:r>
              <a:rPr b="1" lang="cs-CZ" sz="1800" spc="-1" strike="noStrike">
                <a:solidFill>
                  <a:srgbClr val="ff0000"/>
                </a:solidFill>
                <a:latin typeface="Cambria"/>
              </a:rPr>
              <a:t>5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k oběma stranám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3"/>
              <p:cNvSpPr txBox="1"/>
              <p:nvPr/>
            </p:nvSpPr>
            <p:spPr>
              <a:xfrm>
                <a:off x="361800" y="4149720"/>
                <a:ext cx="31338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133" name="Přímá spojovací šipka 13"/>
          <p:cNvCxnSpPr/>
          <p:nvPr/>
        </p:nvCxnSpPr>
        <p:spPr>
          <a:xfrm flipV="1">
            <a:off x="2484360" y="4941360"/>
            <a:ext cx="921600" cy="277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Přímá spojovací šipka 14"/>
          <p:cNvCxnSpPr/>
          <p:nvPr/>
        </p:nvCxnSpPr>
        <p:spPr>
          <a:xfrm>
            <a:off x="2484000" y="5589360"/>
            <a:ext cx="864360" cy="230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5" name="Object 14"/>
              <p:cNvSpPr txBox="1"/>
              <p:nvPr/>
            </p:nvSpPr>
            <p:spPr>
              <a:xfrm>
                <a:off x="3375000" y="4508640"/>
                <a:ext cx="17953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5"/>
              <p:cNvSpPr txBox="1"/>
              <p:nvPr/>
            </p:nvSpPr>
            <p:spPr>
              <a:xfrm>
                <a:off x="3443400" y="5445000"/>
                <a:ext cx="20574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7451640" y="692280"/>
                <a:ext cx="9493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6012000" y="692280"/>
                <a:ext cx="1144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Přímá spojovací čára 22"/>
          <p:cNvSpPr/>
          <p:nvPr/>
        </p:nvSpPr>
        <p:spPr>
          <a:xfrm>
            <a:off x="324000" y="2060640"/>
            <a:ext cx="36036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Přímá spojovací čára 24"/>
          <p:cNvSpPr/>
          <p:nvPr/>
        </p:nvSpPr>
        <p:spPr>
          <a:xfrm>
            <a:off x="1042920" y="2349360"/>
            <a:ext cx="289080" cy="28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Přímá spojovací čára 28"/>
          <p:cNvSpPr/>
          <p:nvPr/>
        </p:nvSpPr>
        <p:spPr>
          <a:xfrm>
            <a:off x="1692360" y="2060640"/>
            <a:ext cx="35856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2" name="Přímá spojovací čára 29"/>
          <p:cNvSpPr/>
          <p:nvPr/>
        </p:nvSpPr>
        <p:spPr>
          <a:xfrm>
            <a:off x="2340000" y="2349360"/>
            <a:ext cx="36036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3" name="Přímá spojovací čára 30"/>
          <p:cNvSpPr/>
          <p:nvPr/>
        </p:nvSpPr>
        <p:spPr>
          <a:xfrm>
            <a:off x="3059280" y="2060640"/>
            <a:ext cx="36036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4" name="Přímá spojovací čára 31"/>
          <p:cNvSpPr/>
          <p:nvPr/>
        </p:nvSpPr>
        <p:spPr>
          <a:xfrm>
            <a:off x="4140360" y="2276640"/>
            <a:ext cx="36036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7"/>
              <p:cNvSpPr txBox="1"/>
              <p:nvPr/>
            </p:nvSpPr>
            <p:spPr>
              <a:xfrm>
                <a:off x="324000" y="1557360"/>
                <a:ext cx="280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8"/>
              <p:cNvSpPr txBox="1"/>
              <p:nvPr/>
            </p:nvSpPr>
            <p:spPr>
              <a:xfrm>
                <a:off x="3132000" y="1628640"/>
                <a:ext cx="2527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9"/>
              <p:cNvSpPr txBox="1"/>
              <p:nvPr/>
            </p:nvSpPr>
            <p:spPr>
              <a:xfrm>
                <a:off x="3851280" y="2781360"/>
                <a:ext cx="8128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720720" y="1125360"/>
                <a:ext cx="6396120" cy="16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ovéPole 11"/>
          <p:cNvSpPr/>
          <p:nvPr/>
        </p:nvSpPr>
        <p:spPr>
          <a:xfrm>
            <a:off x="720720" y="692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kouška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0" name="Zaoblený obdélníkový popisek 5"/>
          <p:cNvSpPr/>
          <p:nvPr/>
        </p:nvSpPr>
        <p:spPr>
          <a:xfrm>
            <a:off x="5148360" y="2565360"/>
            <a:ext cx="3168720" cy="647640"/>
          </a:xfrm>
          <a:prstGeom prst="wedgeRoundRectCallout">
            <a:avLst>
              <a:gd name="adj1" fmla="val -109740"/>
              <a:gd name="adj2" fmla="val -65023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osazení výsledku do výrazů obou stran rovnic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1" name="TextovéPole 8"/>
          <p:cNvSpPr/>
          <p:nvPr/>
        </p:nvSpPr>
        <p:spPr>
          <a:xfrm>
            <a:off x="755640" y="5445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4500720" y="5157720"/>
                <a:ext cx="1733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3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6203880" y="5157720"/>
            <a:ext cx="865080" cy="86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720720" y="3276720"/>
                <a:ext cx="5921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9"/>
              <p:cNvSpPr txBox="1"/>
              <p:nvPr/>
            </p:nvSpPr>
            <p:spPr>
              <a:xfrm>
                <a:off x="720720" y="3906720"/>
                <a:ext cx="11174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730080" y="4757760"/>
                <a:ext cx="865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32000" y="260280"/>
                <a:ext cx="26272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539640" y="1628640"/>
                <a:ext cx="57880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6300720" y="1268280"/>
                <a:ext cx="2094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1258920" y="2565360"/>
                <a:ext cx="31878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6"/>
              <p:cNvSpPr txBox="1"/>
              <p:nvPr/>
            </p:nvSpPr>
            <p:spPr>
              <a:xfrm>
                <a:off x="1736640" y="3083040"/>
                <a:ext cx="26560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7"/>
              <p:cNvSpPr txBox="1"/>
              <p:nvPr/>
            </p:nvSpPr>
            <p:spPr>
              <a:xfrm>
                <a:off x="2625840" y="3537000"/>
                <a:ext cx="1398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2301840" y="4076640"/>
                <a:ext cx="1704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5" name="Přímá spojovací šipka 9"/>
          <p:cNvCxnSpPr/>
          <p:nvPr/>
        </p:nvCxnSpPr>
        <p:spPr>
          <a:xfrm flipH="1">
            <a:off x="1534680" y="4508640"/>
            <a:ext cx="805680" cy="622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187280" y="5229360"/>
                <a:ext cx="86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3652920" y="5273640"/>
                <a:ext cx="1174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3943440" y="5754600"/>
                <a:ext cx="839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9" name="Přímá spojovací šipka 13"/>
          <p:cNvCxnSpPr/>
          <p:nvPr/>
        </p:nvCxnSpPr>
        <p:spPr>
          <a:xfrm>
            <a:off x="3132000" y="4508640"/>
            <a:ext cx="720000" cy="576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0" name="Object 15"/>
              <p:cNvSpPr txBox="1"/>
              <p:nvPr/>
            </p:nvSpPr>
            <p:spPr>
              <a:xfrm>
                <a:off x="6300720" y="549360"/>
                <a:ext cx="1982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Přímá spojovací čára 15"/>
          <p:cNvSpPr/>
          <p:nvPr/>
        </p:nvSpPr>
        <p:spPr>
          <a:xfrm>
            <a:off x="1908000" y="1916280"/>
            <a:ext cx="36036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2" name="Přímá spojovací čára 16"/>
          <p:cNvSpPr/>
          <p:nvPr/>
        </p:nvSpPr>
        <p:spPr>
          <a:xfrm>
            <a:off x="3203640" y="2133720"/>
            <a:ext cx="360360" cy="35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Přímá spojovací čára 17"/>
          <p:cNvSpPr/>
          <p:nvPr/>
        </p:nvSpPr>
        <p:spPr>
          <a:xfrm>
            <a:off x="3924360" y="1916280"/>
            <a:ext cx="100800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4" name="Přímá spojovací čára 21"/>
          <p:cNvSpPr/>
          <p:nvPr/>
        </p:nvSpPr>
        <p:spPr>
          <a:xfrm>
            <a:off x="5219640" y="2133720"/>
            <a:ext cx="1008000" cy="35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0:52:13Z</dcterms:modified>
  <cp:revision>161</cp:revision>
  <dc:subject/>
  <dc:title>Název</dc:title>
</cp:coreProperties>
</file>