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0FC7-42E9-44A8-8AD2-36DE6D51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BDB6-BA43-499D-9449-D701E301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963B-A66F-4027-9EFE-5D4E5A55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CE33-A48D-44E0-852F-0CAAB277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9AA-613F-4508-A059-320116CE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0E26-7549-417A-8EEF-08B21C27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E86-D19F-4B00-B720-3B89AEC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7555-C789-4BBF-8FEB-D0B756AB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E870-4614-4DF8-BCE9-2FC119D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1C82-9303-4F7D-A629-560F9A96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4D3-55E8-4E67-B4B4-2081D18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7794-A01D-4AD1-ABE0-153E9EA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B537-A5A8-40C9-8E90-DFF278F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C22-2396-47A7-9C48-B68BC66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982-1E23-4753-82A3-B9A31B46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95CB-A490-4B70-9BB9-84DC3564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4E29-7968-4A6D-8E2C-C3DF1FC3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39FF-9B43-46F3-A64C-40F83F7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E808-CA1B-4A10-803C-AE145A73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5C55-49B5-491B-9E42-8537938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4BE6-96AC-4C33-A2F1-D7C02A0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1E24-ACD1-41AB-9355-57E5A59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8416-0E16-4ACA-91D9-DD3C0D0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BE34-3809-450C-A872-5929EB9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BB28-8027-4FA9-A79E-9F56B5EE26B6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C199-867B-4323-BB1E-CB9337DF89C4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EEEA-F593-461A-A2ED-A2F8C907CA87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327C-EAD3-4BFA-87E6-FD15455E4DE2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Goniometrické rovnice s úpravami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4360" y="155700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e řešte v množině R a přiřaďte k nim správná řešení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042920" y="2382840"/>
                <a:ext cx="1290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042920" y="3014640"/>
                <a:ext cx="1785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0"/>
              <p:cNvSpPr txBox="1"/>
              <p:nvPr/>
            </p:nvSpPr>
            <p:spPr>
              <a:xfrm>
                <a:off x="1042920" y="3860640"/>
                <a:ext cx="20527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1"/>
              <p:cNvSpPr txBox="1"/>
              <p:nvPr/>
            </p:nvSpPr>
            <p:spPr>
              <a:xfrm>
                <a:off x="1042920" y="4530600"/>
                <a:ext cx="2417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5249880"/>
                <a:ext cx="2454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4287960" y="3176640"/>
                <a:ext cx="3919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6"/>
              <p:cNvSpPr txBox="1"/>
              <p:nvPr/>
            </p:nvSpPr>
            <p:spPr>
              <a:xfrm>
                <a:off x="4287960" y="4581360"/>
                <a:ext cx="39402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7"/>
              <p:cNvSpPr txBox="1"/>
              <p:nvPr/>
            </p:nvSpPr>
            <p:spPr>
              <a:xfrm>
                <a:off x="4287960" y="5229360"/>
                <a:ext cx="2516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8"/>
              <p:cNvSpPr txBox="1"/>
              <p:nvPr/>
            </p:nvSpPr>
            <p:spPr>
              <a:xfrm>
                <a:off x="4287960" y="3860640"/>
                <a:ext cx="23605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9"/>
              <p:cNvSpPr txBox="1"/>
              <p:nvPr/>
            </p:nvSpPr>
            <p:spPr>
              <a:xfrm>
                <a:off x="4287960" y="2492280"/>
                <a:ext cx="23605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8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	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1997, 1. vydání: ISBN 80-7196-050-0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4]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GONIOMETRICKÉ ROVNICE S ÚPRAVAM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Úpravy rovnic pomocí vzorc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Zástupný symbol pro obsah 3"/>
              <p:cNvSpPr txBox="1"/>
              <p:nvPr/>
            </p:nvSpPr>
            <p:spPr>
              <a:xfrm>
                <a:off x="684360" y="2236680"/>
                <a:ext cx="2811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427640" y="2205000"/>
                <a:ext cx="239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4348080" y="2781360"/>
                <a:ext cx="239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684360" y="3933720"/>
                <a:ext cx="3124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84360" y="3429000"/>
                <a:ext cx="2997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684360" y="4869000"/>
                <a:ext cx="1565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3132000" y="4869000"/>
                <a:ext cx="19576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6012000" y="5157720"/>
                <a:ext cx="192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ovéPole 11"/>
          <p:cNvSpPr/>
          <p:nvPr/>
        </p:nvSpPr>
        <p:spPr>
          <a:xfrm>
            <a:off x="539640" y="162864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řipomeňme si nejčastěji používané vztahy mezi goniometrickými funkcemi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3132000" y="620640"/>
                <a:ext cx="3232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ovéPole 3"/>
          <p:cNvSpPr/>
          <p:nvPr/>
        </p:nvSpPr>
        <p:spPr>
          <a:xfrm>
            <a:off x="611280" y="1628640"/>
            <a:ext cx="165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YTÝKÁN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3564000" y="1628640"/>
                <a:ext cx="26780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8" name="Přímá spojovací šipka 5"/>
          <p:cNvCxnSpPr/>
          <p:nvPr/>
        </p:nvCxnSpPr>
        <p:spPr>
          <a:xfrm flipH="1">
            <a:off x="3419640" y="2133720"/>
            <a:ext cx="576360" cy="791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Přímá spojovací šipka 6"/>
          <p:cNvCxnSpPr/>
          <p:nvPr/>
        </p:nvCxnSpPr>
        <p:spPr>
          <a:xfrm>
            <a:off x="5219640" y="2133720"/>
            <a:ext cx="721440" cy="791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340000" y="2997360"/>
                <a:ext cx="1258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5364000" y="2997360"/>
                <a:ext cx="1649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1692360" y="3573360"/>
                <a:ext cx="2378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1692360" y="4005360"/>
                <a:ext cx="2601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757840" y="3429000"/>
                <a:ext cx="1201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5724360" y="4005360"/>
                <a:ext cx="2241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TextovéPole 18"/>
          <p:cNvSpPr/>
          <p:nvPr/>
        </p:nvSpPr>
        <p:spPr>
          <a:xfrm>
            <a:off x="468360" y="486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množině R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7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164360" y="522936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468360" y="5373720"/>
                <a:ext cx="6578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ázek 14" descr="Jednotková_tg60.jpg"/>
          <p:cNvPicPr/>
          <p:nvPr/>
        </p:nvPicPr>
        <p:blipFill>
          <a:blip r:embed="rId1"/>
          <a:srcRect l="25847" t="3985" r="4112" b="0"/>
          <a:stretch/>
        </p:blipFill>
        <p:spPr>
          <a:xfrm>
            <a:off x="250920" y="1989000"/>
            <a:ext cx="2089080" cy="2103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4610160" y="565200"/>
                <a:ext cx="1604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ovéPole 3"/>
          <p:cNvSpPr/>
          <p:nvPr/>
        </p:nvSpPr>
        <p:spPr>
          <a:xfrm>
            <a:off x="611280" y="162864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ZOREC:  a</a:t>
            </a:r>
            <a:r>
              <a:rPr b="0" lang="cs-CZ" sz="22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 – b</a:t>
            </a:r>
            <a:r>
              <a:rPr b="0" lang="cs-CZ" sz="22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4756320" y="1569960"/>
                <a:ext cx="1623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3924360" y="2060640"/>
                <a:ext cx="3303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5" name="Přímá spojovací šipka 6"/>
          <p:cNvCxnSpPr/>
          <p:nvPr/>
        </p:nvCxnSpPr>
        <p:spPr>
          <a:xfrm flipH="1">
            <a:off x="3634920" y="2565000"/>
            <a:ext cx="93744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Přímá spojovací šipka 7"/>
          <p:cNvCxnSpPr/>
          <p:nvPr/>
        </p:nvCxnSpPr>
        <p:spPr>
          <a:xfrm>
            <a:off x="6011640" y="2636640"/>
            <a:ext cx="386280" cy="635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2340000" y="3284640"/>
                <a:ext cx="1709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5076720" y="3284640"/>
                <a:ext cx="1710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3059280" y="3789360"/>
                <a:ext cx="1263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3059280" y="4292640"/>
                <a:ext cx="2511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5796000" y="4221000"/>
                <a:ext cx="2679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,4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1"/>
              <p:cNvSpPr txBox="1"/>
              <p:nvPr/>
            </p:nvSpPr>
            <p:spPr>
              <a:xfrm>
                <a:off x="5796000" y="3716280"/>
                <a:ext cx="1458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3" name="TextovéPole 23"/>
          <p:cNvSpPr/>
          <p:nvPr/>
        </p:nvSpPr>
        <p:spPr>
          <a:xfrm>
            <a:off x="395280" y="5084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množině R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4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4932360" y="566100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11"/>
              <p:cNvSpPr txBox="1"/>
              <p:nvPr/>
            </p:nvSpPr>
            <p:spPr>
              <a:xfrm>
                <a:off x="468360" y="5445000"/>
                <a:ext cx="4816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3924360" y="620640"/>
                <a:ext cx="2093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ovéPole 3"/>
          <p:cNvSpPr/>
          <p:nvPr/>
        </p:nvSpPr>
        <p:spPr>
          <a:xfrm>
            <a:off x="611280" y="1628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SUBSTITUCE ARGUMENTU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1496880" y="2349360"/>
                <a:ext cx="13654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3419640" y="2349360"/>
                <a:ext cx="138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3886200" y="2852640"/>
                <a:ext cx="2490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42" name="Přímá spojovací šipka 7"/>
          <p:cNvCxnSpPr/>
          <p:nvPr/>
        </p:nvCxnSpPr>
        <p:spPr>
          <a:xfrm flipH="1">
            <a:off x="1332000" y="2852280"/>
            <a:ext cx="576360" cy="793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1042920" y="3789360"/>
                <a:ext cx="2630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1187280" y="4508640"/>
                <a:ext cx="2406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3851280" y="3860640"/>
                <a:ext cx="59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ovéPole 11"/>
          <p:cNvSpPr/>
          <p:nvPr/>
        </p:nvSpPr>
        <p:spPr>
          <a:xfrm>
            <a:off x="468360" y="5157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množině R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7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067280" y="580536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755640" y="5661000"/>
                <a:ext cx="3108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3635280" y="549360"/>
                <a:ext cx="3840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ovéPole 4"/>
          <p:cNvSpPr/>
          <p:nvPr/>
        </p:nvSpPr>
        <p:spPr>
          <a:xfrm>
            <a:off x="611280" y="162864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SUBSTITUCE FUNKCE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330200" y="2376360"/>
                <a:ext cx="1700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284720" y="2349360"/>
                <a:ext cx="1903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3780000" y="2852640"/>
                <a:ext cx="2403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6" name="Přímá spojovací šipka 9"/>
          <p:cNvCxnSpPr/>
          <p:nvPr/>
        </p:nvCxnSpPr>
        <p:spPr>
          <a:xfrm flipH="1">
            <a:off x="3779280" y="3284280"/>
            <a:ext cx="43236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7" name="Přímá spojovací šipka 10"/>
          <p:cNvCxnSpPr/>
          <p:nvPr/>
        </p:nvCxnSpPr>
        <p:spPr>
          <a:xfrm>
            <a:off x="5219280" y="3284280"/>
            <a:ext cx="36108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3419640" y="3716280"/>
                <a:ext cx="1062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5219640" y="3716280"/>
                <a:ext cx="893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2411280" y="4292640"/>
                <a:ext cx="1422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5796000" y="4365720"/>
                <a:ext cx="1255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156360" y="4797360"/>
                <a:ext cx="1036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2411280" y="4797360"/>
                <a:ext cx="2425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TextovéPole 21"/>
          <p:cNvSpPr/>
          <p:nvPr/>
        </p:nvSpPr>
        <p:spPr>
          <a:xfrm>
            <a:off x="468360" y="5489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množině R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5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3492360" y="606600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30280" y="5921280"/>
                <a:ext cx="3136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5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851280" y="333360"/>
                <a:ext cx="2320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ovéPole 3"/>
          <p:cNvSpPr/>
          <p:nvPr/>
        </p:nvSpPr>
        <p:spPr>
          <a:xfrm>
            <a:off x="611280" y="270828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NÁHRADA FUNKCE JINOU FUNKC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3851280" y="1916280"/>
                <a:ext cx="2482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Zástupný symbol pro obsah 3"/>
              <p:cNvSpPr txBox="1"/>
              <p:nvPr/>
            </p:nvSpPr>
            <p:spPr>
              <a:xfrm>
                <a:off x="755640" y="3357720"/>
                <a:ext cx="2784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4284720" y="3357720"/>
                <a:ext cx="3124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411800" y="3816360"/>
                <a:ext cx="3012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916360" y="4292640"/>
                <a:ext cx="3711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3132000" y="4797360"/>
                <a:ext cx="345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ovéPole 12"/>
          <p:cNvSpPr/>
          <p:nvPr/>
        </p:nvSpPr>
        <p:spPr>
          <a:xfrm>
            <a:off x="611280" y="566100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SUBSTITUCE FUNKCE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3851280" y="5732640"/>
                <a:ext cx="1281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6804000" y="836640"/>
                <a:ext cx="1317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435640" y="5300640"/>
            <a:ext cx="86364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17" descr="Jednotková_cos45.jpg"/>
          <p:cNvPicPr/>
          <p:nvPr/>
        </p:nvPicPr>
        <p:blipFill>
          <a:blip r:embed="rId2"/>
          <a:srcRect l="26375" t="3985" r="2748" b="0"/>
          <a:stretch/>
        </p:blipFill>
        <p:spPr>
          <a:xfrm>
            <a:off x="395280" y="1628640"/>
            <a:ext cx="205272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3348000" y="549360"/>
                <a:ext cx="31892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2" name="Přímá spojovací šipka 2"/>
          <p:cNvCxnSpPr/>
          <p:nvPr/>
        </p:nvCxnSpPr>
        <p:spPr>
          <a:xfrm flipV="1">
            <a:off x="6659640" y="691560"/>
            <a:ext cx="505440" cy="21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3" name="Přímá spojovací šipka 3"/>
          <p:cNvCxnSpPr/>
          <p:nvPr/>
        </p:nvCxnSpPr>
        <p:spPr>
          <a:xfrm>
            <a:off x="6659640" y="1125000"/>
            <a:ext cx="505440" cy="28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7308720" y="1125360"/>
                <a:ext cx="8892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7308720" y="333360"/>
                <a:ext cx="755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755640" y="692280"/>
                <a:ext cx="2238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5402160" y="18446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5691240" y="2349360"/>
                <a:ext cx="10364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3025800" y="1628640"/>
                <a:ext cx="13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3386160" y="2494080"/>
                <a:ext cx="1147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3419640" y="2997360"/>
                <a:ext cx="2379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1"/>
              <p:cNvSpPr txBox="1"/>
              <p:nvPr/>
            </p:nvSpPr>
            <p:spPr>
              <a:xfrm>
                <a:off x="3386160" y="3573360"/>
                <a:ext cx="36115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TextovéPole 18"/>
          <p:cNvSpPr/>
          <p:nvPr/>
        </p:nvSpPr>
        <p:spPr>
          <a:xfrm>
            <a:off x="395280" y="4941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množině R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468360" y="5373720"/>
                <a:ext cx="49575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Olda</cp:lastModifiedBy>
  <dcterms:modified xsi:type="dcterms:W3CDTF">2014-05-30T08:15:35Z</dcterms:modified>
  <cp:revision>273</cp:revision>
  <dc:subject/>
  <dc:title>Název</dc:title>
</cp:coreProperties>
</file>