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AA05-0D72-4FFE-96F7-98A2CE8F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06DC-2576-4DC4-B5E7-D2C064A9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88B4-5DD9-41AD-A923-5E38669A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6A1A-1F37-4298-8583-7323D71E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3F25-24D1-4FE5-8327-C8268E35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D341-311C-4A09-BEA9-D83E5766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519A-DBFA-4045-BEE8-197016CB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2EDD-9737-4582-8722-D26DF047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0992-852F-4853-AE62-46226418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C41B-A40E-4876-B76E-750A2245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9FC5-3CD2-4B81-B38E-F5B9BF67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F42F-AB91-4C53-9BD0-585F0A5D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98B8-45AE-4273-B735-2EEFC72C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A5ED-5CC4-4E24-8494-27220660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A633-58BC-4A94-A0F8-DBE9C4A7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7CB6-77A1-4970-AA0F-E7C7CC6B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C104-84E8-4525-9D09-342050C2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1EBF-6D24-493C-9AA8-A0A0FF8C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7D2C-1218-4750-8827-248F78EF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4D3D-F10F-4625-8F42-D329FEB5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647B-81D0-4ACD-BE87-9F5065AE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EE30-1A4F-441F-B02D-611242E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7FF5-A4D9-490F-B92B-6332E5A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9F46-57A1-47CC-8C63-A2BCD45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0ADB-254E-4530-9F4C-2CD4EF1B6266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3158-25E0-481B-A5B7-9316859A8B0C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FABF-7903-4A95-9A03-1519EB72BE63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7688-2E56-4A3A-86F2-B1F388AF54F0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08000" y="907920"/>
          <a:ext cx="8280360" cy="5262840"/>
        </p:xfrm>
        <a:graphic>
          <a:graphicData uri="http://schemas.openxmlformats.org/drawingml/2006/table">
            <a:tbl>
              <a:tblPr/>
              <a:tblGrid>
                <a:gridCol w="2546280"/>
                <a:gridCol w="5734080"/>
              </a:tblGrid>
              <a:tr h="365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gr. David Jakl, Ph.D.  Přemysl Otakar I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UM se pokouší zachytit  spletité životní osudy  prvního českého krále . Jeho složitou cestu ke královské  koruně a vysněné „Zlaté bule sicilské“. Prezentace bude využita na hodinách historie, ale je možné ji také využít při výuce  ZSV, Občanské nauky a Českého jazyka a literatury.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5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23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0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II/2 Inovace a zkvalitnění výuky prostřednictvím ICT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ějepis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2_1_S1_0906_D12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Opakování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Jaké byly tituly muže uvedeného na obrázku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Co bylo jeho nejvýznamnějším státnickým činem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Název listiny, která je na přiloženém snímku?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spcBef>
                <a:spcPts val="499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Uveď název nástupce tohoto panovníka? 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	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Vlavác I.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  <p:pic>
        <p:nvPicPr>
          <p:cNvPr id="122" name="Obrázek 3" descr="Detail Přemysla Otakara I. z durynského žaláře.jpg"/>
          <p:cNvPicPr/>
          <p:nvPr/>
        </p:nvPicPr>
        <p:blipFill>
          <a:blip r:embed="rId1"/>
          <a:stretch/>
        </p:blipFill>
        <p:spPr>
          <a:xfrm>
            <a:off x="6300720" y="1268280"/>
            <a:ext cx="1871640" cy="1830600"/>
          </a:xfrm>
          <a:prstGeom prst="rect">
            <a:avLst/>
          </a:prstGeom>
          <a:ln w="0">
            <a:noFill/>
          </a:ln>
        </p:spPr>
      </p:pic>
      <p:pic>
        <p:nvPicPr>
          <p:cNvPr id="123" name="Obrázek 4" descr="Zlatá bula sicilská.jpg"/>
          <p:cNvPicPr/>
          <p:nvPr/>
        </p:nvPicPr>
        <p:blipFill>
          <a:blip r:embed="rId2"/>
          <a:stretch/>
        </p:blipFill>
        <p:spPr>
          <a:xfrm>
            <a:off x="6227640" y="3284640"/>
            <a:ext cx="17496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Použitá literatura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mbria"/>
              </a:rPr>
              <a:t>[1] 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Dějiny zemí koruny české I. díl: </a:t>
            </a:r>
            <a:r>
              <a:rPr b="0" i="1" lang="cs-CZ" sz="2000" spc="-1" strike="noStrike">
                <a:solidFill>
                  <a:srgbClr val="8e8d8c"/>
                </a:solidFill>
                <a:latin typeface="Cambria"/>
              </a:rPr>
              <a:t>Čornej Petr 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a kol. Praha 1992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mbria"/>
              </a:rPr>
              <a:t>[2]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 Dějepis pro SOŠ: </a:t>
            </a:r>
            <a:r>
              <a:rPr b="0" i="1" lang="cs-CZ" sz="2000" spc="-1" strike="noStrike">
                <a:solidFill>
                  <a:srgbClr val="8e8d8c"/>
                </a:solidFill>
                <a:latin typeface="Cambria"/>
              </a:rPr>
              <a:t>Čornej Petr </a:t>
            </a:r>
            <a:r>
              <a:rPr b="0" lang="cs-CZ" sz="2000" spc="-1" strike="noStrike">
                <a:solidFill>
                  <a:srgbClr val="8e8d8c"/>
                </a:solidFill>
                <a:latin typeface="Cambria"/>
              </a:rPr>
              <a:t>a kol. Praha 2008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306864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675e47"/>
                </a:solidFill>
                <a:latin typeface="Calibri"/>
              </a:rPr>
              <a:t>Přemysl Otakar I.</a:t>
            </a:r>
            <a:endParaRPr b="0" lang="en-US" sz="6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4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25.10. 2013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754380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Mládí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Narodil se jako nejstarší syn druhé manželky krále Vladislava II., Judity Durynské. V letech 1173–1179 pobýval ve vyhnanství, kde se oženil s Adlétou Míšeňskou. Po návratu z vyhnanství v roce 1179 zastupoval svého vládnoucího staršího bratra Bedřicha na Olomoucku ve funkci markraběte. V následných bojích o český trůn stál vždy na straně svého staršího bratra. V letech 1192–1193 se poprvé stal českým knížetem, ale poté, co se dostal do sporu s pražským biskupem (a svým strýcem) Jindřichem Břetislavem i císařem Jindřichem VI., trávil léta 1193–1197 opět ve vyhnanství.</a:t>
            </a:r>
            <a:r>
              <a:rPr b="0" lang="pl-PL" sz="1800" spc="-1" strike="noStrike">
                <a:solidFill>
                  <a:srgbClr val="8e8d8c"/>
                </a:solidFill>
                <a:latin typeface="Cambria"/>
              </a:rPr>
              <a:t> V roce 1197 podruhé na český trůn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7" name="Obdélník 4"/>
          <p:cNvSpPr/>
          <p:nvPr/>
        </p:nvSpPr>
        <p:spPr>
          <a:xfrm>
            <a:off x="3995640" y="53006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christianization.hist.cam.ac.uk/images/html/seal-of-king-premysl-image.html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98" name="Obrázek 4" descr="Pečeť krále Přemysla Otakara I..jpg"/>
          <p:cNvPicPr/>
          <p:nvPr/>
        </p:nvPicPr>
        <p:blipFill>
          <a:blip r:embed="rId1"/>
          <a:stretch/>
        </p:blipFill>
        <p:spPr>
          <a:xfrm>
            <a:off x="1182600" y="4359240"/>
            <a:ext cx="2200320" cy="22906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5"/>
          <p:cNvSpPr/>
          <p:nvPr/>
        </p:nvSpPr>
        <p:spPr>
          <a:xfrm>
            <a:off x="4013640" y="4890960"/>
            <a:ext cx="30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Pečeť krále Přemysla Otakara I.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675e47"/>
                </a:solidFill>
                <a:latin typeface="Calibri"/>
              </a:rPr>
              <a:t>Na cestě za královskou korunou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1844280"/>
            <a:ext cx="831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Zklidnění domácích poměrů umožnilo Přemyslovi na rozdíl od jeho předchůdců rozvinout čilou zahraniční aktivitu, která vedla k upevnění mezinárodních pozic českého státu. V počínajícím boji o císařskou korunu mezi Štaufy a Welfy stál na straně Filipa Švábského. Filip jej v září či v říjnu 1198 nechal korunovat českým králem. Při té příležitosti vystavil Přemyslovi privilegium, které se sice nedochovalo, ale jeho ozvuky můžeme nacházet v pozdější Zlaté bule sicilské. Království měli Přemysl i jeho nástupci užívat dědičně a v říši měl být uznán za krále ten, koho v Čechách zvolí. Český král také mohl udělovat svým biskupům investituru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2" name="Obdélník 4"/>
          <p:cNvSpPr/>
          <p:nvPr/>
        </p:nvSpPr>
        <p:spPr>
          <a:xfrm>
            <a:off x="2050920" y="551664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banknoteworld.it/czechrepublic.htm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03" name="Obrázek 4" descr="Přemysl Otakar I..jpg"/>
          <p:cNvPicPr/>
          <p:nvPr/>
        </p:nvPicPr>
        <p:blipFill>
          <a:blip r:embed="rId1"/>
          <a:stretch/>
        </p:blipFill>
        <p:spPr>
          <a:xfrm>
            <a:off x="2262240" y="4071960"/>
            <a:ext cx="3552840" cy="1663560"/>
          </a:xfrm>
          <a:prstGeom prst="rect">
            <a:avLst/>
          </a:prstGeom>
          <a:ln w="0">
            <a:noFill/>
          </a:ln>
        </p:spPr>
      </p:pic>
      <p:sp>
        <p:nvSpPr>
          <p:cNvPr id="104" name="Obdélník 5"/>
          <p:cNvSpPr/>
          <p:nvPr/>
        </p:nvSpPr>
        <p:spPr>
          <a:xfrm>
            <a:off x="5808240" y="472428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Přemysl Otakar I.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Zlatá bula sicilská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Dne 26. září 1212 vystavil Fridrich II. Štaufský v Basileji Přemyslu Otakarovi I. a Vladislavu Jindřichovi tři listiny, které byly zpečetěny zlatou pečetí (bulou) sicilského krále. Podle této majestátní pečeti pochází i vžitý název Zlatá bula sicilská. Všechny tři listiny se navzájem doplňují a navenek tvoří nerozdílný celek. Samotná Zlatá bula sicilská upravovala především postavení českého krále a českého státu v rámci římské říše. Přemysl získal mimo jiné potvrzení královské hodnosti pro sebe i své nástupce, potvrzení svobodné volby českého krále, právo investitury pražského i olomouckého biskupa, záruku neporušitelnosti zemských hranic a posílení svého vlivu v blízkém okolí českých zemí. Jeho bratr Vladislav pak potvrzení vlády nad celým "markrabstvím moravským" aníž by však přitom byl narušen Přemyslův mocenský primát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rázek 3" descr="Zlatá bula sicilská.jpg"/>
          <p:cNvPicPr/>
          <p:nvPr/>
        </p:nvPicPr>
        <p:blipFill>
          <a:blip r:embed="rId1"/>
          <a:stretch/>
        </p:blipFill>
        <p:spPr>
          <a:xfrm>
            <a:off x="2700360" y="1197000"/>
            <a:ext cx="2687760" cy="520236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4"/>
          <p:cNvSpPr/>
          <p:nvPr/>
        </p:nvSpPr>
        <p:spPr>
          <a:xfrm>
            <a:off x="5888880" y="313200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f2b20"/>
                </a:solidFill>
                <a:latin typeface="Arial"/>
              </a:rPr>
              <a:t>Zlatá bula sicilská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9" name="Obdélník 4"/>
          <p:cNvSpPr/>
          <p:nvPr/>
        </p:nvSpPr>
        <p:spPr>
          <a:xfrm>
            <a:off x="539640" y="60847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zlate-mince.cz/Zlata_Bula_Sicilska_Ag.htm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754380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Spory o nástupnictví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91628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Přemyslovy mezinárodní úspěchy byly komplikovány jeho rozvodem s Adletou Mišeňskou a novým sňatkem s uherskou princeznou Konstancií (1198). Adleta se totiž obrátila k papeži a usilovala o udržení práv svých dětí. Jednalo se především o syna Vratislava, který by se stal právoplatným českým králem. Přemysl Otakar nakonec dokázal prosadit syna Václava, kterého splodil s Konstancií. Papež Inocenc III. po Adlétině smrti manželství s Přemyslem zrušil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12" name="Obdélník 4"/>
          <p:cNvSpPr/>
          <p:nvPr/>
        </p:nvSpPr>
        <p:spPr>
          <a:xfrm>
            <a:off x="1116000" y="58053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www.radio.cz/cz/rubrika/historie/proc-zlata-a-proc-sicilsk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3" name="Obrázek 4" descr="Detail Přemysla Otakara I. z durynského žaláře.jpg"/>
          <p:cNvPicPr/>
          <p:nvPr/>
        </p:nvPicPr>
        <p:blipFill>
          <a:blip r:embed="rId1"/>
          <a:stretch/>
        </p:blipFill>
        <p:spPr>
          <a:xfrm>
            <a:off x="2484360" y="3645000"/>
            <a:ext cx="2222640" cy="2171520"/>
          </a:xfrm>
          <a:prstGeom prst="rect">
            <a:avLst/>
          </a:prstGeom>
          <a:ln w="0">
            <a:noFill/>
          </a:ln>
        </p:spPr>
      </p:pic>
      <p:sp>
        <p:nvSpPr>
          <p:cNvPr id="114" name="Obdélník 5"/>
          <p:cNvSpPr/>
          <p:nvPr/>
        </p:nvSpPr>
        <p:spPr>
          <a:xfrm>
            <a:off x="4500720" y="4292640"/>
            <a:ext cx="33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Detail Přemysla Otakara I. </a:t>
            </a:r>
            <a:br>
              <a:rPr sz="1600"/>
            </a:b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 durynského žalář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754380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Poslední léta života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78120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Dne 6. února 1228 nechal Přemysl Otakar I. svého druhorozeného syna, z manželství s Konstancií Uherskou, Václava korunovat českým králem, když už dříve (v roce 1224) byl obdařen titulem knížete plzeňského a budyšínského. Přesto si starý král až do posledních chvil uchoval rozhodující vliv na řízení státu.. Zemřel 15. prosince 1230 a byl původně pohřben v bazilice sv. Víta na Pražském hradě. Dnes je jeho tělo uloženo v opukové tumbě z dílny Petra Parléře v kapli sv. Ostatků ve svatovítské katedrále. Dožil se pravděpodobně nejvyššího věku ze všech přemyslovských panovníků. Dle výsledků antropologického průzkumu Emanuela Vlčka byl vysoký 166–170 cm a stejně jako jeho potomci měl až žensky gracilní obličej.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rázek 3" descr="nahrobek_premysla_otakaraI.jpg"/>
          <p:cNvPicPr/>
          <p:nvPr/>
        </p:nvPicPr>
        <p:blipFill>
          <a:blip r:embed="rId1"/>
          <a:stretch/>
        </p:blipFill>
        <p:spPr>
          <a:xfrm>
            <a:off x="2189160" y="1262160"/>
            <a:ext cx="3327480" cy="4846680"/>
          </a:xfrm>
          <a:prstGeom prst="rect">
            <a:avLst/>
          </a:prstGeom>
          <a:ln w="0">
            <a:noFill/>
          </a:ln>
        </p:spPr>
      </p:pic>
      <p:sp>
        <p:nvSpPr>
          <p:cNvPr id="118" name="Obdélník 3"/>
          <p:cNvSpPr/>
          <p:nvPr/>
        </p:nvSpPr>
        <p:spPr>
          <a:xfrm>
            <a:off x="900000" y="59101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 http://www.radio.cz/cz/rubrika/Kalendarium/kalendarium-2010-12-18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9" name="Obdélník 5"/>
          <p:cNvSpPr/>
          <p:nvPr/>
        </p:nvSpPr>
        <p:spPr>
          <a:xfrm>
            <a:off x="5724360" y="2708280"/>
            <a:ext cx="264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Náhrobek Přemysla Otakara I. v chrámu sv. Vít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verys</cp:lastModifiedBy>
  <dcterms:modified xsi:type="dcterms:W3CDTF">2014-09-19T06:27:44Z</dcterms:modified>
  <cp:revision>45</cp:revision>
  <dc:subject/>
  <dc:title>Název</dc:title>
</cp:coreProperties>
</file>