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E1E3-9B97-4EA9-BA28-62ABD4E8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F383-6573-4BAB-ACEA-0CCE4F3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5FEF-D435-4DDA-BE97-687B4503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754C-0646-434E-B55F-4DB96669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2D26-64EB-4391-A343-40EA9B1A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F65-95BB-41A5-B9AF-CEB57608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CD5-542E-420B-8ED9-ABD55770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701-1A4F-4168-8611-0F497B65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E83-D0A4-48CF-8DC7-1BF23BF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AC9-4189-4068-9539-7F13B3A3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A13E-2816-497E-9F97-86F777F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8178-5F2C-49B8-A20D-99A133C1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2B73-35F8-4BF2-8C19-05AE424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F467-0F7C-4DA3-ACCF-6D66A040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E4DB-B61A-48E6-AF31-3E12D86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A15E-F706-40B1-9185-E08C16BD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5AB4-6D25-4E8B-B559-CD93174D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347F-EB13-47F2-AEDE-B412A9A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7624-AC50-446A-A1D6-27102E0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4011-5C7F-4679-8C6F-5422B9E1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7987-4723-4736-A9C7-7DE9D48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706D-6D5B-4462-8AA0-112E3B28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8A5F-7F17-4BB9-934B-7640617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60DC-3C69-49E9-B332-5B5792D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EB04-641B-4A76-B20B-93112BE6C25A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402-5ADB-4623-B253-2477552249F0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595A-83F8-48F2-B010-94D395E5DCBB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4AF4-5D8C-4A94-8986-602756DEB67E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2628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Poslední Přemyslovci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 se zabývá osudy, vládou, politickými úspěchy a neúspěchy posledních Přemyslovců.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3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14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áclav III.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305 – nastupuje na trůn v 16 letech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zdal se uherské koruny, rozhodnut pro korunu polskou – snaha potlačit odboj polské šlechty vedený Vladislavem Lokýtkem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4. 8. 1306 v Olomouci zavražděn – vymření Přemyslovců po meči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20" name="Picture 7" descr="VAC03"/>
          <p:cNvPicPr/>
          <p:nvPr/>
        </p:nvPicPr>
        <p:blipFill>
          <a:blip r:embed="rId1"/>
          <a:stretch/>
        </p:blipFill>
        <p:spPr>
          <a:xfrm>
            <a:off x="2693880" y="3352680"/>
            <a:ext cx="2695680" cy="317664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4"/>
          <p:cNvSpPr/>
          <p:nvPr/>
        </p:nvSpPr>
        <p:spPr>
          <a:xfrm>
            <a:off x="179280" y="62737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2apetras.webzdarma.cz/vaclav_iii.ht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užité zdroje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2637000"/>
            <a:ext cx="7632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1]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Portréty panovníků použity z knihy: Čornej, P.: Panovníci českých zemí. Fragment 2003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2]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http://www.zlate-mince.cz/CRS_1998_Premysl.htm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3]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http://upload.wikimedia.org/wikipedia/commons/thumb/0/00/Lev_erb_kunhuta.jpg/120px-Lev_erb_kunhuta.jpg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http://www.praha.eu/public/1/57/96/839481_80681_anezka_rok_hleani_2.jpg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4]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http://olomoucky.rej.cz/fotky/2009/hradolomouc-1220r.jpg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Poslední Přemyslovci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8. 11.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řemysl Otakar  II.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Král železný a zlatý – nejslavnější a nejmocnější přemyslovský panovník v Čechách i ve střední Evropě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řemyslova říše – Silný hospodářský i politický celek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97" name="Picture 9" descr="Přemysli Otakar II"/>
          <p:cNvPicPr/>
          <p:nvPr/>
        </p:nvPicPr>
        <p:blipFill>
          <a:blip r:embed="rId1"/>
          <a:stretch/>
        </p:blipFill>
        <p:spPr>
          <a:xfrm>
            <a:off x="6012000" y="3068640"/>
            <a:ext cx="2093760" cy="277020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4"/>
          <p:cNvSpPr/>
          <p:nvPr/>
        </p:nvSpPr>
        <p:spPr>
          <a:xfrm>
            <a:off x="250920" y="5950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edejiny.cz/kral-zelezny-a-zlaty-premysl-otakar-ii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920" y="2276280"/>
            <a:ext cx="5184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ýbojná politika a výhodné sňatky a smlouvy: Rakousy (sňatek s Markétou Babenberskou) rozšířeny 1269 dědictvím (Korutany, Kraňsko) a vítěznou válkou s uherským králem Belou IV. R. 1260 u Kressenbrunnu (zisk Štýrska), 1261 nový sňatek s uherskou Kunhutou 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00" name="Picture 4" descr="bela4"/>
          <p:cNvPicPr/>
          <p:nvPr/>
        </p:nvPicPr>
        <p:blipFill>
          <a:blip r:embed="rId1"/>
          <a:stretch/>
        </p:blipFill>
        <p:spPr>
          <a:xfrm>
            <a:off x="5572080" y="1547640"/>
            <a:ext cx="2712960" cy="381024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4"/>
          <p:cNvSpPr/>
          <p:nvPr/>
        </p:nvSpPr>
        <p:spPr>
          <a:xfrm>
            <a:off x="0" y="6021360"/>
            <a:ext cx="52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krizevci.net/hr/html/belabula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2" name="TextovéPole 5"/>
          <p:cNvSpPr/>
          <p:nvPr/>
        </p:nvSpPr>
        <p:spPr>
          <a:xfrm>
            <a:off x="6156360" y="5373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Bela IV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266 obsazeno Chebsko – České panství sahalo od Krkonoš až k Jaderskému moři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04" name="Picture 4" descr="mapa 13 st"/>
          <p:cNvPicPr/>
          <p:nvPr/>
        </p:nvPicPr>
        <p:blipFill>
          <a:blip r:embed="rId1"/>
          <a:stretch/>
        </p:blipFill>
        <p:spPr>
          <a:xfrm>
            <a:off x="1258920" y="2349360"/>
            <a:ext cx="59770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675e47"/>
                </a:solidFill>
                <a:latin typeface="Calibri"/>
              </a:rPr>
              <a:t>Vnitřní politika Přemysla Otakara II.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očátky zemského soudu v Čechách – nejvyšší soudní orgán šlechty, vznik desek zemských, zemský sněm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omácí odboj – včele Záviš z Falkenštejna, 1276 – 1278 povstání české šlechty proti králi potlačeno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odpora městské kolonizace (25 měst, např. Kolín, Čáslav, Písek …….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278 bitva na Moravském poli, Přemysl Otakar II. zabit Rudolfem Habsburským 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2519280" cy="220356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4"/>
          <p:cNvSpPr/>
          <p:nvPr/>
        </p:nvSpPr>
        <p:spPr>
          <a:xfrm>
            <a:off x="0" y="6093000"/>
            <a:ext cx="55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e-stredovek.cz/view.php?cisloclanku=2007090004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Obdélník 5"/>
          <p:cNvSpPr/>
          <p:nvPr/>
        </p:nvSpPr>
        <p:spPr>
          <a:xfrm>
            <a:off x="5301000" y="479736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áviš z Falkenštejn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áclav II.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50560" y="2565360"/>
            <a:ext cx="5761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76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e8d8c"/>
                </a:solidFill>
                <a:latin typeface="Cambria"/>
              </a:rPr>
              <a:t>Sňatek s Gutou  (dcera Rudolfa Habsburskéhoského)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76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e8d8c"/>
                </a:solidFill>
                <a:latin typeface="Cambria"/>
              </a:rPr>
              <a:t>Ovlivněn Závišem z Falkenštejna (z rodu Vítkovců )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76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e8d8c"/>
                </a:solidFill>
                <a:latin typeface="Cambria"/>
              </a:rPr>
              <a:t>Obnoven pořádek v zemi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76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e8d8c"/>
                </a:solidFill>
                <a:latin typeface="Cambria"/>
              </a:rPr>
              <a:t>Opozice proti Závišovi (obžalován z úkladů proti králi, zajat, popraven pod hradem Hluboká v r. 1260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76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8e8d8c"/>
                </a:solidFill>
                <a:latin typeface="Cambria"/>
              </a:rPr>
              <a:t>Václav II. upevnil pozici českého státu ve stř. Evropě ( obratný diplomat)</a:t>
            </a: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12" name="Picture 7" descr="VAC02"/>
          <p:cNvPicPr/>
          <p:nvPr/>
        </p:nvPicPr>
        <p:blipFill>
          <a:blip r:embed="rId1"/>
          <a:stretch/>
        </p:blipFill>
        <p:spPr>
          <a:xfrm>
            <a:off x="5864400" y="1620720"/>
            <a:ext cx="2462040" cy="270216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4"/>
          <p:cNvSpPr/>
          <p:nvPr/>
        </p:nvSpPr>
        <p:spPr>
          <a:xfrm>
            <a:off x="324000" y="55897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panovnici-evropy.estranky.cz/fotoalbum/cesti-panovnici/premyslovci-kralove/vaclav-ii..jpg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áclav II.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České země rozkvět , bohatství – otevřeny stříbrné doly v Kutné Hoře (patřily k nejbohatším v Evropě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300 – vydán Horní zákoník ( IUS REGALE MONTANORUM ) stanovil pravidla týkající se těžby a výnosů z ní, obsahoval prvky sociální péče o horníky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Ražba pražských grošů ( vyhledávané platidlo v celé Evropě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áclav II.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Obklopen přepychem,učenci a vzdělanci  (usiloval o založení univerzity v Praze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Zahraniční politika - úspěšná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Orientace na Polsko - sňatek s Eliškou Rejčkou (Piastovna)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301 – vymření Arpádovců ( uherská koruna nabídnuta Václavu II. – přijal ji pro svého syna Václava – jako uherského krále Ladislava V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>
              <a:spcBef>
                <a:spcPts val="451"/>
              </a:spcBef>
              <a:buClr>
                <a:srgbClr val="a9a5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305 – Václav II. umírá 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26:07Z</dcterms:modified>
  <cp:revision>41</cp:revision>
  <dc:subject/>
  <dc:title>Název</dc:title>
</cp:coreProperties>
</file>