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FD4C4-DB40-4CDB-AF4E-8CD35F0F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6161-94AB-4A87-B281-5E0CADC2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0678-67EC-429E-9D8C-0B630EC2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175C-E83A-481C-9AC9-B7A4F813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5ED1-826D-40DC-86BE-DA323E6F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4762-2CDC-4FD4-8EBB-7D98D91F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AA8C-1136-411A-918B-F90F3933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1FD2-A33B-4903-8AE7-18A3F948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2481-7225-43E8-8583-5280E7FD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E4A2-133C-4A47-A5BE-7C46A57F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4D16-7128-4A7E-93F0-1C83C30C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B6CC-FD8D-46D0-86CA-7F066D38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B1B0-CB50-4E8A-9109-B73983DD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764D-C6C0-49D8-8990-503D525B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0012-F325-4825-9B4E-4466215F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6136-5980-4943-BC24-9BDC8112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32E2-2AD3-40B5-A5D0-B74BF5B1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27FDA-6B72-42DF-9D76-A7903EB9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D549-498A-4CF0-93BF-E1FB237A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39A4-8F43-4435-B330-B516CE44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6203-C3A5-4073-BD94-E7FE7430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121E-DD87-49EE-B057-070475AC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06CC-1930-4DB1-9D3F-F9BD40EE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BA08-AAA6-4B09-ABB2-1735B880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8FBD-02DA-4B29-AD46-9112D3B8E6D5}" type="slidenum">
              <a:rPr b="0" lang="cs-CZ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Arial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2D70-ACF0-4D46-AE8A-D8B59D558B09}" type="datetime">
              <a:rPr b="0" lang="cs-CZ" sz="1200" spc="-1" strike="noStrike">
                <a:solidFill>
                  <a:srgbClr val="dfdcb7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5F47-3DCF-4236-8FDD-01E7BE3BD854}" type="datetime">
              <a:rPr b="0" lang="cs-CZ" sz="1200" spc="-1" strike="noStrike">
                <a:solidFill>
                  <a:srgbClr val="dfdcb7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Arial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6868-0EF1-4AC0-BC28-2D962C134329}" type="slidenum">
              <a:rPr b="0" lang="cs-CZ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3.bp.blogspot.com/-D7HBfB-UZYw/TqGUK378NtI/AAAAAAAAAJM/9BVkjSQlEOQ/s1600/mag.jpg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iaoamericamagazine.com/hello-world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6840" y="1599840"/>
            <a:ext cx="762012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108000" y="907920"/>
          <a:ext cx="8280360" cy="5477040"/>
        </p:xfrm>
        <a:graphic>
          <a:graphicData uri="http://schemas.openxmlformats.org/drawingml/2006/table">
            <a:tbl>
              <a:tblPr/>
              <a:tblGrid>
                <a:gridCol w="2546280"/>
                <a:gridCol w="5734080"/>
              </a:tblGrid>
              <a:tr h="365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gr. David Jakl, Ph.D.  Zámořské objevy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157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DUM se pokouší přiblížit studentům zámořské objevy, jejich důsledky pro Evropu. Zabývá se objevitelskými cestami Portugalců, Španělů, Vasco da Gama a dalších. Prezentace bude využita na hodinách historie, ale je možné ji také využít při výuce  ZSV, Občanské nauky a Českého jazyka a literatury.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6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01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II/2 Inovace a zkvalitnění výuky prostřednictvím ICT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ějepis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6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2_1_S1_0906_D19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Obeplutí zeměkoule 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7561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1519 – 1522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Portugalec Fernao Magalhães [magalenš] vedl španělskou výpravu pěti lodí, která se vydala na západ, obeplula svět a vrátila se od východu. Její vůdce Magalhães byl zabit v potyčce s domorodci na Filipínách. Do Evropy dorazila jediná loď s 18 muži. Přinesli důkaz o tom, že je Země kulatá.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26" name="Obdélník 3"/>
          <p:cNvSpPr/>
          <p:nvPr/>
        </p:nvSpPr>
        <p:spPr>
          <a:xfrm>
            <a:off x="0" y="6027840"/>
            <a:ext cx="58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susy-investigaesantropolgicas.blogspot.cz/2011/10/naturalidade-de-fernao-de-magalhaes.html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27" name="Picture 2" descr="http://3.bp.blogspot.com/-D7HBfB-UZYw/TqGUK378NtI/AAAAAAAAAJM/9BVkjSQlEOQ/s320/ma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2240" y="3279600"/>
            <a:ext cx="404172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bdélník 3"/>
          <p:cNvSpPr/>
          <p:nvPr/>
        </p:nvSpPr>
        <p:spPr>
          <a:xfrm>
            <a:off x="539640" y="5516640"/>
            <a:ext cx="61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pl.wikipedia.org/wiki/Rudolf_Krautschneider#mediaviewer/Plik:Magellan%26Victoria2000.svg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29" name="Picture 2" descr="http://upload.wikimedia.org/wikipedia/commons/thumb/0/00/Magellan%26Victoria2000.svg/1024px-Magellan%26Victoria2000.svg.png"/>
          <p:cNvPicPr/>
          <p:nvPr/>
        </p:nvPicPr>
        <p:blipFill>
          <a:blip r:embed="rId1"/>
          <a:stretch/>
        </p:blipFill>
        <p:spPr>
          <a:xfrm>
            <a:off x="611280" y="1341360"/>
            <a:ext cx="74008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Důsledky zámořských objevů 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95280" y="2637000"/>
            <a:ext cx="7561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Evropané přivezli z Ameriky řadu plodin (brambory, kukuřici, rajčata, slunečnice, kakao, ananas a tabák), také nové druhy drůbeže (krocan, perlička). Naopak Indiáni poznali koně. Evropané si dovezli z Ameriky různé nemoci (sifilis). Indiáni podléhali chřipce, neštovicím a spalničkám. V novém světadíle se šířila španělština a portugalština, které se nakonec stali úřední řečí, a protože oba jazyky vznikly z latiny, tak Střední a Jižní Americe se říká Latinská Amerika. Změnily se námořní trasy. Hlavními evropskými přístavy se staly – Cádis, Sevilla, Antverpy, Londýn a Lisabon.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Opakování 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95280" y="2637000"/>
            <a:ext cx="7561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Kdo objevil Mys dobré naděje?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45720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Který mořeplavec z Evropy doplul jako první do Indie?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45720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Jak přeložíme jméno Cristobal Collón?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45720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Kdo jako první obeplul zeměkouli?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45720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Které plodiny přivezli Evropané z Ameriky?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Literatura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5" name="Zástupný symbol pro obsah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mbria"/>
              </a:rPr>
              <a:t>[</a:t>
            </a:r>
            <a:r>
              <a:rPr b="0" lang="cs-CZ" sz="2000" spc="-1" strike="noStrike">
                <a:solidFill>
                  <a:srgbClr val="7f7f7f"/>
                </a:solidFill>
                <a:latin typeface="Cambria"/>
              </a:rPr>
              <a:t>1</a:t>
            </a:r>
            <a:r>
              <a:rPr b="0" lang="en-US" sz="2000" spc="-1" strike="noStrike">
                <a:solidFill>
                  <a:srgbClr val="7f7f7f"/>
                </a:solidFill>
                <a:latin typeface="Cambria"/>
              </a:rPr>
              <a:t> ]</a:t>
            </a:r>
            <a:r>
              <a:rPr b="0" lang="cs-CZ" sz="2000" spc="-1" strike="noStrike">
                <a:solidFill>
                  <a:srgbClr val="7f7f7f"/>
                </a:solidFill>
                <a:latin typeface="Cambria"/>
              </a:rPr>
              <a:t> Čornej Petr a kol: Dějepis pro SOŠ, SPN-Praha 2008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Zámořské objevy 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3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4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14.3. 2014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Období před zámořskými objevy  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94920" y="2637000"/>
            <a:ext cx="7921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Země byla podle církve považována za plochou desku.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Objevné cesty byly jen sporadické: Vikingové 9. – 10. stol., Marco Polo v Číně ve 13. stol.,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 </a:t>
            </a: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bez navigačních pomůcek se lodě neodvažovaly na širé moře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Evropané byli schopni doplout pouze do Severní Afriky a Přední Asie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Dálkový obchod po pevnině s Indií a Čínou (luxusní zboží, zjm. koření) zprostředkovávaly Benátky a Janov+arabští kupci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Evrop.doly vyčerpány + růst zbožně peněžních vztahů= potřeba hledání nových zdrojů zlata a stříbra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Technické předpoklady pro zámořské objevy 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95280" y="2491920"/>
            <a:ext cx="756144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Lodě s velkým úložným prostorem-</a:t>
            </a:r>
            <a:r>
              <a:rPr b="1" lang="cs-CZ" sz="2000" spc="-1" strike="noStrike">
                <a:solidFill>
                  <a:srgbClr val="8e8d8c"/>
                </a:solidFill>
                <a:latin typeface="Cambria"/>
              </a:rPr>
              <a:t>karavely</a:t>
            </a: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, zdokonalení </a:t>
            </a:r>
            <a:r>
              <a:rPr b="1" lang="cs-CZ" sz="2000" spc="-1" strike="noStrike">
                <a:solidFill>
                  <a:srgbClr val="8e8d8c"/>
                </a:solidFill>
                <a:latin typeface="Cambria"/>
              </a:rPr>
              <a:t>kompasu</a:t>
            </a:r>
            <a:r>
              <a:rPr b="1" lang="cs-CZ" sz="1600" spc="-1" strike="noStrike">
                <a:solidFill>
                  <a:srgbClr val="8e8d8c"/>
                </a:solidFill>
                <a:latin typeface="Cambria"/>
              </a:rPr>
              <a:t>(od 12.stol.)</a:t>
            </a: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, námořní </a:t>
            </a:r>
            <a:r>
              <a:rPr b="1" lang="cs-CZ" sz="2000" spc="-1" strike="noStrike">
                <a:solidFill>
                  <a:srgbClr val="8e8d8c"/>
                </a:solidFill>
                <a:latin typeface="Cambria"/>
              </a:rPr>
              <a:t>mapy, astrolab,kvadrant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9" name="Obdélník 3"/>
          <p:cNvSpPr/>
          <p:nvPr/>
        </p:nvSpPr>
        <p:spPr>
          <a:xfrm>
            <a:off x="179280" y="595008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www.4zscheb.cz/elearning/dejepislearning/Zamorskeobjevy/vyklad.htm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00" name="Picture 5" descr="http://www.4zscheb.cz/elearning/dejepislearning/Zamorskeobjevy/obrazky/astrolab.jpg"/>
          <p:cNvPicPr/>
          <p:nvPr/>
        </p:nvPicPr>
        <p:blipFill>
          <a:blip r:embed="rId1"/>
          <a:stretch/>
        </p:blipFill>
        <p:spPr>
          <a:xfrm>
            <a:off x="5430960" y="3998880"/>
            <a:ext cx="2128680" cy="1596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http://www.4zscheb.cz/elearning/dejepislearning/Zamorskeobjevy/obrazky/kompas.jpg"/>
          <p:cNvPicPr/>
          <p:nvPr/>
        </p:nvPicPr>
        <p:blipFill>
          <a:blip r:embed="rId2"/>
          <a:stretch/>
        </p:blipFill>
        <p:spPr>
          <a:xfrm>
            <a:off x="3267000" y="3565440"/>
            <a:ext cx="1743120" cy="1635120"/>
          </a:xfrm>
          <a:prstGeom prst="rect">
            <a:avLst/>
          </a:prstGeom>
          <a:ln w="0">
            <a:noFill/>
          </a:ln>
        </p:spPr>
      </p:pic>
      <p:pic>
        <p:nvPicPr>
          <p:cNvPr id="102" name="Obrázek 6" descr="karavela.jpg"/>
          <p:cNvPicPr/>
          <p:nvPr/>
        </p:nvPicPr>
        <p:blipFill>
          <a:blip r:embed="rId3"/>
          <a:stretch/>
        </p:blipFill>
        <p:spPr>
          <a:xfrm>
            <a:off x="463680" y="3206880"/>
            <a:ext cx="2243160" cy="1566720"/>
          </a:xfrm>
          <a:prstGeom prst="rect">
            <a:avLst/>
          </a:prstGeom>
          <a:ln w="0">
            <a:noFill/>
          </a:ln>
        </p:spPr>
      </p:pic>
      <p:sp>
        <p:nvSpPr>
          <p:cNvPr id="103" name="Obdélník 7"/>
          <p:cNvSpPr/>
          <p:nvPr/>
        </p:nvSpPr>
        <p:spPr>
          <a:xfrm>
            <a:off x="1192320" y="479736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karavel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4" name="Obdélník 8"/>
          <p:cNvSpPr/>
          <p:nvPr/>
        </p:nvSpPr>
        <p:spPr>
          <a:xfrm>
            <a:off x="3713040" y="515772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kompas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5" name="Obdélník 9"/>
          <p:cNvSpPr/>
          <p:nvPr/>
        </p:nvSpPr>
        <p:spPr>
          <a:xfrm>
            <a:off x="6161760" y="561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astrolab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Portugalské zámořské objevy 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5280" y="2637000"/>
            <a:ext cx="7561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Již dříve pluli kolem afrického pobřeží, kde získávali -zlato, slonovinu a otroky, ale především se snažili nalézt cestu do Indie. Tyto cesty podporoval princ Jindřich Mořeplavec. 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1488- Bartolomeo Diaz- Mys dobré naděje (nejjižnější bod Afriky – hranice mezi Atlantským oceánem a Indickým oceánem).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1498- Vasco [vašku] da Gama- obeplul Afriku, dorazil do Indie. Portugalci chtěli ovládnout obchod s kořením.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http://www.4zscheb.cz/elearning/dejepislearning/Zamorskeobjevy/obrazky/BartolomeoDiaz.jpg"/>
          <p:cNvPicPr/>
          <p:nvPr/>
        </p:nvPicPr>
        <p:blipFill>
          <a:blip r:embed="rId1"/>
          <a:stretch/>
        </p:blipFill>
        <p:spPr>
          <a:xfrm>
            <a:off x="603360" y="1407960"/>
            <a:ext cx="2816280" cy="3902400"/>
          </a:xfrm>
          <a:prstGeom prst="rect">
            <a:avLst/>
          </a:prstGeom>
          <a:ln w="0">
            <a:noFill/>
          </a:ln>
        </p:spPr>
      </p:pic>
      <p:pic>
        <p:nvPicPr>
          <p:cNvPr id="109" name="Obrázek 4" descr="VascodaGama.jpg"/>
          <p:cNvPicPr/>
          <p:nvPr/>
        </p:nvPicPr>
        <p:blipFill>
          <a:blip r:embed="rId2"/>
          <a:stretch/>
        </p:blipFill>
        <p:spPr>
          <a:xfrm>
            <a:off x="4711680" y="1407960"/>
            <a:ext cx="2676600" cy="3992760"/>
          </a:xfrm>
          <a:prstGeom prst="rect">
            <a:avLst/>
          </a:prstGeom>
          <a:ln w="0">
            <a:noFill/>
          </a:ln>
        </p:spPr>
      </p:pic>
      <p:sp>
        <p:nvSpPr>
          <p:cNvPr id="110" name="Obdélník 5"/>
          <p:cNvSpPr/>
          <p:nvPr/>
        </p:nvSpPr>
        <p:spPr>
          <a:xfrm>
            <a:off x="5294160" y="551664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Vascoda Gam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0" y="6021360"/>
            <a:ext cx="45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www.4zscheb.cz/elearning/dejepislearning/Zamorskeobjevy/vyklad.htm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2" name="Obdélník 5"/>
          <p:cNvSpPr/>
          <p:nvPr/>
        </p:nvSpPr>
        <p:spPr>
          <a:xfrm>
            <a:off x="1052280" y="544500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Bartolomeo Dia</a:t>
            </a:r>
            <a:r>
              <a:rPr b="0" lang="cs-CZ" sz="1800" spc="-1" strike="noStrike">
                <a:solidFill>
                  <a:srgbClr val="2f2b2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Objevení Ameriky 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78920" y="2133360"/>
            <a:ext cx="52563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Po vyhnání Arabů ze Španělska a sjednocení království mohl </a:t>
            </a:r>
            <a:r>
              <a:rPr b="1" lang="cs-CZ" sz="1800" spc="-1" strike="noStrike">
                <a:solidFill>
                  <a:srgbClr val="8e8d8c"/>
                </a:solidFill>
                <a:latin typeface="Cambria"/>
              </a:rPr>
              <a:t>Kryštof Kolumbus  </a:t>
            </a: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(Janovan ve službách Španělska)-admirál, vicekrál, uskutečnit své čtyři výpravy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1. výprava- objevení Ameriky- lodě Santa Maria, Pinta, Nina- přistál po dvou a půl měsících – 12. října 1492 na jednom z bahamských ostrovů- San Salvador, později se vylodil na Kubě a Hispaniole( Haiti), jedinkrát vystoupil na pevninu (ústí Orinoka)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15" name="Obdélník 3"/>
          <p:cNvSpPr/>
          <p:nvPr/>
        </p:nvSpPr>
        <p:spPr>
          <a:xfrm>
            <a:off x="0" y="6027840"/>
            <a:ext cx="550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www.lidovky.cz/podmorsti-hledaci-pry-nasli-u-haiti-vrak-lodi-krystofa-kolumba-p7o-/zpravy-svet.aspx?c=A140513_182932_ln_zahranici_sk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16" name="Obrázek 4" descr="Kryštof Kolumbus.jpg"/>
          <p:cNvPicPr/>
          <p:nvPr/>
        </p:nvPicPr>
        <p:blipFill>
          <a:blip r:embed="rId1"/>
          <a:stretch/>
        </p:blipFill>
        <p:spPr>
          <a:xfrm>
            <a:off x="5505480" y="2054160"/>
            <a:ext cx="2773440" cy="306072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5"/>
          <p:cNvSpPr/>
          <p:nvPr/>
        </p:nvSpPr>
        <p:spPr>
          <a:xfrm>
            <a:off x="5877360" y="5445000"/>
            <a:ext cx="177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Kryštof Kolumbus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Popis Kolumbových výprav 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-360" y="2421000"/>
            <a:ext cx="8388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Kolumbus falšoval zápisy do lodního deníku, posádka se téměř proti němu vzbouřila a kořist byla malá. Král s královnou byli zklamaní- Kolumbus upadl v nemilost,byl uvězněn a zemřel chudý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Do smrti se domníval, že objevil Indii a domorodce nazval „Indiáni“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Dnes víme, že do tohoto světadílu dopluli dříve Vikingové snad i Japonci a Číňané. Jako první umožnil kolonizaci Ameriky.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Amerigo Vespucci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78920" y="1773360"/>
            <a:ext cx="8137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Byl italský obchodník a domníval se, že byl objeven nový světadíl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Od r. 1507 nazýván Amerika (křestní jméno Amerigo na rytině mapy omylem ztotožněno se jménem kontinentu)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V roce 1513- Vasco de Balboa přešel přes Panamskou šíji, spatřil Tichý oceán a dokázal, že jde o nový kontinent.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22" name="Obdélník 3"/>
          <p:cNvSpPr/>
          <p:nvPr/>
        </p:nvSpPr>
        <p:spPr>
          <a:xfrm>
            <a:off x="0" y="6519960"/>
            <a:ext cx="61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ciaoamericamagazine.com/tag/amerigo-vespucci/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23" name="Picture 2" descr="Hello world!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35320" y="3425760"/>
            <a:ext cx="296208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verys</cp:lastModifiedBy>
  <dcterms:modified xsi:type="dcterms:W3CDTF">2014-09-19T06:32:43Z</dcterms:modified>
  <cp:revision>42</cp:revision>
  <dc:subject/>
  <dc:title>Název</dc:title>
</cp:coreProperties>
</file>