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1A779-D806-4668-A88D-7C0523F5B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B4B0C-6275-42D4-9767-46DF0819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90BFF-31D6-47AF-B589-19078FE91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1D248-EA21-4891-9B25-D0FDAA6D7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E067-4904-4401-82FF-75A6985A7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6D58-5295-4358-A8ED-B5B0ABF5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0809-5EB0-4A3E-A145-72251D4F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6E90-31DE-4901-97CC-E4CB9787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5B06-BD70-4FD0-B9B6-4FC77051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0744C-549D-4FF3-99E1-39768C2D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00E16-AE9E-4BD6-B07D-0529B701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E09E2-AA46-4CEA-83C4-B5384985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9D9F-AF52-487D-AD82-B6604D64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58EA-EDA2-4C16-B764-71B447A9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9D67-7525-481E-BB4F-98793C41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6D2E-69A8-4217-9651-69D4788E3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873D-F3F9-404E-BF46-43CEC14CF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B7A23-91A1-4A04-AADE-7AC5B3A3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13F4D-78F7-4767-B15C-99CE1DF8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09FE3-1967-49CE-A54C-B526FBE7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3F93E-485C-4B48-A7AA-83083054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296DA-9105-49CC-8D09-503695B4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549A3-BFBB-4544-BF78-A1782E37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F59F6-8666-4B74-B965-F2850388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81C8-3510-4311-8C9B-6CC4E3A9810D}" type="slidenum">
              <a:rPr b="0" lang="cs-CZ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Arial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FEE3-C44D-4B4D-95BE-AA05D6D46633}" type="datetime">
              <a:rPr b="0" lang="cs-CZ" sz="1200" spc="-1" strike="noStrike">
                <a:solidFill>
                  <a:srgbClr val="dfdcb7"/>
                </a:solidFill>
                <a:latin typeface="Arial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4"/>
          <a:stretch/>
        </p:blipFill>
        <p:spPr>
          <a:xfrm>
            <a:off x="2124000" y="189000"/>
            <a:ext cx="5256360" cy="1044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6FF6-6F5A-47F6-BB02-95C7845C89D5}" type="datetime">
              <a:rPr b="0" lang="cs-CZ" sz="1200" spc="-1" strike="noStrike">
                <a:solidFill>
                  <a:srgbClr val="dfdcb7"/>
                </a:solidFill>
                <a:latin typeface="Arial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Arial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7252-CA45-4903-8444-DA3FEE4B56ED}" type="slidenum">
              <a:rPr b="0" lang="cs-CZ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2" descr=""/>
          <p:cNvPicPr/>
          <p:nvPr/>
        </p:nvPicPr>
        <p:blipFill>
          <a:blip r:embed="rId1"/>
          <a:stretch/>
        </p:blipFill>
        <p:spPr>
          <a:xfrm>
            <a:off x="179280" y="61920"/>
            <a:ext cx="3745080" cy="919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6840" y="1599840"/>
            <a:ext cx="7620120" cy="480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108000" y="907920"/>
          <a:ext cx="8280360" cy="5477040"/>
        </p:xfrm>
        <a:graphic>
          <a:graphicData uri="http://schemas.openxmlformats.org/drawingml/2006/table">
            <a:tbl>
              <a:tblPr/>
              <a:tblGrid>
                <a:gridCol w="2546280"/>
                <a:gridCol w="5734080"/>
              </a:tblGrid>
              <a:tr h="365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tor a téma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gr. David Jakl, Ph.D.  Pražské jaro 1968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366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a název projektu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Z.1.07/1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1157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Anotace, vč. možností využití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DUM popisuje události  „Pražského jara 1968“ a snaží se vysvětlit studentům události, které vedly k intervenci armád Varšavské smlouvy a připomíná  hlavní aktéry tehdejším událostí doma  i v SSSR.  Prezentace bude využita na hodinách historie, ale je možné ji také využít při výuce  ZSV, Občanské nauky a Českého jazyka a literatury.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66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očet vyučovacích hodin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 hodina 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522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rčeno pro obory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Ekologie a biologie; Mechanik strojů a zařízení; Agropodnikání; Podnikání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1401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éma (název) sady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III/2 Inovace a zkvalitnění výuky prostřednictvím ICT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Dějepis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1096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DUM </a:t>
                      </a:r>
                      <a:r>
                        <a:rPr b="0" lang="cs-CZ" sz="12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(šablona_číslo šablony_číslo sady_číslo projektu_číslo DUM)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2_1_S1_0906_D9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Literatura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34" name="Zástupný symbol pro obsah 2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mbria"/>
              </a:rPr>
              <a:t>[</a:t>
            </a:r>
            <a:r>
              <a:rPr b="0" lang="cs-CZ" sz="2000" spc="-1" strike="noStrike">
                <a:solidFill>
                  <a:srgbClr val="7f7f7f"/>
                </a:solidFill>
                <a:latin typeface="Cambria"/>
              </a:rPr>
              <a:t>1</a:t>
            </a:r>
            <a:r>
              <a:rPr b="0" lang="en-US" sz="2000" spc="-1" strike="noStrike">
                <a:solidFill>
                  <a:srgbClr val="7f7f7f"/>
                </a:solidFill>
                <a:latin typeface="Cambria"/>
              </a:rPr>
              <a:t> ]</a:t>
            </a:r>
            <a:r>
              <a:rPr b="0" lang="cs-CZ" sz="2000" spc="-1" strike="noStrike">
                <a:solidFill>
                  <a:srgbClr val="7f7f7f"/>
                </a:solidFill>
                <a:latin typeface="Cambria"/>
              </a:rPr>
              <a:t> Gebhart a kol.: </a:t>
            </a:r>
            <a:r>
              <a:rPr b="0" lang="en-US" sz="2000" spc="-1" strike="noStrike">
                <a:solidFill>
                  <a:srgbClr val="7f7f7f"/>
                </a:solidFill>
                <a:latin typeface="Cambria"/>
              </a:rPr>
              <a:t> </a:t>
            </a:r>
            <a:r>
              <a:rPr b="0" lang="cs-CZ" sz="2000" spc="-1" strike="noStrike">
                <a:solidFill>
                  <a:srgbClr val="7f7f7f"/>
                </a:solidFill>
                <a:latin typeface="Cambria"/>
              </a:rPr>
              <a:t>České a Československé dějiny II. díl </a:t>
            </a:r>
            <a:br>
              <a:rPr sz="2000"/>
            </a:br>
            <a:r>
              <a:rPr b="0" lang="cs-CZ" sz="2000" spc="-1" strike="noStrike">
                <a:solidFill>
                  <a:srgbClr val="7f7f7f"/>
                </a:solidFill>
                <a:latin typeface="Cambria"/>
              </a:rPr>
              <a:t>(od roku 1790 do současnosti), Fortuna 1991</a:t>
            </a:r>
            <a:endParaRPr b="0" lang="en-US" sz="20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mbria"/>
              </a:rPr>
              <a:t>[</a:t>
            </a:r>
            <a:r>
              <a:rPr b="0" lang="cs-CZ" sz="2000" spc="-1" strike="noStrike">
                <a:solidFill>
                  <a:srgbClr val="7f7f7f"/>
                </a:solidFill>
                <a:latin typeface="Cambria"/>
              </a:rPr>
              <a:t>2</a:t>
            </a:r>
            <a:r>
              <a:rPr b="0" lang="en-US" sz="2000" spc="-1" strike="noStrike">
                <a:solidFill>
                  <a:srgbClr val="7f7f7f"/>
                </a:solidFill>
                <a:latin typeface="Cambria"/>
              </a:rPr>
              <a:t>]</a:t>
            </a:r>
            <a:r>
              <a:rPr b="0" lang="cs-CZ" sz="2000" spc="-1" strike="noStrike">
                <a:solidFill>
                  <a:srgbClr val="7f7f7f"/>
                </a:solidFill>
                <a:latin typeface="Cambria"/>
              </a:rPr>
              <a:t>  Bělina Pavel a kol: Dějiny zemí koruny české, Paseka 1992</a:t>
            </a:r>
            <a:endParaRPr b="0" lang="en-US" sz="20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mbria"/>
              </a:rPr>
              <a:t>[</a:t>
            </a:r>
            <a:r>
              <a:rPr b="0" lang="cs-CZ" sz="2000" spc="-1" strike="noStrike">
                <a:solidFill>
                  <a:srgbClr val="7f7f7f"/>
                </a:solidFill>
                <a:latin typeface="Cambria"/>
              </a:rPr>
              <a:t>3</a:t>
            </a:r>
            <a:r>
              <a:rPr b="0" lang="en-US" sz="2000" spc="-1" strike="noStrike">
                <a:solidFill>
                  <a:srgbClr val="7f7f7f"/>
                </a:solidFill>
                <a:latin typeface="Cambria"/>
              </a:rPr>
              <a:t> ]</a:t>
            </a:r>
            <a:r>
              <a:rPr b="0" lang="cs-CZ" sz="2000" spc="-1" strike="noStrike">
                <a:solidFill>
                  <a:srgbClr val="7f7f7f"/>
                </a:solidFill>
                <a:latin typeface="Cambria"/>
              </a:rPr>
              <a:t> Čornej Petr a kol: Dějepis pro SOŠ, SPN-Praha 2008</a:t>
            </a:r>
            <a:endParaRPr b="0" lang="en-US" sz="20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492280"/>
            <a:ext cx="8370720" cy="99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675e47"/>
                </a:solidFill>
                <a:latin typeface="Calibri"/>
              </a:rPr>
              <a:t>Pražské jaro 1968</a:t>
            </a:r>
            <a:endParaRPr b="0" lang="en-US" sz="6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3" name="Nadpis 1"/>
          <p:cNvSpPr/>
          <p:nvPr/>
        </p:nvSpPr>
        <p:spPr>
          <a:xfrm>
            <a:off x="684360" y="1273320"/>
            <a:ext cx="7543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Střední škola technická a zemědělská, Nový Jičín, příspěvková organizace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4" name="Nadpis 1"/>
          <p:cNvSpPr/>
          <p:nvPr/>
        </p:nvSpPr>
        <p:spPr>
          <a:xfrm>
            <a:off x="684360" y="5018040"/>
            <a:ext cx="7543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13.5. 2014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980640"/>
            <a:ext cx="845964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75e47"/>
                </a:solidFill>
                <a:latin typeface="Calibri"/>
              </a:rPr>
              <a:t>Hospodářská a politická krize</a:t>
            </a:r>
            <a:endParaRPr b="0" lang="en-US" sz="4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95280" y="1700280"/>
            <a:ext cx="756144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Ačkoliv v názvu státu byla socialistická republika, ve skutečnosti se dvacet let po válce občanům nedostávalo základního spotřebního zboží, bylo málo bytů a automobil byl doslova přepychem. Krize se také přenesla do politické sféry, kdy mladá generace požadovala změny v hospodářské, kulturní, ale i politické oblasti. Symbolem konzervativního vedení byl Antonín Novotný, který navíc přehlížel Slováky a Slovensko samotné. 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7" name="Obdélník 3"/>
          <p:cNvSpPr/>
          <p:nvPr/>
        </p:nvSpPr>
        <p:spPr>
          <a:xfrm>
            <a:off x="1692360" y="5657760"/>
            <a:ext cx="381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Zdroj: http://multimedia.ctk.cz/cs/foto/document/981606/antonin-novotny-nicolae-ceausescu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98" name="Obrázek 4" descr="Antonín Novotný a Nicolae Causescu.jpg"/>
          <p:cNvPicPr/>
          <p:nvPr/>
        </p:nvPicPr>
        <p:blipFill>
          <a:blip r:embed="rId1"/>
          <a:stretch/>
        </p:blipFill>
        <p:spPr>
          <a:xfrm>
            <a:off x="3700440" y="3352680"/>
            <a:ext cx="2749680" cy="248760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5"/>
          <p:cNvSpPr/>
          <p:nvPr/>
        </p:nvSpPr>
        <p:spPr>
          <a:xfrm>
            <a:off x="217080" y="4581360"/>
            <a:ext cx="354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Antonín Novotný a Nicolae Causesču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105264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75e47"/>
                </a:solidFill>
                <a:latin typeface="Calibri"/>
              </a:rPr>
              <a:t>Odchod Novotného</a:t>
            </a:r>
            <a:endParaRPr b="0" lang="en-US" sz="4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4560" y="1771200"/>
            <a:ext cx="532908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Na rostoucí projevy kritiky Novotný reagoval tak, že chtěl utužit poměry, ale nikdo v komunistickém vedení jej nepodpořil. Nakonec stoupenci reforem i konzervativní odpůrci zjistili, že nejlepší bude Novotného odstranit. V lednu 1968 byl Novotný odstaven a zůstal pouze prezidentem republiky. Prvním tajemníkem KSČ se stal Alexander Dubček. Jako představitel kompromisu byl nakloněn umírněným reformám. Na jaře 1968 byl zvolen novým prezidentem republiky Ludvík Svoboda. 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02" name="Obdélník 3"/>
          <p:cNvSpPr/>
          <p:nvPr/>
        </p:nvSpPr>
        <p:spPr>
          <a:xfrm>
            <a:off x="5651640" y="4307040"/>
            <a:ext cx="2844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Zdroj: http://multimedia.ctk.cz/cs/foto/document/2058671/drahomir-kolder-alexander-dubcek-frantisek-kriegel-ludvik-svoboda-prezident-volby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03" name="Obdélník 4"/>
          <p:cNvSpPr/>
          <p:nvPr/>
        </p:nvSpPr>
        <p:spPr>
          <a:xfrm>
            <a:off x="0" y="591012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Zdroj: http://multimedia.ctk.cz/cs/foto/document/1329126/ludvik-svoboda-1329126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04" name="Obrázek 5" descr="Alexander Dubček 1968.jpg"/>
          <p:cNvPicPr/>
          <p:nvPr/>
        </p:nvPicPr>
        <p:blipFill>
          <a:blip r:embed="rId1"/>
          <a:stretch/>
        </p:blipFill>
        <p:spPr>
          <a:xfrm>
            <a:off x="5778360" y="1768320"/>
            <a:ext cx="2256120" cy="2170440"/>
          </a:xfrm>
          <a:prstGeom prst="rect">
            <a:avLst/>
          </a:prstGeom>
          <a:ln w="0">
            <a:noFill/>
          </a:ln>
        </p:spPr>
      </p:pic>
      <p:pic>
        <p:nvPicPr>
          <p:cNvPr id="105" name="Obrázek 6" descr="Ludvík Svoboda.jpg"/>
          <p:cNvPicPr/>
          <p:nvPr/>
        </p:nvPicPr>
        <p:blipFill>
          <a:blip r:embed="rId2"/>
          <a:stretch/>
        </p:blipFill>
        <p:spPr>
          <a:xfrm>
            <a:off x="963720" y="4419720"/>
            <a:ext cx="1382760" cy="1755720"/>
          </a:xfrm>
          <a:prstGeom prst="rect">
            <a:avLst/>
          </a:prstGeom>
          <a:ln w="0">
            <a:noFill/>
          </a:ln>
        </p:spPr>
      </p:pic>
      <p:sp>
        <p:nvSpPr>
          <p:cNvPr id="106" name="TextovéPole 7"/>
          <p:cNvSpPr/>
          <p:nvPr/>
        </p:nvSpPr>
        <p:spPr>
          <a:xfrm>
            <a:off x="5724360" y="3860640"/>
            <a:ext cx="26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Alexander Dubček 1968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07" name="TextovéPole 8"/>
          <p:cNvSpPr/>
          <p:nvPr/>
        </p:nvSpPr>
        <p:spPr>
          <a:xfrm>
            <a:off x="2268360" y="5157720"/>
            <a:ext cx="18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Ludvík Svoboda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980640"/>
            <a:ext cx="75438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75e47"/>
                </a:solidFill>
                <a:latin typeface="Calibri"/>
              </a:rPr>
              <a:t>Pražské jaro</a:t>
            </a:r>
            <a:endParaRPr b="0" lang="en-US" sz="4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95280" y="1700280"/>
            <a:ext cx="756144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Poměry ve společnosti se měnily každý den. Byl kritizován režim, vznikly nové strany (Klub angažovaných nestraníků). Byl připravena obnova sociální demokracie a byla obnovena činnost organizací Junák a Sokol. V březnu 1968 se oslavovaly narozeniny T.G.M. a na Slovensku se konala pouť k mohyle M. R. Štefánika. Docházelo k rehabilitacím politických vězňů. Byl vyhlážen tzv. Akční program KSČ (demokratizace strany a společnosti). Mělo dojít k federalizaci státu. Na sklonku června 1968 vyšel manifest 2 000 slov. Tento manifest měl vést k nastolení demokratické společnosti západního typu. 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10" name="Obdélník 3"/>
          <p:cNvSpPr/>
          <p:nvPr/>
        </p:nvSpPr>
        <p:spPr>
          <a:xfrm>
            <a:off x="1116000" y="591012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Zdroj: http://multimedia.ctk.cz/cs/foto/document/4503367/vera-odlozilova-caslavska-sportovkyne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11" name="Obrázek 4" descr="Věra Čáslavská.jpg"/>
          <p:cNvPicPr/>
          <p:nvPr/>
        </p:nvPicPr>
        <p:blipFill>
          <a:blip r:embed="rId1"/>
          <a:stretch/>
        </p:blipFill>
        <p:spPr>
          <a:xfrm>
            <a:off x="2262240" y="4071960"/>
            <a:ext cx="2670120" cy="2047680"/>
          </a:xfrm>
          <a:prstGeom prst="rect">
            <a:avLst/>
          </a:prstGeom>
          <a:ln w="0">
            <a:noFill/>
          </a:ln>
        </p:spPr>
      </p:pic>
      <p:sp>
        <p:nvSpPr>
          <p:cNvPr id="112" name="TextovéPole 5"/>
          <p:cNvSpPr/>
          <p:nvPr/>
        </p:nvSpPr>
        <p:spPr>
          <a:xfrm>
            <a:off x="4932360" y="501336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Věra Čáslavská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980640"/>
            <a:ext cx="75438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75e47"/>
                </a:solidFill>
                <a:latin typeface="Calibri"/>
              </a:rPr>
              <a:t>Výhružky a invaze</a:t>
            </a:r>
            <a:endParaRPr b="0" lang="en-US" sz="4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07640" y="1628280"/>
            <a:ext cx="504036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Manifest 2 000 slov označilo sovětské vedení za pokus o kontrarevoluci a začalo vyhrožovat vojenským zásahem. Avšak odpůrci reforem (Vassil Biľak, Alois Indra a Drahomír Kolder), napsali dopis, kterým žádali sovětské vedení o ozbrojený zásah proti kontrarevoluci. V polovině srpna 1968 sověti rozhodli o vojenském zásahu. </a:t>
            </a:r>
            <a:br>
              <a:rPr sz="1800"/>
            </a:b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V noci z 20. na 21. srpna překročila vojska pěti států Varšavské smlouvy (SSSR, Polska, NDR, Maďarska a Bulharska) hranice republiky. 21. srpna ráno byly obsazeny budovy UV  KSČ, předsednictvo vlády a další budovy. Představitelé státu byli odvlečeni do SSR. 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15" name="Obdélník 3"/>
          <p:cNvSpPr/>
          <p:nvPr/>
        </p:nvSpPr>
        <p:spPr>
          <a:xfrm>
            <a:off x="5364000" y="4626000"/>
            <a:ext cx="2953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Zdroj: http://multimedia.ctk.cz/cs/foto/document/1038045/praha-srpen-68-okupace-invaze-1038045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16" name="Obrázek 4" descr="srpen 1968 v Praze.jpg"/>
          <p:cNvPicPr/>
          <p:nvPr/>
        </p:nvPicPr>
        <p:blipFill>
          <a:blip r:embed="rId1"/>
          <a:stretch/>
        </p:blipFill>
        <p:spPr>
          <a:xfrm>
            <a:off x="4998960" y="1908000"/>
            <a:ext cx="3413160" cy="2267280"/>
          </a:xfrm>
          <a:prstGeom prst="rect">
            <a:avLst/>
          </a:prstGeom>
          <a:ln w="0">
            <a:noFill/>
          </a:ln>
        </p:spPr>
      </p:pic>
      <p:sp>
        <p:nvSpPr>
          <p:cNvPr id="117" name="TextovéPole 5"/>
          <p:cNvSpPr/>
          <p:nvPr/>
        </p:nvSpPr>
        <p:spPr>
          <a:xfrm>
            <a:off x="5651640" y="422100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Srpen 1968 v Praze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105264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75e47"/>
                </a:solidFill>
                <a:latin typeface="Calibri"/>
              </a:rPr>
              <a:t>Kapitulace Pražského jara </a:t>
            </a:r>
            <a:endParaRPr b="0" lang="en-US" sz="4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395280" y="1700280"/>
            <a:ext cx="756144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Světová veřejnost reagovala na invazi s rozhořčením, ale Spojené státy prohlásily celou záležitost za vnitřní problémy sovětského bloku. Skupina vlastizrádců kolem Biľaka a Indry chtěla vytvořit kolaborantskou vládu, ale tento plán se nezdařil. V atmosféře vydírání a hrozeb československé vedení podepsalo tzv. kapitulaci. Jediným, kdo protokoly nepodepsal byl František Kriegel. 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1258920" y="591012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Zdroj: http://multimedia.ctk.cz/cs/foto/document/1147125/frantisek-kriegel-lekar-cr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21" name="Obrázek 4" descr="František Kriegel.jpg"/>
          <p:cNvPicPr/>
          <p:nvPr/>
        </p:nvPicPr>
        <p:blipFill>
          <a:blip r:embed="rId1"/>
          <a:stretch/>
        </p:blipFill>
        <p:spPr>
          <a:xfrm>
            <a:off x="2840040" y="3279600"/>
            <a:ext cx="219564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980640"/>
            <a:ext cx="75438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75e47"/>
                </a:solidFill>
                <a:latin typeface="Calibri"/>
              </a:rPr>
              <a:t>Nástup normalizace</a:t>
            </a:r>
            <a:endParaRPr b="0" lang="en-US" sz="4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78920" y="1628640"/>
            <a:ext cx="5472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Reformní proces vrcholil na přelomu roku 1968 a počátkem roku 1969, kdy se na protest proti okupaci a obnovení cenzury upálil student pražské filosofické fakulty, Jan Palach, následoval ho Jan Zajíc a dělník Evžen Plocek. Do čela státu se v roce 1969 dostal Gustáv Husák, který ve výročí srpnové invaze v roce 1969 nechal demonstrace rozehnat obušky a vodními děly. Po demonstraci bylo několik mrtvých a těžce raněných. Nový režim ukázal svou pravou tvář. 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24" name="Obdélník 3"/>
          <p:cNvSpPr/>
          <p:nvPr/>
        </p:nvSpPr>
        <p:spPr>
          <a:xfrm>
            <a:off x="5435640" y="4943520"/>
            <a:ext cx="291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Zdroj: http://multimedia.ctk.cz/cs/foto/document/13841773/jan-palach-student-13841773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25" name="Obdélník 4"/>
          <p:cNvSpPr/>
          <p:nvPr/>
        </p:nvSpPr>
        <p:spPr>
          <a:xfrm>
            <a:off x="611280" y="6027840"/>
            <a:ext cx="41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Zdroj: http://multimedia.ctk.cz/cs/foto/document/2205092/jan-zajic-2205092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26" name="Obrázek 5" descr="Jan Palach.jpg"/>
          <p:cNvPicPr/>
          <p:nvPr/>
        </p:nvPicPr>
        <p:blipFill>
          <a:blip r:embed="rId1"/>
          <a:stretch/>
        </p:blipFill>
        <p:spPr>
          <a:xfrm>
            <a:off x="5864400" y="1706400"/>
            <a:ext cx="2242800" cy="2664000"/>
          </a:xfrm>
          <a:prstGeom prst="rect">
            <a:avLst/>
          </a:prstGeom>
          <a:ln w="0">
            <a:noFill/>
          </a:ln>
        </p:spPr>
      </p:pic>
      <p:pic>
        <p:nvPicPr>
          <p:cNvPr id="127" name="Obrázek 6" descr="Jan Zajíc.jpg"/>
          <p:cNvPicPr/>
          <p:nvPr/>
        </p:nvPicPr>
        <p:blipFill>
          <a:blip r:embed="rId2"/>
          <a:stretch/>
        </p:blipFill>
        <p:spPr>
          <a:xfrm>
            <a:off x="1828800" y="4133880"/>
            <a:ext cx="1384200" cy="2108160"/>
          </a:xfrm>
          <a:prstGeom prst="rect">
            <a:avLst/>
          </a:prstGeom>
          <a:ln w="0">
            <a:noFill/>
          </a:ln>
        </p:spPr>
      </p:pic>
      <p:sp>
        <p:nvSpPr>
          <p:cNvPr id="128" name="TextovéPole 7"/>
          <p:cNvSpPr/>
          <p:nvPr/>
        </p:nvSpPr>
        <p:spPr>
          <a:xfrm>
            <a:off x="6372360" y="4437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Jan Palach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29" name="TextovéPole 8"/>
          <p:cNvSpPr/>
          <p:nvPr/>
        </p:nvSpPr>
        <p:spPr>
          <a:xfrm>
            <a:off x="3203640" y="522936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Jan Zajíc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000" y="1125000"/>
            <a:ext cx="7543800" cy="7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75e47"/>
                </a:solidFill>
                <a:latin typeface="Calibri"/>
              </a:rPr>
              <a:t>Opakování </a:t>
            </a:r>
            <a:endParaRPr b="0" lang="en-US" sz="4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50920" y="1844280"/>
            <a:ext cx="78501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5760" indent="-455760">
              <a:buClr>
                <a:srgbClr val="a9a57c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Jak se jmenoval dlouholetý prezident a 1. tajemník KSČ do roku 1968?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marL="455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marL="455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marL="455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marL="455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marL="455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marL="455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marL="455760" indent="-455760">
              <a:buClr>
                <a:srgbClr val="a9a57c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Novým prezidentem republiky se stal …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marL="455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Lviudk Sdavobo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marL="455760" indent="-455760">
              <a:buClr>
                <a:srgbClr val="a9a57c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Kdy vypukla sovětská invaze do Československa?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marL="455760" indent="-455760">
              <a:buClr>
                <a:srgbClr val="a9a57c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Napiš jméno tohoto státníka, který byl v čele státu od roku 1968 až do roku 1989?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  <p:pic>
        <p:nvPicPr>
          <p:cNvPr id="132" name="Obrázek 4" descr="Alexander Dubček 1968.jpg"/>
          <p:cNvPicPr/>
          <p:nvPr/>
        </p:nvPicPr>
        <p:blipFill>
          <a:blip r:embed="rId1"/>
          <a:stretch/>
        </p:blipFill>
        <p:spPr>
          <a:xfrm>
            <a:off x="5718240" y="2127240"/>
            <a:ext cx="195732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09:59:30Z</dcterms:created>
  <dc:creator>Ludmila Jiříkova</dc:creator>
  <dc:description/>
  <dc:language>en-US</dc:language>
  <cp:lastModifiedBy>verys</cp:lastModifiedBy>
  <dcterms:modified xsi:type="dcterms:W3CDTF">2014-09-19T06:26:53Z</dcterms:modified>
  <cp:revision>47</cp:revision>
  <dc:subject/>
  <dc:title>Název</dc:title>
</cp:coreProperties>
</file>