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99F9-DCEA-4E31-8FA6-DFF2B67B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FA44-9EA1-45DC-8CCA-B74A12E6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8425-062F-4D3D-8601-5339D440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E028-70E0-4E58-8849-7C2A5406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023B-80B4-4A63-95B5-15605C06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66DC-E28A-4E1D-9DB7-233AAAAD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5C90-D626-40B3-92BB-21C2A824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8017-A99D-4809-9DCF-14BAD115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6DE5-2E75-4755-BA7D-564DA44C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1B1B-AF35-4AC7-A36F-1B627CA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0A7F-740E-4D40-84D4-1C3158EB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413C-F6C4-47D1-BA2B-A3EA23C3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98E-07B5-4AEE-A5F5-E0D07937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1058-E0CF-4372-A487-2ED2C4D5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FF6-B605-4B67-BCB0-39E4EEED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C7D0-E0BC-4D38-8F10-92E75344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A094-02BC-4A13-B5FB-01042007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90B3-C76A-4ADD-899B-A3670CF9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7E43-854D-42BF-8D66-594FF08B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556F-94B2-4BF4-8112-AA7C821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FC41-C622-4A2B-ACA3-B40D934E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C43F-2408-496B-9558-1BEA7C3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D3D9-8986-4899-9C9C-F80E920B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0DCB-9800-4060-A4D8-9C36091A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4A6E-AADB-4B29-9394-F14BC2C0D40C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E23F-DABF-4EFA-9FF4-A6761849AAB6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5508720" y="6105600"/>
            <a:ext cx="345600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256360" cy="104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1693-854C-42CE-89D3-E938925EFBAE}" type="datetime">
              <a:rPr b="0" lang="cs-CZ" sz="1200" spc="-1" strike="noStrike">
                <a:solidFill>
                  <a:srgbClr val="dfdcb7"/>
                </a:solidFill>
                <a:latin typeface="Arial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fdcb7"/>
                </a:solidFill>
                <a:latin typeface="Arial"/>
              </a:rPr>
              <a:t>Střední škola přírodovědná a zemědělská Nový Jičí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6F8F-C071-4722-9182-A5242B96B287}" type="slidenum">
              <a:rPr b="0" lang="cs-CZ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179280" y="61920"/>
            <a:ext cx="374508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108000" y="907920"/>
          <a:ext cx="8280360" cy="5262840"/>
        </p:xfrm>
        <a:graphic>
          <a:graphicData uri="http://schemas.openxmlformats.org/drawingml/2006/table">
            <a:tbl>
              <a:tblPr/>
              <a:tblGrid>
                <a:gridCol w="2546280"/>
                <a:gridCol w="5734080"/>
              </a:tblGrid>
              <a:tr h="365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 a téma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gr. David Jakl, Ph.D.  Sametová revoluce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6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a název projektu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Z.1.07/1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otace, vč. možností využití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mbria"/>
                        </a:rPr>
                        <a:t>DUM popisuje události roku 1989. Hodnotí tehdejší režim a důvody jeho zhroucení. Zahraničněpolitické i domácí.  Prezentace bude využita na hodinách historie, ale je možné ji také využít při výuce  ZSV, Občanské nauky a Českého jazyka a literatury.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čet vyučovacích hodin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hodina  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23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čeno pro obory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kologie a biologie; Mechanik strojů a zařízení; Agropodnikání; Podnikání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1400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Šablona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éma (název) sady DUM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II/2 Inovace a zkvalitnění výuky prostřednictvím ICT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ějepis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1097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Číslo DUM </a:t>
                      </a:r>
                      <a:r>
                        <a:rPr b="0" lang="cs-CZ" sz="12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(šablona_číslo šablony_číslo sady_číslo projektu_číslo DUM)</a:t>
                      </a:r>
                      <a:r>
                        <a:rPr b="0" lang="cs-CZ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2_1_S1_0906_D10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92392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675e47"/>
                </a:solidFill>
                <a:latin typeface="Calibri"/>
              </a:rPr>
              <a:t>Sametová</a:t>
            </a:r>
            <a:r>
              <a:rPr b="0" lang="cs-CZ" sz="6600" spc="-1" strike="noStrike">
                <a:solidFill>
                  <a:srgbClr val="675e47"/>
                </a:solidFill>
                <a:latin typeface="Calibri"/>
              </a:rPr>
              <a:t> revoluce</a:t>
            </a:r>
            <a:endParaRPr b="0" lang="en-US" sz="6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3" name="Nadpis 1"/>
          <p:cNvSpPr/>
          <p:nvPr/>
        </p:nvSpPr>
        <p:spPr>
          <a:xfrm>
            <a:off x="684360" y="1273320"/>
            <a:ext cx="7543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Střední škola technická a zemědělská, Nový Jičín, příspěvková organizace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4" name="Nadpis 1"/>
          <p:cNvSpPr/>
          <p:nvPr/>
        </p:nvSpPr>
        <p:spPr>
          <a:xfrm>
            <a:off x="684360" y="5018040"/>
            <a:ext cx="7543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75e47"/>
                </a:solidFill>
                <a:latin typeface="Calibri"/>
              </a:rPr>
              <a:t>27.5. 2014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8459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Nehybná komunistická strana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7561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Příchod Michaila Gorbačova do čela sovětských komunistů v roce 1985 vyvolal tzv. Perestrojku, která velice připomínala Pražské jaro z roku 1968 a mnoho Čechů a Slováků tuto situaci přijalo s velkými nadějemi. Vedení československých komunistů, ale o žádné změny nestálo. Kdyby reformy připustilo, došlo by ke ztrátě jejich pozic. Reformy se omezily na nicneříkající výzvy a nepodstatné personální přesuny. V roce 1987 byl Husák nahrazen v úřadu generálního tajemníka KSČ Miloušem Jakešem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7" name="Obdélník 3"/>
          <p:cNvSpPr/>
          <p:nvPr/>
        </p:nvSpPr>
        <p:spPr>
          <a:xfrm>
            <a:off x="1619280" y="58086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2051358/sametova-revoluce-milous-milos-jakes-projev-televiz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98" name="Obrázek 4" descr="Milouš Jakeš.jpg"/>
          <p:cNvPicPr/>
          <p:nvPr/>
        </p:nvPicPr>
        <p:blipFill>
          <a:blip r:embed="rId1"/>
          <a:stretch/>
        </p:blipFill>
        <p:spPr>
          <a:xfrm>
            <a:off x="2048040" y="3786120"/>
            <a:ext cx="3182760" cy="201780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5"/>
          <p:cNvSpPr/>
          <p:nvPr/>
        </p:nvSpPr>
        <p:spPr>
          <a:xfrm>
            <a:off x="5219640" y="45086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Milouš Jakeš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bčanské iniciativy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4560" y="1844280"/>
            <a:ext cx="460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Od 2. poloviny 80. let se začala probouzet celá společnost kromě Charty 77se objevily další nezávislé organizace (Demokratická iniciativa, Hnutí za občanskou svobodu). Lidé šířili a vydávali nezávislý tisk a současně stoupla aktivity věřících. Významnou oporou byl pražský arcibiskup kardinál František Tomášek. V červnu 1989 došlo </a:t>
            </a:r>
            <a:br>
              <a:rPr sz="1800"/>
            </a:b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k vydání petice „Několik vět“, která požadovala propuštění politických vězňů, zrušení cenzury a legalizaci nezávislých iniciativ (50 000 podpisů)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2" name="Obdélník 3"/>
          <p:cNvSpPr/>
          <p:nvPr/>
        </p:nvSpPr>
        <p:spPr>
          <a:xfrm>
            <a:off x="4643280" y="479736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1597784/frantisek-tomasek-kardinal-arcibiskup-intronizace-ms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03" name="Obrázek 4" descr="kardinál František Tomášek.jpg"/>
          <p:cNvPicPr/>
          <p:nvPr/>
        </p:nvPicPr>
        <p:blipFill>
          <a:blip r:embed="rId1"/>
          <a:stretch/>
        </p:blipFill>
        <p:spPr>
          <a:xfrm>
            <a:off x="4638600" y="1841400"/>
            <a:ext cx="3756240" cy="2475000"/>
          </a:xfrm>
          <a:prstGeom prst="rect">
            <a:avLst/>
          </a:prstGeom>
          <a:ln w="0">
            <a:noFill/>
          </a:ln>
        </p:spPr>
      </p:pic>
      <p:sp>
        <p:nvSpPr>
          <p:cNvPr id="104" name="TextovéPole 5"/>
          <p:cNvSpPr/>
          <p:nvPr/>
        </p:nvSpPr>
        <p:spPr>
          <a:xfrm>
            <a:off x="5148360" y="436572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Kardinál František Tomášek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Represe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8920" y="1771200"/>
            <a:ext cx="8209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Vláda neměla zájem na dialogu, aktivisty občanských iniciativ zatýkala, šikanovala je státní policií. Signatáři petic měli problémy v zaměstnání. Od roku 1987 policie pravidelně při různých výročích rozháněla demonstrace např. 15. ledna 1989 (Palachův týden). Byla nucena nasadit velké množství policistů, speciální jednotky, psy a vodní děla. Komunisté se pokusili o propagandistickou kampaň proti opozici, ale společnost stále více sympatizovala s opozicí.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7" name="Obdélník 3"/>
          <p:cNvSpPr/>
          <p:nvPr/>
        </p:nvSpPr>
        <p:spPr>
          <a:xfrm>
            <a:off x="324000" y="5780160"/>
            <a:ext cx="586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2148242/praha-vaclavske-namesti-palachuv-tyden-demonstrace-ucteni-pamatky-verejna-bezpecnost-2148242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08" name="Obrázek 4" descr="Palachův týden 1989.jpg"/>
          <p:cNvPicPr/>
          <p:nvPr/>
        </p:nvPicPr>
        <p:blipFill>
          <a:blip r:embed="rId1"/>
          <a:stretch/>
        </p:blipFill>
        <p:spPr>
          <a:xfrm>
            <a:off x="2048040" y="3565440"/>
            <a:ext cx="3547800" cy="23288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5"/>
          <p:cNvSpPr/>
          <p:nvPr/>
        </p:nvSpPr>
        <p:spPr>
          <a:xfrm>
            <a:off x="5580000" y="4508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Palachův týden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Listopad 1989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561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e8d8c"/>
                </a:solidFill>
                <a:latin typeface="Cambria"/>
              </a:rPr>
              <a:t>17. Listopadu 1989 se v Praze na Albertově a na Vyšehradě konala vzpomínková akce k 50. výročí pohřbu Jana Opletala v souvislosti s událostmi 17. listopadu 1939. Část studentů zamířila po akci do středu města a policie demonstraci brutálně rozehnala. Policejní násilí vyvolalo rozhořčení ve společnosti, herci a studenti VŠ vstoupili do stávky. 19. listopadu 1989 v divadle Laterna magika bylo ustaveno tzv. Občanské fórum a na Slovensku Verejnosť proti násiliu. Vůdem opozice se stal zakladatel Charty 77 a politický vězeň Václav Havel. 27. listopadu 1989 byla vyhlášená generální stávka, kde bylo požadováno ukončení vlády KSČ a nastolení demokracie. Komunisté už nemohli spoléhat na podporu ze Sovětského svazu a byli nuceni jednat s Občanským fórem. 10. prosince 1989 byla vytvořena vláda Národního porozumění, v nichž měli komunisté menšinu.29. prosince 1989 byl Havel zvolen prezidentem republiky.  </a:t>
            </a: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bdélník 4"/>
          <p:cNvSpPr/>
          <p:nvPr/>
        </p:nvSpPr>
        <p:spPr>
          <a:xfrm>
            <a:off x="71280" y="48690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2088052/vaclav-havel-prezident-volba-slib-podpi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4643280" y="4842000"/>
            <a:ext cx="38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Zdroj: http://multimedia.ctk.cz/cs/foto/document/2053626/vaclav-havel-sametova-revoluce-den-lidskych-prav-shromazdeni-manifestace-balkon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4" name="Obrázek 3" descr="Václav Havel prezidentem republiky.jpg"/>
          <p:cNvPicPr/>
          <p:nvPr/>
        </p:nvPicPr>
        <p:blipFill>
          <a:blip r:embed="rId1"/>
          <a:stretch/>
        </p:blipFill>
        <p:spPr>
          <a:xfrm>
            <a:off x="30240" y="1407960"/>
            <a:ext cx="4511520" cy="2962440"/>
          </a:xfrm>
          <a:prstGeom prst="rect">
            <a:avLst/>
          </a:prstGeom>
          <a:ln w="0">
            <a:noFill/>
          </a:ln>
        </p:spPr>
      </p:pic>
      <p:sp>
        <p:nvSpPr>
          <p:cNvPr id="115" name="Obdélník 4"/>
          <p:cNvSpPr/>
          <p:nvPr/>
        </p:nvSpPr>
        <p:spPr>
          <a:xfrm>
            <a:off x="699120" y="4437000"/>
            <a:ext cx="34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Václav Havel prezidentem republiky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16" name="Obrázek 5" descr="Sametová revoluce v Praze.jpg"/>
          <p:cNvPicPr/>
          <p:nvPr/>
        </p:nvPicPr>
        <p:blipFill>
          <a:blip r:embed="rId2"/>
          <a:stretch/>
        </p:blipFill>
        <p:spPr>
          <a:xfrm>
            <a:off x="4492800" y="1481040"/>
            <a:ext cx="3816000" cy="26035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6"/>
          <p:cNvSpPr/>
          <p:nvPr/>
        </p:nvSpPr>
        <p:spPr>
          <a:xfrm>
            <a:off x="5277240" y="4459320"/>
            <a:ext cx="26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f2b20"/>
                </a:solidFill>
                <a:latin typeface="Arial"/>
              </a:rPr>
              <a:t>Sametová revoluce v Praze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907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75e47"/>
                </a:solidFill>
                <a:latin typeface="Calibri"/>
              </a:rPr>
              <a:t>Opakování </a:t>
            </a:r>
            <a:endParaRPr b="0" lang="en-US" sz="40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e8d8c"/>
                </a:solidFill>
                <a:latin typeface="Cambria"/>
              </a:rPr>
              <a:t>Jak se jmenoval nový generální tajemník ÚV KSČ, který nahradil Gustáva Husáka ve funkci?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e8d8c"/>
                </a:solidFill>
                <a:latin typeface="Cambria"/>
              </a:rPr>
              <a:t>Uveď název petice za demokracii ve společnosti?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e8d8c"/>
                </a:solidFill>
                <a:latin typeface="Cambria"/>
              </a:rPr>
              <a:t> </a:t>
            </a:r>
            <a:r>
              <a:rPr b="0" lang="cs-CZ" sz="1600" spc="-1" strike="noStrike">
                <a:solidFill>
                  <a:srgbClr val="8e8d8c"/>
                </a:solidFill>
                <a:latin typeface="Cambria"/>
              </a:rPr>
              <a:t>Který významný představitel církve podporoval demokratizační proces v zemi?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a9a57c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e8d8c"/>
                </a:solidFill>
                <a:latin typeface="Cambria"/>
              </a:rPr>
              <a:t>Zkus nalézt správný název pro demonstrace v lednu 1989?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e8d8c"/>
                </a:solidFill>
                <a:latin typeface="Cambria"/>
              </a:rPr>
              <a:t>Pachůvla    dentý</a:t>
            </a:r>
            <a:endParaRPr b="0" lang="en-US" sz="16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120" name="Obrázek 3" descr="Milouš Jakeš.jpg"/>
          <p:cNvPicPr/>
          <p:nvPr/>
        </p:nvPicPr>
        <p:blipFill>
          <a:blip r:embed="rId1"/>
          <a:stretch/>
        </p:blipFill>
        <p:spPr>
          <a:xfrm>
            <a:off x="5718240" y="2054160"/>
            <a:ext cx="2401920" cy="152424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4" descr="kardinál František Tomášek.jpg"/>
          <p:cNvPicPr/>
          <p:nvPr/>
        </p:nvPicPr>
        <p:blipFill>
          <a:blip r:embed="rId2"/>
          <a:stretch/>
        </p:blipFill>
        <p:spPr>
          <a:xfrm>
            <a:off x="5430960" y="3925800"/>
            <a:ext cx="27493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600" spc="-1" strike="noStrike">
                <a:solidFill>
                  <a:srgbClr val="675e47"/>
                </a:solidFill>
                <a:latin typeface="Calibri"/>
              </a:rPr>
              <a:t>Literatura</a:t>
            </a:r>
            <a:endParaRPr b="0" lang="en-US" sz="4600" spc="-1" strike="noStrike">
              <a:solidFill>
                <a:srgbClr val="675e47"/>
              </a:solidFill>
              <a:latin typeface="Calibri"/>
            </a:endParaRPr>
          </a:p>
        </p:txBody>
      </p:sp>
      <p:sp>
        <p:nvSpPr>
          <p:cNvPr id="123" name="Zástupný symbol pro obsah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[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1</a:t>
            </a: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 ]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 Gebhart a kol.: </a:t>
            </a: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 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České a Československé dějiny II. díl </a:t>
            </a:r>
            <a:br>
              <a:rPr sz="2000"/>
            </a:b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(od roku 1790 do současnosti), Fortuna 1991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[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2</a:t>
            </a: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]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  Bělina Pavel a kol: Dějiny zemí koruny české, Paseka 1992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a9a57c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[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3</a:t>
            </a:r>
            <a:r>
              <a:rPr b="0" lang="en-US" sz="2000" spc="-1" strike="noStrike">
                <a:solidFill>
                  <a:srgbClr val="7f7f7f"/>
                </a:solidFill>
                <a:latin typeface="Cambria"/>
              </a:rPr>
              <a:t> ]</a:t>
            </a:r>
            <a:r>
              <a:rPr b="0" lang="cs-CZ" sz="2000" spc="-1" strike="noStrike">
                <a:solidFill>
                  <a:srgbClr val="7f7f7f"/>
                </a:solidFill>
                <a:latin typeface="Cambria"/>
              </a:rPr>
              <a:t> Čornej Petr a kol: Dějepis pro SOŠ, SPN-Praha 2008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a9a57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9:59:30Z</dcterms:created>
  <dc:creator>Ludmila Jiříkova</dc:creator>
  <dc:description/>
  <dc:language>en-US</dc:language>
  <cp:lastModifiedBy>verys</cp:lastModifiedBy>
  <dcterms:modified xsi:type="dcterms:W3CDTF">2014-09-19T06:29:36Z</dcterms:modified>
  <cp:revision>45</cp:revision>
  <dc:subject/>
  <dc:title>Název</dc:title>
</cp:coreProperties>
</file>