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1852-E8BE-4426-A4BD-2678D091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0B20-E0A6-41D7-AC02-2A65C1CC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9F75-AF0F-43C5-9C81-5B2B16CB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4F50-3334-45C8-9329-E07541AC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F1B7-6839-4EB7-AF32-94E09977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154B-18BE-4978-BD57-A5DCF841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F418-6C26-4CE1-9519-E0998D1F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86EE-0F6F-4E0C-BA43-68BDE3D0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CBDC-9AA0-4D30-AA1A-9B229EF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D594-EFD1-4E53-A198-5305962A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77CB-2074-45DC-9763-7EEB536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873C-CAA7-4A94-8963-B6371C4E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AF9A-5DD9-49C2-BCBC-54B995C6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7E16-66A8-4BC2-8434-9F8BB438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BEBD-25C7-4B15-99FB-5C2EE981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05DA-D28B-46A3-83FD-D40E4E51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D3A2-4B16-4204-B674-9DD6DE38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0737-D91F-42F3-A3A1-C1722367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2BC5-A491-467E-9FE7-2EB69E97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CB22-CBD6-4757-A77B-52CA7720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A8A9-D2C3-4BAD-8689-B913AD2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6AB3-721E-433D-A419-AEE30ABC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A9D8-8827-4645-A034-1FC297E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3B3E-71F4-4A32-904C-79C6685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F35B-BB8A-49FE-A658-BE688BD84BC0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1636-81D1-4D40-8CF7-5D9AB91527B6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C62B-209A-44F2-B60C-194352580C23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139F-E357-4A57-814A-9E02659492A1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08000" y="907920"/>
          <a:ext cx="8280360" cy="5262840"/>
        </p:xfrm>
        <a:graphic>
          <a:graphicData uri="http://schemas.openxmlformats.org/drawingml/2006/table">
            <a:tbl>
              <a:tblPr/>
              <a:tblGrid>
                <a:gridCol w="2546280"/>
                <a:gridCol w="5734080"/>
              </a:tblGrid>
              <a:tr h="365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gr. David Jakl, Ph.D.  Václav I.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UM přibližuje jednoho z méně známých králů z rodu Přemyslovců, který bez nadsázky zachránil Evropu před Tataro-Mongoly.  Prezentace bude využita na hodinách historie, ale je možné ji také využít při výuce  ZSV, Občanské nauky a Českého jazyka a literatury.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23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0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II/2 Inovace a zkvalitnění výuky prostřednictvím IC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ějepis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2_1_S1_0906_D13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Použitá literatura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mbria"/>
              </a:rPr>
              <a:t>[1] 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Dějiny zemí koruny české I. díl: </a:t>
            </a:r>
            <a:r>
              <a:rPr b="0" i="1" lang="cs-CZ" sz="2000" spc="-1" strike="noStrike">
                <a:solidFill>
                  <a:srgbClr val="8e8d8c"/>
                </a:solidFill>
                <a:latin typeface="Cambria"/>
              </a:rPr>
              <a:t>Čornej Petr 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a kol. Praha 1992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mbria"/>
              </a:rPr>
              <a:t>[2]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 Dějepis pro SOŠ: </a:t>
            </a:r>
            <a:r>
              <a:rPr b="0" i="1" lang="cs-CZ" sz="2000" spc="-1" strike="noStrike">
                <a:solidFill>
                  <a:srgbClr val="8e8d8c"/>
                </a:solidFill>
                <a:latin typeface="Cambria"/>
              </a:rPr>
              <a:t>Čornej Petr 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a kol. Praha 2008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284280"/>
            <a:ext cx="7543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Václav I. 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4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1. 11.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Jednooký král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1844640"/>
            <a:ext cx="471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áclav I. (1205 – 23. září 1253 Počaply u Berouna), zvaný též Jednooký, byl čtvrtý český král z rodu Přemyslovců, druhorozený syn Přemysla Otakara I. a jeho druhé manželky Konstancie Uherské. Od dětství byl Václav zvláštní – neurotický, možná psychicky chorý. Miloval potulky hlubokým lesem, vášnivě lovil a právě při jednom z lovů přišel o levé oko. Zvláštně zní informace kronikářů o tom, že král Václav nesnášel zvuk kostelních zvonů. Vyvolával u něj kruté bolesti hlavy a jakési záchvaty podobné epilepsii. Proto kdekoliv se objevil, během jeho přítomnosti nesměly znít zvony. Lékařskou terminologií se tato choroba nazývá idiosynkrazie – zvýšená přecitlivělost na určité frekvence zvukového vlnění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7" name="Obdélník 3"/>
          <p:cNvSpPr/>
          <p:nvPr/>
        </p:nvSpPr>
        <p:spPr>
          <a:xfrm>
            <a:off x="5148360" y="4941720"/>
            <a:ext cx="32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veprek.cz/PametiVelvary.html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98" name="Obrázek 4" descr="Jezdecký portrét Václava I..jpg"/>
          <p:cNvPicPr/>
          <p:nvPr/>
        </p:nvPicPr>
        <p:blipFill>
          <a:blip r:embed="rId1"/>
          <a:stretch/>
        </p:blipFill>
        <p:spPr>
          <a:xfrm>
            <a:off x="5791320" y="1262160"/>
            <a:ext cx="2395440" cy="338292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5"/>
          <p:cNvSpPr/>
          <p:nvPr/>
        </p:nvSpPr>
        <p:spPr>
          <a:xfrm>
            <a:off x="5378400" y="4581360"/>
            <a:ext cx="26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Jezdecký portrét Václava I.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Václavova vláda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Za panování Václava I. do Čech přichází gotický životní styl, rytířská kultura, turnaje, šíří se obliba dvorské poezie a zpěvů. Jeho vláda je spojována s upevněním české státnosti, zvětšením českého vlivu v Evropě, vzestupem české šlechty, výstavbou a rozvojem měst, obchodu a řemesel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áclav, stejně jako jeho otec a syn, podporoval příchod etnických Němců do země. Byl také první, kdo poskytl privilegia Židům, kteří za to ovšem platili nemalé částky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2" name="Obdélník 4"/>
          <p:cNvSpPr/>
          <p:nvPr/>
        </p:nvSpPr>
        <p:spPr>
          <a:xfrm>
            <a:off x="216000" y="6475320"/>
            <a:ext cx="54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radio.cz/cz/static/rok-anezky/vystav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03" name="Obrázek 4" descr="Anežský klášter- místo, které vybudovala Václavova sestra-Svatá Anežka česká.jpg"/>
          <p:cNvPicPr/>
          <p:nvPr/>
        </p:nvPicPr>
        <p:blipFill>
          <a:blip r:embed="rId1"/>
          <a:stretch/>
        </p:blipFill>
        <p:spPr>
          <a:xfrm>
            <a:off x="2766960" y="3565440"/>
            <a:ext cx="2133720" cy="2841840"/>
          </a:xfrm>
          <a:prstGeom prst="rect">
            <a:avLst/>
          </a:prstGeom>
          <a:ln w="0">
            <a:noFill/>
          </a:ln>
        </p:spPr>
      </p:pic>
      <p:sp>
        <p:nvSpPr>
          <p:cNvPr id="104" name="Obdélník 5"/>
          <p:cNvSpPr/>
          <p:nvPr/>
        </p:nvSpPr>
        <p:spPr>
          <a:xfrm>
            <a:off x="5003640" y="4292640"/>
            <a:ext cx="329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Anežský klášter- místo, které vybudovala Václavova sestra-Svatá Anežka česká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112356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Boj Václava I. s Tatary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8920" y="2205000"/>
            <a:ext cx="547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áclav I. se velkou měrou zasloužil o odražení mongolského (tatarského) vpádu do střední Evropy a značné ušetření českých zemí před Tatary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áclavovi a jeho německým spojencům se koncem roku (když zamrzlý Dunaj dovolil Tatarům přejít na druhý břeh), podařilo zabránit postupu Tatarů vedeným chánem Bátú k Vídni. Touto úspěšnou obranou velmi vzrostla jeho prestiž. Mongolové se o novou invazi do Evropy již nepokusili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7" name="Obdélník 3"/>
          <p:cNvSpPr/>
          <p:nvPr/>
        </p:nvSpPr>
        <p:spPr>
          <a:xfrm>
            <a:off x="5651640" y="4508640"/>
            <a:ext cx="284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cestipanovnici.estranky.cz/clanky/panovnici-cech--3----kralove--1197---1346.html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08" name="Obrázek 4" descr="Snad obrázek Václava I..jpg"/>
          <p:cNvPicPr/>
          <p:nvPr/>
        </p:nvPicPr>
        <p:blipFill>
          <a:blip r:embed="rId1"/>
          <a:stretch/>
        </p:blipFill>
        <p:spPr>
          <a:xfrm>
            <a:off x="6443640" y="1197000"/>
            <a:ext cx="172404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Obdélník 5"/>
          <p:cNvSpPr/>
          <p:nvPr/>
        </p:nvSpPr>
        <p:spPr>
          <a:xfrm>
            <a:off x="5867280" y="4149720"/>
            <a:ext cx="24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Snad obrázek Václava I.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Boje o trůn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771200"/>
            <a:ext cx="7561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áclavův mladší syn Přemysl se po nástupu do funkce moravského markraběte nechal zatáhnout v letech 1247 – 1249 do války proti otci. Válka byla ukončena kompromisním způsobem, kdy Václav I. Získal jasnou převahu nad budoucím králem Přemyslem Otakarem II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12" name="Obdélník 3"/>
          <p:cNvSpPr/>
          <p:nvPr/>
        </p:nvSpPr>
        <p:spPr>
          <a:xfrm>
            <a:off x="1547640" y="56610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schnablova.net/www/Romanske%20pamatky/Primda.html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3" name="Obrázek 4" descr="hrad Přimda - vězení pro Přemysla Otakara II., který povstal proti Václavu I..jpg"/>
          <p:cNvPicPr/>
          <p:nvPr/>
        </p:nvPicPr>
        <p:blipFill>
          <a:blip r:embed="rId1"/>
          <a:stretch/>
        </p:blipFill>
        <p:spPr>
          <a:xfrm>
            <a:off x="1182600" y="2919240"/>
            <a:ext cx="4187880" cy="2792520"/>
          </a:xfrm>
          <a:prstGeom prst="rect">
            <a:avLst/>
          </a:prstGeom>
          <a:ln w="0">
            <a:noFill/>
          </a:ln>
        </p:spPr>
      </p:pic>
      <p:sp>
        <p:nvSpPr>
          <p:cNvPr id="114" name="Obdélník 5"/>
          <p:cNvSpPr/>
          <p:nvPr/>
        </p:nvSpPr>
        <p:spPr>
          <a:xfrm>
            <a:off x="5219640" y="3141720"/>
            <a:ext cx="307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hrad Přimda - vězení pro Přemysla Otakara II., který povstal proti Václavu I.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Zisk rakouských zemí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95280" y="1844280"/>
            <a:ext cx="7561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áclav a Přemysl vystupovali  v boji o rakouské země jednotně a babenberské dědictví jim nakonec spadlo do klína, když si rakouská šlechta zvolila za nového vévodu Přemysla (1251). Budoucí král se oženil s Markétou Babenberskou, sestrou vévody Fridricha Bojovného a vdovou po Jindřichu VII. Přemyslovci tak na příští čtvrt století ovládli rakouské země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áclav I. Jednooký zemřel 23. září 1253 na svém dvoře v Počáplích, jeho srdce a vnitřnosti byly uloženy v kostele Panny Marie v Počaplích a tělo bylo pochováno na pražském Starém Městě v Anežském klášteře (opuková hrobka pod podlahou kostela)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bdélník 4"/>
          <p:cNvSpPr/>
          <p:nvPr/>
        </p:nvSpPr>
        <p:spPr>
          <a:xfrm>
            <a:off x="0" y="530064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praha.eu/jnp/cz/home/zabava/volny_cas/nabozenstvi/zacal_rok_sv_anezky_ceske.html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8" name="Obrázek 4" descr="Anežka Česká, sestra krále Václava I..jpg"/>
          <p:cNvPicPr/>
          <p:nvPr/>
        </p:nvPicPr>
        <p:blipFill>
          <a:blip r:embed="rId1"/>
          <a:stretch/>
        </p:blipFill>
        <p:spPr>
          <a:xfrm>
            <a:off x="-6480" y="1695600"/>
            <a:ext cx="4426200" cy="2528640"/>
          </a:xfrm>
          <a:prstGeom prst="rect">
            <a:avLst/>
          </a:prstGeom>
          <a:ln w="0">
            <a:noFill/>
          </a:ln>
        </p:spPr>
      </p:pic>
      <p:sp>
        <p:nvSpPr>
          <p:cNvPr id="119" name="Obdélník 5"/>
          <p:cNvSpPr/>
          <p:nvPr/>
        </p:nvSpPr>
        <p:spPr>
          <a:xfrm>
            <a:off x="196920" y="464328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Anežka Česká, sestra krále Václava I</a:t>
            </a: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5076720" y="522936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praguecityline.cz/prazske-pamatky/anezsky-klaster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21" name="Obrázek 7" descr="Anežský klášter - místo posledního  odpočinku Václava I..jpg"/>
          <p:cNvPicPr/>
          <p:nvPr/>
        </p:nvPicPr>
        <p:blipFill>
          <a:blip r:embed="rId2"/>
          <a:stretch/>
        </p:blipFill>
        <p:spPr>
          <a:xfrm>
            <a:off x="4565520" y="1768320"/>
            <a:ext cx="3706920" cy="2468880"/>
          </a:xfrm>
          <a:prstGeom prst="rect">
            <a:avLst/>
          </a:prstGeom>
          <a:ln w="0">
            <a:noFill/>
          </a:ln>
        </p:spPr>
      </p:pic>
      <p:sp>
        <p:nvSpPr>
          <p:cNvPr id="122" name="Obdélník 8"/>
          <p:cNvSpPr/>
          <p:nvPr/>
        </p:nvSpPr>
        <p:spPr>
          <a:xfrm>
            <a:off x="3924360" y="4581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Anežský klášter - místo posledního  odpočinku Václava I.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pakování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Čím se Václav I. proslavil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Se kterým synem vedl válku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Jak se jmenovala Václavova sestra, významná  postava našich dějin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Které země se podařilo Přemyslovcům získat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verys</cp:lastModifiedBy>
  <dcterms:modified xsi:type="dcterms:W3CDTF">2014-09-19T06:31:18Z</dcterms:modified>
  <cp:revision>40</cp:revision>
  <dc:subject/>
  <dc:title>Název</dc:title>
</cp:coreProperties>
</file>